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06C-4BDF-4F7B-83EB-DC0A1D2C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1C5-2CC9-44DE-8672-E2DDE4E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099-9FC4-4ACC-80B6-E0816BFD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801-8BC9-4212-950B-35F8BFE2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870-235A-4058-B3A5-964658E5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A78-7F08-4D42-B002-023E0111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99E-23B8-4BE3-A9A8-D4DE5573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795-1821-4729-B967-2B4E6B77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F59-20A8-4C33-99DE-364DAFD5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449-E4AD-495B-8D82-3533933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662-C152-4CFC-AFFE-9CC77E7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586-4F1D-46B5-958A-FD4E23A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93E2-5261-4155-86EC-765889359E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CONCEPTO DE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ELEMENTOS DEL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SUBJETIVOS: LOS SUJETOS DEL CONTROL: </a:t>
            </a:r>
            <a:r>
              <a:rPr b="1" i="1" lang="es-ES_tradnl" sz="2300" spc="-1" strike="noStrike">
                <a:solidFill>
                  <a:srgbClr val="0000ff"/>
                </a:solidFill>
                <a:latin typeface="BernhardMod BT"/>
              </a:rPr>
              <a:t>EL CONTROLADOR y EL CONTROL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OBJETIVOS: MATERIA CONTROL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CLASIFICACIÓN DEL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ATENDIENDO AL SUJETO CONTRA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POLITICO, CPR, art.  52, nº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ADMINISTRATIVO, CPR, arts. 24.1, 98, 113.1, 119.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JURISDICCIONAL, teoría francesa-el proceso administra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76640" y="323640"/>
            <a:ext cx="4581360" cy="960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*ATENDIENDO AL SUJETO CONTRO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ook Antiqua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900" spc="-1" strike="noStrike">
                <a:solidFill>
                  <a:srgbClr val="0000ff"/>
                </a:solidFill>
                <a:latin typeface="Book Antiqua"/>
              </a:rPr>
              <a:t>CONTROL DE  ÓRGANOS  DE LA ADMINISTRACIÓN  DEL EST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Book Antiqua"/>
              </a:rPr>
              <a:t>INTERNO</a:t>
            </a:r>
            <a:r>
              <a:rPr b="1" lang="es-ES_tradnl" sz="1700" spc="-1" strike="noStrike">
                <a:solidFill>
                  <a:srgbClr val="0000ff"/>
                </a:solidFill>
                <a:latin typeface="Book Antiqua"/>
              </a:rPr>
              <a:t>, LOCBGAE, arts. 11 y 12 CPR, arts 113 y 11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Book Antiqua"/>
              </a:rPr>
              <a:t>EXTERNO,</a:t>
            </a:r>
            <a:r>
              <a:rPr b="1" lang="es-ES_tradnl" sz="1700" spc="-1" strike="noStrike">
                <a:solidFill>
                  <a:srgbClr val="0000ff"/>
                </a:solidFill>
                <a:latin typeface="Book Antiqua"/>
              </a:rPr>
              <a:t> CPR, art. 9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ook Antiqua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900" spc="-1" strike="noStrike">
                <a:solidFill>
                  <a:srgbClr val="0000ff"/>
                </a:solidFill>
                <a:latin typeface="Book Antiqua"/>
              </a:rPr>
              <a:t>CONTROL DE  ACTIVIDADES SOCIOECONÓMICAS  QUE COMPROMETEN LA FE PÚBL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LAS SUPERIN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ernhardMod BT"/>
              </a:rPr>
              <a:t>ATENDIENDO A LA MA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DE PLANES Y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DE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ernhardMod BT"/>
              </a:rPr>
              <a:t>ATENDIENDO AL TIEMPO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PREVENTIVO O A P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SIMULTÁNEO O CONCOM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A 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76640" y="9143640"/>
            <a:ext cx="4581360" cy="78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ernhardMod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4640" y="324000"/>
            <a:ext cx="6120000" cy="90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EL CONTROL EXTERNO DE  LA  Ad. del Estado:  LA CONTRALORÍA GENERAL DE  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mas que la ri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PR, LOCCGR, Nº 10.336, de 1964                                          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turaleza juríd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CBGAE, arts. 1º y 21, inciso 2º, en relación con el art. 98 de la CPR.                                                        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iones y atribu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PR., arts. 98 y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ol de legalidad de los actos de la Administra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oma de razón y fiscalización en terreno. La toma de razón.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scalizar el ingreso e invers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aminar y juzgar las cuen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La cuenta – El cuentadante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 examen de cuentas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 juzgamiento de l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uentas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arrollar las demás funcion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que le encomien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76640" y="9143640"/>
            <a:ext cx="4581360" cy="78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ernhardMod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4640" y="324000"/>
            <a:ext cx="6120000" cy="9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EL CONTROL DE  LA  Ad. del Estado SOBRE ACTIVIDADES PARTICULARES QUE COMPROMETEN LA FE PÚBLICA:  LAS SUPERINTENDENCIAS. LA ACTIVIDAD REGULADORA DEL ES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PERINTENCIAS DEL SECTOR SOCIA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 Salud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A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 SECTOR INFRAESTRUCTURA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de Obras Sanitar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 SECTOR ECONÓMIC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Bancos e Institucion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anciera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De Valores y Seguro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Casinos de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RIBUCIONES GENERALES 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S SUPERINTENDENC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Normativas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-Interpretativas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-Fiscalizador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-Correctiv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-Sancion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2:07:37Z</dcterms:created>
  <dc:creator>Facultad de Derecho</dc:creator>
  <dc:description/>
  <dc:language>en-US</dc:language>
  <cp:lastModifiedBy>mrojas</cp:lastModifiedBy>
  <dcterms:modified xsi:type="dcterms:W3CDTF">2008-05-05T16:33:42Z</dcterms:modified>
  <cp:revision>6</cp:revision>
  <dc:subject/>
  <dc:title>Diapositiva 1</dc:title>
</cp:coreProperties>
</file>