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4EC-5FF6-4E31-A953-85095CC0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621-0370-48BD-912E-E47F60CF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8AA-C105-4294-BA97-2A0C3640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80C-C134-4B94-98A7-7EFBAC8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6A7-C3BA-4D6B-A71C-ABA54DA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88F-50DD-4D5B-B9EA-6A3B5BF1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0B5-3F90-4139-BBC8-1508B6A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A33-031F-4BD2-B6FA-A7622090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458-A0FA-436D-9106-52958789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EF8-B6CE-4AF0-970F-FEB0CB8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CD3-B608-404F-A5A8-CF5FD96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046-27CC-4319-BE58-6229E77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038-D729-44FC-AC84-3615B939E5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ONCEPTO DE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ELEMENTOS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SUBJETIVOS: LOS SUJETOS DEL CONTROL: </a:t>
            </a:r>
            <a:r>
              <a:rPr b="1" i="1" lang="es-ES_tradnl" sz="2300" spc="-1" strike="noStrike">
                <a:solidFill>
                  <a:srgbClr val="0000ff"/>
                </a:solidFill>
                <a:latin typeface="BernhardMod BT"/>
              </a:rPr>
              <a:t>EL CONTROLADOR y EL CONTROL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OBJETIVOS: MATERIA CONTROL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75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700" spc="-1" strike="noStrike">
                <a:solidFill>
                  <a:srgbClr val="0000ff"/>
                </a:solidFill>
                <a:latin typeface="BernhardMod BT"/>
              </a:rPr>
              <a:t>CLASIFICACIÓN DEL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300" spc="-1" strike="noStrike">
                <a:solidFill>
                  <a:srgbClr val="ff0000"/>
                </a:solidFill>
                <a:latin typeface="BernhardMod BT"/>
              </a:rPr>
              <a:t>ATENDIENDO AL SUJETO CONTRA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POLITICO, CPR, art.  52, nº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ADMINISTRATIVO, CPR, arts. 24.1, 98, 113.1, 119.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900" spc="-1" strike="noStrike">
                <a:solidFill>
                  <a:srgbClr val="0000ff"/>
                </a:solidFill>
                <a:latin typeface="BernhardMod BT"/>
              </a:rPr>
              <a:t>JURISDICCIONAL, teoría francesa-el proceso administr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76640" y="323640"/>
            <a:ext cx="4581360" cy="960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*ATENDIENDO AL SUJETO CONTRO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ÓRGANOS  DE LA ADMINISTRACIÓN  DEL EST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INTERNO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, LOCBGAE, arts. 11 y 12 CPR, arts 113 y 11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700" spc="-1" strike="noStrike">
                <a:solidFill>
                  <a:srgbClr val="ff0000"/>
                </a:solidFill>
                <a:latin typeface="Book Antiqua"/>
              </a:rPr>
              <a:t>EXTERNO,</a:t>
            </a:r>
            <a:r>
              <a:rPr b="1" lang="es-ES_tradnl" sz="1700" spc="-1" strike="noStrike">
                <a:solidFill>
                  <a:srgbClr val="0000ff"/>
                </a:solidFill>
                <a:latin typeface="Book Antiqua"/>
              </a:rPr>
              <a:t> CPR, art. 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76"/>
              </a:spcBef>
              <a:buClr>
                <a:srgbClr val="0000ff"/>
              </a:buClr>
              <a:buFont typeface="Book Antiqua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900" spc="-1" strike="noStrike">
                <a:solidFill>
                  <a:srgbClr val="0000ff"/>
                </a:solidFill>
                <a:latin typeface="Book Antiqua"/>
              </a:rPr>
              <a:t>CONTROL DE  ACTIVIDADES SOCIOECONÓMICAS  QUE COMPROMETEN LA FE PÚBL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65320" indent="-1666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LAS SUPERIN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 LA MA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PLANES Y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Book Antiqua"/>
              </a:rPr>
              <a:t>CONTROL DE 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ernhardMod BT"/>
              </a:rPr>
              <a:t>ATENDIENDO AL TIEMPO DE RE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PREVENTIVO O A P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SIMULTÁNEO O CONCOM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ook Antiqua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Book Antiqua"/>
              </a:rPr>
              <a:t>A 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4640" y="324000"/>
            <a:ext cx="6120000" cy="90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EL CONTROL EXTERNO DE  LA  Ad. del Estado:  LA CONTRALORÍA GENERAL DE  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rmas que la ri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PR, LOCCGR, Nº 10.336, de 1964                                          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turaleza juríd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CBGAE, arts. 1º y 21, inciso 2º, en relación con el art. 98 de la CPR.                                                         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iones y atribuci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PR., arts. 98 y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ol de legalidad de los actos de la Administra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oma de razón y fiscalización en terreno. La toma de razón.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scalizar el ingreso e invers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aminar y juzgar las cuen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La cuenta – El cuentadante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examen de cuentas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 juzgamiento de l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uentas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arrollar las demás funcion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que le encomien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6640" y="9143640"/>
            <a:ext cx="4581360" cy="7858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ernhardMod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4640" y="324000"/>
            <a:ext cx="6120000" cy="9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 Antiqua"/>
              </a:rPr>
              <a:t>EL CONTROL DE  LA  Ad. del Estado SOBRE ACTIVIDADES PARTICULARES QUE COMPROMETEN LA FE PÚBLICA:  LAS SUPERINTENDENCIAS. LA ACTIVIDAD REGULADORA DEL E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PERINTENCIAS DEL SECTOR SOCI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Salud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A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INFRAESTRUCTURA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Obras Sanitar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 SECTOR ECONÓMIC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Bancos e Institucion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nciera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De Valores y Seguro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De Casinos de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RIBUCIONES GENERALES 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S SUPERINTENDENC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Normativas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Interpretativas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-Fiscalizador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Correctiv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-Sancion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2:07:37Z</dcterms:created>
  <dc:creator>Facultad de Derecho</dc:creator>
  <dc:description/>
  <dc:language>en-US</dc:language>
  <cp:lastModifiedBy>mrojas</cp:lastModifiedBy>
  <dcterms:modified xsi:type="dcterms:W3CDTF">2008-05-05T16:33:42Z</dcterms:modified>
  <cp:revision>6</cp:revision>
  <dc:subject/>
  <dc:title>Diapositiva 1</dc:title>
</cp:coreProperties>
</file>