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842-F055-493D-A43F-8C676456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96E-E739-47A4-BB56-1665153E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1EC-53D1-48CA-A067-CBDDB995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34F-6E8C-4D50-AE68-A10F9173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BB9-E5E7-4414-9521-840F0A5A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85B4-5F20-48DB-A9C8-F0C4090A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0DE-FBF8-4101-889A-5433C4AC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6FA-0353-440F-A74B-8EA0D43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F99-5A2B-4416-835C-435D4EEE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14E-D515-4526-B8FC-6B77F9E5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33D-BA28-4092-9864-A8E2C00C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8D5-F270-4CBA-A437-9888A5C5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5D7C-1BB5-4E43-8BBC-38B7D4C36A67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3200" spc="-1" strike="noStrike">
                <a:solidFill>
                  <a:srgbClr val="0000ff"/>
                </a:solidFill>
                <a:latin typeface="Book Antiqua"/>
              </a:rPr>
              <a:t>EL PRINCIPIO DE LA RESPONS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9360" y="1476360"/>
            <a:ext cx="450864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CONCEPTO DE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FUNDAMENTO CONSTITUCIONAL DE LA RESPONSABILIDAD, arts. 6° y 7°, incs 3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CLASIFICACIÓN DE LA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L SUJETO RESPONSABLE: institucional o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 LA NATURALEZA DE LA RESPONSABILIDAD: política, administrativa, civil o pe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 SU PROCEDENCIA: subjetiva u obje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49360" y="539640"/>
            <a:ext cx="4508640" cy="939024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NCEPTO DE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Es la obligación de sufrir un castigo legal o de pagar una indemnización de perjuicios,  que pesa sobre el sujeto jurídico que ha infringido el ordenamient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FUNDAMENTO CONSTITUCIONAL DE LA RESPONSABILIDAD, arts. 6° y 7°, incs 3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Según estas normas, la responsabilidad jurídica se caracteriza por su </a:t>
            </a:r>
            <a:r>
              <a:rPr b="1" i="1" lang="es-ES_tradnl" sz="2400" spc="-1" strike="noStrike">
                <a:solidFill>
                  <a:srgbClr val="333399"/>
                </a:solidFill>
                <a:latin typeface="BernhardMod BT"/>
              </a:rPr>
              <a:t>origen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: un hecho infraccional o contravencional del orden jurídico, y por su </a:t>
            </a:r>
            <a:r>
              <a:rPr b="1" i="1" lang="es-ES_tradnl" sz="2400" spc="-1" strike="noStrike">
                <a:solidFill>
                  <a:srgbClr val="333399"/>
                </a:solidFill>
                <a:latin typeface="BernhardMod BT"/>
              </a:rPr>
              <a:t>regimen jurídico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: reconocer fuente constitucional o leg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No obstante en la actualidad tiende a reconocerse la responsabilidad con base. obje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6:08:54Z</dcterms:created>
  <dc:creator>Rolando Pantoja</dc:creator>
  <dc:description/>
  <dc:language>en-US</dc:language>
  <cp:lastModifiedBy>mrojas</cp:lastModifiedBy>
  <dcterms:modified xsi:type="dcterms:W3CDTF">2008-05-05T16:32:59Z</dcterms:modified>
  <cp:revision>3</cp:revision>
  <dc:subject/>
  <dc:title>      EL PRINCIPIO DE LA RESPONSABILIDAD</dc:title>
</cp:coreProperties>
</file>