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6AC5-0A9E-44CB-BA23-9DA08016B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6801-FA39-448E-822F-BA1209233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6530-FF2E-41C0-92A9-B7B2ECD5B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850D-59EC-4705-930B-A3B8C8B18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F03A-A766-4A36-8E59-D1ACD6189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EF67-EE5B-4D9C-A473-226704A1D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D0B2-4914-4045-836B-472819CEF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DFCE-3635-4784-AAE8-88824033A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ADA4-7E00-4433-99B4-7C7D365FA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A8C6-25F2-4C83-9A38-AB5A8A7D7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2118-00C7-442B-BAA0-93961BA9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627B-701A-4F06-9493-7F0F7707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F237F-620D-431B-A285-10CAA8DE9F0B}" type="slidenum">
              <a:rPr b="0" lang="es-MX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5334120"/>
          <a:ext cx="2494080" cy="38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4120"/>
                    <a:ext cx="24940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7360" y="324000"/>
            <a:ext cx="6110280" cy="1079280"/>
          </a:xfrm>
          <a:prstGeom prst="rect">
            <a:avLst/>
          </a:prstGeom>
          <a:noFill/>
          <a:ln w="0">
            <a:noFill/>
          </a:ln>
        </p:spPr>
        <p:txBody>
          <a:bodyPr lIns="39600" rIns="39600" tIns="18720" bIns="1872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4100" spc="-1" strike="noStrike">
                <a:solidFill>
                  <a:srgbClr val="0000ff"/>
                </a:solidFill>
                <a:latin typeface="BernhardMod BT"/>
              </a:rPr>
              <a:t>     </a:t>
            </a:r>
            <a:br>
              <a:rPr sz="4100"/>
            </a:br>
            <a:r>
              <a:rPr b="1" lang="es-ES_tradnl" sz="3200" spc="-1" strike="noStrike">
                <a:solidFill>
                  <a:srgbClr val="0000ff"/>
                </a:solidFill>
                <a:latin typeface="Book Antiqua"/>
              </a:rPr>
              <a:t>EL PRINCIPIO DE LA RESPONSABI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349360" y="1476360"/>
            <a:ext cx="4508640" cy="8453520"/>
          </a:xfrm>
          <a:prstGeom prst="rect">
            <a:avLst/>
          </a:prstGeom>
          <a:noFill/>
          <a:ln w="0">
            <a:noFill/>
          </a:ln>
        </p:spPr>
        <p:txBody>
          <a:bodyPr lIns="39600" rIns="39600" tIns="18720" bIns="18720" anchor="t">
            <a:normAutofit/>
          </a:bodyPr>
          <a:p>
            <a:pPr marL="250920" indent="-2509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BernhardMod BT"/>
              <a:buChar char="•"/>
              <a:tabLst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CONCEPTO DE RESPONS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BernhardMod BT"/>
              <a:buChar char="•"/>
              <a:tabLst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FUNDAMENTO CONSTITUCIONAL DE LA RESPONSABILIDAD, arts. 6° y 7°, incs 3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BernhardMod BT"/>
              <a:buChar char="•"/>
              <a:tabLst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2400" spc="-1" strike="noStrike">
                <a:solidFill>
                  <a:srgbClr val="0000ff"/>
                </a:solidFill>
                <a:latin typeface="BernhardMod BT"/>
              </a:rPr>
              <a:t>CLASIFICACIÓN DE LA RESPONS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5552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BernhardMod BT"/>
              <a:buChar char="–"/>
              <a:tabLst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000" spc="-1" strike="noStrike">
                <a:solidFill>
                  <a:srgbClr val="0000ff"/>
                </a:solidFill>
                <a:latin typeface="BernhardMod BT"/>
              </a:rPr>
              <a:t>ATENDIENDO AL SUJETO RESPONSABLE: institucional o pers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5552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BernhardMod BT"/>
              <a:buChar char="–"/>
              <a:tabLst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000" spc="-1" strike="noStrike">
                <a:solidFill>
                  <a:srgbClr val="0000ff"/>
                </a:solidFill>
                <a:latin typeface="BernhardMod BT"/>
              </a:rPr>
              <a:t>ATENDIENDO A LA NATURALEZA DE LA RESPONSABILIDAD: política, administrativa, civil o pe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5552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BernhardMod BT"/>
              <a:buChar char="–"/>
              <a:tabLst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  <a:tab algn="l" pos="8634240"/>
              </a:tabLst>
            </a:pPr>
            <a:r>
              <a:rPr b="1" i="1" lang="es-ES_tradnl" sz="2000" spc="-1" strike="noStrike">
                <a:solidFill>
                  <a:srgbClr val="0000ff"/>
                </a:solidFill>
                <a:latin typeface="BernhardMod BT"/>
              </a:rPr>
              <a:t>ATENDIENDO A SU PROCEDENCIA: subjetiva u objeti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07920" y="1763640"/>
            <a:ext cx="0" cy="360036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76280" y="395280"/>
            <a:ext cx="0" cy="4968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0" y="5334120"/>
          <a:ext cx="2494080" cy="38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4120"/>
                    <a:ext cx="24940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349360" y="539640"/>
            <a:ext cx="4508640" cy="9390240"/>
          </a:xfrm>
          <a:prstGeom prst="rect">
            <a:avLst/>
          </a:prstGeom>
          <a:noFill/>
          <a:ln w="0">
            <a:noFill/>
          </a:ln>
        </p:spPr>
        <p:txBody>
          <a:bodyPr lIns="39600" rIns="39600" tIns="18720" bIns="18720" anchor="t">
            <a:normAutofit/>
          </a:bodyPr>
          <a:p>
            <a:pPr marL="250920" indent="-25092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BernhardMod BT"/>
              <a:buChar char="•"/>
              <a:tabLst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2000" spc="-1" strike="noStrike">
                <a:solidFill>
                  <a:srgbClr val="0000ff"/>
                </a:solidFill>
                <a:latin typeface="BernhardMod BT"/>
              </a:rPr>
              <a:t>CONCEPTO DE RESPONSA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2400" spc="-1" strike="noStrike">
                <a:solidFill>
                  <a:srgbClr val="ff0000"/>
                </a:solidFill>
                <a:latin typeface="BernhardMod BT"/>
              </a:rPr>
              <a:t>Es la obligación de sufrir un castigo legal o de pagar una indemnización de perjuicios,  que pesa sobre el sujeto jurídico que ha infringido el ordenamiento juríd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BernhardMod BT"/>
              <a:buChar char="•"/>
              <a:tabLst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2000" spc="-1" strike="noStrike">
                <a:solidFill>
                  <a:srgbClr val="0000ff"/>
                </a:solidFill>
                <a:latin typeface="BernhardMod BT"/>
              </a:rPr>
              <a:t>FUNDAMENTO CONSTITUCIONAL DE LA RESPONSABILIDAD, arts. 6° y 7°, incs 3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2400" spc="-1" strike="noStrike">
                <a:solidFill>
                  <a:srgbClr val="ff0000"/>
                </a:solidFill>
                <a:latin typeface="BernhardMod BT"/>
              </a:rPr>
              <a:t>   </a:t>
            </a:r>
            <a:r>
              <a:rPr b="1" i="1" lang="es-ES_tradnl" sz="2400" spc="-1" strike="noStrike">
                <a:solidFill>
                  <a:srgbClr val="ff0000"/>
                </a:solidFill>
                <a:latin typeface="BernhardMod BT"/>
              </a:rPr>
              <a:t>Según estas normas, la responsabilidad jurídica se caracteriza por su </a:t>
            </a:r>
            <a:r>
              <a:rPr b="1" i="1" lang="es-ES_tradnl" sz="2400" spc="-1" strike="noStrike">
                <a:solidFill>
                  <a:srgbClr val="333399"/>
                </a:solidFill>
                <a:latin typeface="BernhardMod BT"/>
              </a:rPr>
              <a:t>origen</a:t>
            </a:r>
            <a:r>
              <a:rPr b="1" i="1" lang="es-ES_tradnl" sz="2400" spc="-1" strike="noStrike">
                <a:solidFill>
                  <a:srgbClr val="ff0000"/>
                </a:solidFill>
                <a:latin typeface="BernhardMod BT"/>
              </a:rPr>
              <a:t>: un hecho infraccional o contravencional del orden jurídico, y por su </a:t>
            </a:r>
            <a:r>
              <a:rPr b="1" i="1" lang="es-ES_tradnl" sz="2400" spc="-1" strike="noStrike">
                <a:solidFill>
                  <a:srgbClr val="333399"/>
                </a:solidFill>
                <a:latin typeface="BernhardMod BT"/>
              </a:rPr>
              <a:t>regimen jurídico</a:t>
            </a:r>
            <a:r>
              <a:rPr b="1" i="1" lang="es-ES_tradnl" sz="2400" spc="-1" strike="noStrike">
                <a:solidFill>
                  <a:srgbClr val="ff0000"/>
                </a:solidFill>
                <a:latin typeface="BernhardMod BT"/>
              </a:rPr>
              <a:t>: reconocer fuente constitucional o leg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11120"/>
                <a:tab algn="l" pos="822240"/>
                <a:tab algn="l" pos="1233360"/>
                <a:tab algn="l" pos="1644480"/>
                <a:tab algn="l" pos="2055960"/>
                <a:tab algn="l" pos="2467080"/>
                <a:tab algn="l" pos="2878200"/>
                <a:tab algn="l" pos="3289320"/>
                <a:tab algn="l" pos="3700440"/>
                <a:tab algn="l" pos="4111560"/>
                <a:tab algn="l" pos="4522680"/>
                <a:tab algn="l" pos="4933800"/>
                <a:tab algn="l" pos="5345280"/>
                <a:tab algn="l" pos="5756400"/>
                <a:tab algn="l" pos="6167520"/>
                <a:tab algn="l" pos="6578640"/>
                <a:tab algn="l" pos="6989760"/>
                <a:tab algn="l" pos="7400880"/>
                <a:tab algn="l" pos="7812000"/>
                <a:tab algn="l" pos="8223120"/>
              </a:tabLst>
            </a:pPr>
            <a:r>
              <a:rPr b="1" i="1" lang="es-ES_tradnl" sz="2400" spc="-1" strike="noStrike">
                <a:solidFill>
                  <a:srgbClr val="ff0000"/>
                </a:solidFill>
                <a:latin typeface="BernhardMod BT"/>
              </a:rPr>
              <a:t>   </a:t>
            </a:r>
            <a:r>
              <a:rPr b="1" i="1" lang="es-ES_tradnl" sz="2400" spc="-1" strike="noStrike">
                <a:solidFill>
                  <a:srgbClr val="ff0000"/>
                </a:solidFill>
                <a:latin typeface="BernhardMod BT"/>
              </a:rPr>
              <a:t>No obstante en la actualidad tiende a reconocerse la responsabilidad con base. objet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7920" y="1763640"/>
            <a:ext cx="0" cy="360036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76280" y="395280"/>
            <a:ext cx="0" cy="4968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9T16:08:54Z</dcterms:created>
  <dc:creator>Rolando Pantoja</dc:creator>
  <dc:description/>
  <dc:language>en-US</dc:language>
  <cp:lastModifiedBy>mrojas</cp:lastModifiedBy>
  <dcterms:modified xsi:type="dcterms:W3CDTF">2008-05-05T16:32:59Z</dcterms:modified>
  <cp:revision>3</cp:revision>
  <dc:subject/>
  <dc:title>      EL PRINCIPIO DE LA RESPONSABILIDAD</dc:title>
</cp:coreProperties>
</file>