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E2A-133F-45E0-8845-BBD92858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832-168F-4E54-B58D-ED16B338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2E1-3102-4797-A38C-D545CA5B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DBF-4129-4963-BC51-6135BCEA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2CC-B3AD-4CCE-A3DB-DC062AA6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69B-DC28-4777-B20F-E4A6A80C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458-CAA1-46BF-B92F-EAF29804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73A-D862-46AF-A21D-890766FF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6E2-D16E-443C-9D21-E9E12BB2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38F-494B-40F4-8B79-2AFA1B3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B57-1C3D-4973-B3EA-2842FCB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C6F-A069-4D98-A14F-8513AA9A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4713-3901-4683-8D98-29CC01611767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3200" spc="-1" strike="noStrike">
                <a:solidFill>
                  <a:srgbClr val="0000ff"/>
                </a:solidFill>
                <a:latin typeface="Book Antiqua"/>
              </a:rPr>
              <a:t>EL PRINCIPIO DE LA RESPONS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9360" y="1476360"/>
            <a:ext cx="450864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CONCEPTO DE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FUNDAMENTO CONSTITUCIONAL DE LA RESPONSABILIDAD, arts. 6° y 7°, incs 3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CLASIFICACIÓN DE LA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L SUJETO RESPONSABLE: institucional o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 LA NATURALEZA DE LA RESPONSABILIDAD: política, administrativa, civil o pe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 SU PROCEDENCIA: subjetiva u obje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49360" y="539640"/>
            <a:ext cx="4508640" cy="939024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NCEPTO DE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Es la obligación de sufrir un castigo legal o de pagar una indemnización de perjuicios,  que pesa sobre el sujeto jurídico que ha infringido el ordenamient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FUNDAMENTO CONSTITUCIONAL DE LA RESPONSABILIDAD, arts. 6° y 7°, incs 3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Según estas normas, la responsabilidad jurídica se caracteriza por su </a:t>
            </a:r>
            <a:r>
              <a:rPr b="1" i="1" lang="es-ES_tradnl" sz="2400" spc="-1" strike="noStrike">
                <a:solidFill>
                  <a:srgbClr val="333399"/>
                </a:solidFill>
                <a:latin typeface="BernhardMod BT"/>
              </a:rPr>
              <a:t>origen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: un hecho infraccional o contravencional del orden jurídico, y por su </a:t>
            </a:r>
            <a:r>
              <a:rPr b="1" i="1" lang="es-ES_tradnl" sz="2400" spc="-1" strike="noStrike">
                <a:solidFill>
                  <a:srgbClr val="333399"/>
                </a:solidFill>
                <a:latin typeface="BernhardMod BT"/>
              </a:rPr>
              <a:t>regimen jurídico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: reconocer fuente constitucional o leg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No obstante en la actualidad tiende a reconocerse la responsabilidad con base. obje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6:08:54Z</dcterms:created>
  <dc:creator>Rolando Pantoja</dc:creator>
  <dc:description/>
  <dc:language>en-US</dc:language>
  <cp:lastModifiedBy>mrojas</cp:lastModifiedBy>
  <dcterms:modified xsi:type="dcterms:W3CDTF">2008-05-05T16:32:59Z</dcterms:modified>
  <cp:revision>3</cp:revision>
  <dc:subject/>
  <dc:title>      EL PRINCIPIO DE LA RESPONSABILIDAD</dc:title>
</cp:coreProperties>
</file>