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D90-51B1-43A2-AEAB-905F75E3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B02-976F-4F9C-9AF3-0595FFF1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71B-0AEF-4C3D-8BEF-1168ACF1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527-A9F9-4F0D-B7FF-7B69A527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3BB-8B6E-412A-A21F-2C4A754D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2B9-3746-468C-B242-BFF5477A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98C-A0DC-4566-B3FF-5267E035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A966-A869-477C-AEE8-4F70722E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CCD3-51E4-474C-95E7-F0273496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707-9EF2-42F5-B228-74D7970F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2CE-06A7-46AC-917C-F4F1781D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A17-DCE2-4C34-A4E9-F211ED4C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DC46-72BB-442C-9509-E7517E26FA37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3200" spc="-1" strike="noStrike">
                <a:solidFill>
                  <a:srgbClr val="0000ff"/>
                </a:solidFill>
                <a:latin typeface="Book Antiqua"/>
              </a:rPr>
              <a:t>EL PRINCIPIO DE LA RESPONS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49360" y="1476360"/>
            <a:ext cx="450864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CONCEPTO DE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FUNDAMENTO CONSTITUCIONAL DE LA RESPONSABILIDAD, arts. 6° y 7°, incs 3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CLASIFICACIÓN DE LA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ATENDIENDO AL SUJETO RESPONSABLE: institucional o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ATENDIENDO A LA NATURALEZA DE LA RESPONSABILIDAD: política, administrativa, civil o pe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ATENDIENDO A SU PROCEDENCIA: subjetiva u obje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349360" y="539640"/>
            <a:ext cx="4508640" cy="939024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NCEPTO DE 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Es la obligación de sufrir un castigo legal o de pagar una indemnización de perjuicios,  que pesa sobre el sujeto jurídico que ha infringido el ordenamiento jurí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FUNDAMENTO CONSTITUCIONAL DE LA RESPONSABILIDAD, arts. 6° y 7°, incs 3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Según estas normas, la responsabilidad jurídica se caracteriza por su </a:t>
            </a:r>
            <a:r>
              <a:rPr b="1" i="1" lang="es-ES_tradnl" sz="2400" spc="-1" strike="noStrike">
                <a:solidFill>
                  <a:srgbClr val="333399"/>
                </a:solidFill>
                <a:latin typeface="BernhardMod BT"/>
              </a:rPr>
              <a:t>origen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: un hecho infraccional o contravencional del orden jurídico, y por su </a:t>
            </a:r>
            <a:r>
              <a:rPr b="1" i="1" lang="es-ES_tradnl" sz="2400" spc="-1" strike="noStrike">
                <a:solidFill>
                  <a:srgbClr val="333399"/>
                </a:solidFill>
                <a:latin typeface="BernhardMod BT"/>
              </a:rPr>
              <a:t>regimen jurídico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: reconocer fuente constitucional o leg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No obstante en la actualidad tiende a reconocerse la responsabilidad con base. obje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16:08:54Z</dcterms:created>
  <dc:creator>Rolando Pantoja</dc:creator>
  <dc:description/>
  <dc:language>en-US</dc:language>
  <cp:lastModifiedBy>mrojas</cp:lastModifiedBy>
  <dcterms:modified xsi:type="dcterms:W3CDTF">2008-05-05T16:32:59Z</dcterms:modified>
  <cp:revision>3</cp:revision>
  <dc:subject/>
  <dc:title>      EL PRINCIPIO DE LA RESPONSABILIDAD</dc:title>
</cp:coreProperties>
</file>