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5C2-ED99-4F9F-9476-6B8A8878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023-0B83-4FCC-B808-8A0E46E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0BE-C440-4BC7-86F3-A4C8EEA6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7DB-DE74-409C-B5E3-4189F065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DA1-B902-43CC-B0C7-33641A40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47D-75F4-4747-AC43-CF75C433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180-6279-49CA-908F-283F5CA6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0B9-552C-444A-94A0-4B5EC564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7DE-99C3-4E52-8D0E-32AB44DF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74D-E4A9-4B53-A6A7-A1FC17B6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83F-64CA-48C2-A355-255D31F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448-9B35-432B-90E6-27F115B0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5A0C-512C-4533-8DA2-964320FB3D1A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 LA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LASIFICACIÓN 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L SUJETO RESPONSABLE: institucional 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LA NATURALEZA DE LA RESPONSABILIDAD: política, administrativa, civil o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SU PROCEDENCIA: subjetiva u obje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9360" y="539640"/>
            <a:ext cx="4508640" cy="93902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Es la obligación de sufrir un castigo legal o de pagar una indemnización de perjuicios,  que pesa sobre el sujeto jurídico que ha infringido 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Según estas normas, la responsabilidad jurídica se caracteriza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origen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un hecho infraccional o contravencional del orden jurídico, y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regimen jurídico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reconocer fuente constitucional o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No obstante en la actualidad tiende a reconocerse la responsabilidad con base.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6:08:54Z</dcterms:created>
  <dc:creator>Rolando Pantoja</dc:creator>
  <dc:description/>
  <dc:language>en-US</dc:language>
  <cp:lastModifiedBy>mrojas</cp:lastModifiedBy>
  <dcterms:modified xsi:type="dcterms:W3CDTF">2008-05-05T16:32:59Z</dcterms:modified>
  <cp:revision>3</cp:revision>
  <dc:subject/>
  <dc:title>      EL PRINCIPIO DE LA RESPONSABILIDAD</dc:title>
</cp:coreProperties>
</file>