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6C3-178C-4EA1-83D7-77447BDB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76D-FA04-49BE-BE8E-59B0F236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718-63C0-405E-ACE6-BBE3A171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021-B0B2-4302-A31A-5B2E7D6B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D4A-06FD-45F0-8321-C9E9E947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137-ED0B-48E9-AC84-3EDB8C64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23B-EA5C-4C26-B6DD-8AE7AA58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AB7-EAE6-4016-BC1E-5331492C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0DC-BB65-4C72-86C4-D0E8538F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A16-5E1E-4BFD-A0DA-8BD3566C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9FF-F241-47CE-88B2-B40A6E83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C6F-B57B-4ABA-A2B6-92BA8E0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9588-C8D9-4351-9F8A-F134723D759B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Arial"/>
              </a:rPr>
              <a:t>2°ELEMENTO DEL CONCEPTO CONSTITUCIONAL DE DERECHO ADMINISTRATIVO: PP_2_2_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_2: Los princi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1700280"/>
            <a:ext cx="6985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RMADA POR … Y </a:t>
            </a:r>
            <a:r>
              <a:rPr b="1" lang="es-MX" sz="2000" spc="-1" strike="noStrike">
                <a:solidFill>
                  <a:srgbClr val="0000e8"/>
                </a:solidFill>
                <a:latin typeface="Arial"/>
              </a:rPr>
              <a:t>PRINCI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REGULAN EL SER Y EL ACTUAR DE LA ADMINISTRACIÓN DEL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1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Los Principios Clás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1. Aut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2. Leg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3.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4.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5. Justiciabilidad.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2. El Principio Pos Moderno: la Servicialidad. Los servicios públ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3. Los Principios Contemporáneos: LOCBGAE, artículo 3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0:53:38Z</dcterms:created>
  <dc:creator>Rolando Pantoja</dc:creator>
  <dc:description/>
  <dc:language>en-US</dc:language>
  <cp:lastModifiedBy>mrojas</cp:lastModifiedBy>
  <dcterms:modified xsi:type="dcterms:W3CDTF">2008-05-05T16:31:34Z</dcterms:modified>
  <cp:revision>2</cp:revision>
  <dc:subject/>
  <dc:title>2°ELEMENTO DEL CONCEPTO CONSTITUCIONAL DE DERECHO ADMINISTRATIVO: PP_2_2_B_2: Los principios</dc:title>
</cp:coreProperties>
</file>