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A57B-34F2-4043-A943-889306230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16EF-9AAB-4619-88B9-135F8579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1194-9931-45BF-8BDC-3DF433DE0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D8EC-029A-4D3C-AF2E-07095424B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515C-600D-49FA-AA8D-967AEBBF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0235-A445-41BE-8648-93D2B3D8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2856-BB3D-4F22-B05D-575B95B4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37FA-50E1-4D6A-8A03-943DA27F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0CA2-A01F-44A8-A2F0-E94B4B0E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BE95-FF82-43DF-8F46-8350267B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E214-5276-41CF-A019-84F059C3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AB81-22CD-4BA1-841F-E49925F3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D6CE-CF79-4C40-AE62-BCB740417DD6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8360" y="189000"/>
            <a:ext cx="374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Arial"/>
              </a:rPr>
              <a:t>2°ELEMENTO DEL CONCEPTO CONSTITUCIONAL DE DERECHO ADMINISTRATIVO: PP_2_2_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B_2: Los princip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1700280"/>
            <a:ext cx="6985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ORMADA POR … Y </a:t>
            </a:r>
            <a:r>
              <a:rPr b="1" lang="es-MX" sz="2000" spc="-1" strike="noStrike">
                <a:solidFill>
                  <a:srgbClr val="0000e8"/>
                </a:solidFill>
                <a:latin typeface="Arial"/>
              </a:rPr>
              <a:t>PRINCIP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e8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QUE REGULAN EL SER Y EL ACTUAR DE LA ADMINISTRACIÓN DEL ES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1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Los Principios Clási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1. Auto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2. Leg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3. Respons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4.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5. Justiciabilidad.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2. El Principio Pos Moderno: la Servicialidad. Los servicios públ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3. Los Principios Contemporáneos: LOCBGAE, artículo 3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5T10:53:38Z</dcterms:created>
  <dc:creator>Rolando Pantoja</dc:creator>
  <dc:description/>
  <dc:language>en-US</dc:language>
  <cp:lastModifiedBy>mrojas</cp:lastModifiedBy>
  <dcterms:modified xsi:type="dcterms:W3CDTF">2008-05-05T16:31:34Z</dcterms:modified>
  <cp:revision>2</cp:revision>
  <dc:subject/>
  <dc:title>2°ELEMENTO DEL CONCEPTO CONSTITUCIONAL DE DERECHO ADMINISTRATIVO: PP_2_2_B_2: Los principios</dc:title>
</cp:coreProperties>
</file>