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8DD-CA64-407C-AC8F-3D6754D8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8030-A7AE-47CB-9045-6B326E95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8878-8619-4064-89A0-11335808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ACE8-A95D-429A-AF9E-630680CE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202-2AF9-49DA-B687-56187E27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B220-9A50-4926-A820-DD8FF1A6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B45D-8FC7-4342-B3B8-9A30D158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6E7-A9CC-4D8D-9C26-2E2D3552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8E2-AB8E-4001-A849-6EEB22D2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4730-B206-42FB-A43A-4422DB31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9296-7EA4-407A-8419-2C78C8BA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B202-E881-43FE-A0B9-A645BBD2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5535-B27E-4AD0-B957-25771B420735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Arial"/>
              </a:rPr>
              <a:t>2°ELEMENTO DEL CONCEPTO CONSTITUCIONAL DE DERECHO ADMINISTRATIVO: PP_2_2_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B_2: Los princip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1700280"/>
            <a:ext cx="6985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ORMADA POR … Y </a:t>
            </a:r>
            <a:r>
              <a:rPr b="1" lang="es-MX" sz="2000" spc="-1" strike="noStrike">
                <a:solidFill>
                  <a:srgbClr val="0000e8"/>
                </a:solidFill>
                <a:latin typeface="Arial"/>
              </a:rPr>
              <a:t>PRINCIP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e8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E REGULAN EL SER Y EL ACTUAR DE LA ADMINISTRACIÓN DEL ES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1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Los Principios Clás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1. Auto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2. Leg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3. Respon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4.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5. Justiciabilidad.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2. El Principio Pos Moderno: la Servicialidad. Los servicios públ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Arial"/>
              </a:rPr>
              <a:t>3. Los Principios Contemporáneos: LOCBGAE, artículo 3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0:53:38Z</dcterms:created>
  <dc:creator>Rolando Pantoja</dc:creator>
  <dc:description/>
  <dc:language>en-US</dc:language>
  <cp:lastModifiedBy>mrojas</cp:lastModifiedBy>
  <dcterms:modified xsi:type="dcterms:W3CDTF">2008-05-05T16:31:34Z</dcterms:modified>
  <cp:revision>2</cp:revision>
  <dc:subject/>
  <dc:title>2°ELEMENTO DEL CONCEPTO CONSTITUCIONAL DE DERECHO ADMINISTRATIVO: PP_2_2_B_2: Los principios</dc:title>
</cp:coreProperties>
</file>