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4A1-3614-4823-A133-8B1B8F2E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111-D534-43C8-B24A-4A32ACE3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6C3-2809-4C99-9D7E-0D23A80F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637-32F4-4F6E-A354-A9DCA52E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954-3EFF-472B-B6B6-710D453B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CF2-5B3C-4178-B04A-0CD0B6CD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767-B009-431A-958E-0E32597E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481-9CE6-486E-972A-64FA5F75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0ED-BB01-42F5-9A20-B7707FFF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23A-75BB-4AF8-9933-3BB1CD1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53F-5AC7-42E0-B44B-2BB3FA1D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0EC-90FB-4872-A711-AD0BABBC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97E9-E2E6-4D50-ACA6-226329D04699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Arial"/>
              </a:rPr>
              <a:t>2°ELEMENTO DEL CONCEPTO CONSTITUCIONAL DE DERECHO ADMINISTRATIVO: PP_2_2_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_2: Los princi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1700280"/>
            <a:ext cx="6985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RMADA POR … Y </a:t>
            </a:r>
            <a:r>
              <a:rPr b="1" lang="es-MX" sz="2000" spc="-1" strike="noStrike">
                <a:solidFill>
                  <a:srgbClr val="0000e8"/>
                </a:solidFill>
                <a:latin typeface="Arial"/>
              </a:rPr>
              <a:t>PRIN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REGULAN EL SER Y EL ACTUAR DE LA ADMINISTRACIÓN DEL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1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Los Principios Clás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1. Aut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2. Leg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3.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4.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5. Justiciabilidad.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2. El Principio Pos Moderno: la Servicialidad. Los servicios púb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3. Los Principios Contemporáneos: LOCBGAE, artículo 3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0:53:38Z</dcterms:created>
  <dc:creator>Rolando Pantoja</dc:creator>
  <dc:description/>
  <dc:language>en-US</dc:language>
  <cp:lastModifiedBy>mrojas</cp:lastModifiedBy>
  <dcterms:modified xsi:type="dcterms:W3CDTF">2008-05-05T16:31:34Z</dcterms:modified>
  <cp:revision>2</cp:revision>
  <dc:subject/>
  <dc:title>2°ELEMENTO DEL CONCEPTO CONSTITUCIONAL DE DERECHO ADMINISTRATIVO: PP_2_2_B_2: Los principios</dc:title>
</cp:coreProperties>
</file>