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2B2-761A-4E56-85E9-DA9C88A9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11D-36C5-4C88-AE08-85410D42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2C7-1897-4640-A6FC-AC115497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D04-118E-44A8-B30C-89CF0108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1475-46A3-433D-9D6F-3BC30BAD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05D2-9C6E-4519-BB38-9D6C0931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C294-2192-4D4D-9A5D-BD83F6B5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CBFD-9D72-4DEB-906F-F57F9B5B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8CC6-4B3C-4A06-B472-4CAAB443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221B-057E-4E8A-9A09-45407B90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496A-102B-4903-8AD0-0B206162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5BF-CEDE-474D-A171-8190DA59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7F18-F68F-4BCD-8FF1-7D00348C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4706-848E-4AC9-A919-B4BCD6B2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6BA1-2C92-4E8D-917B-4CA9F433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19C8-79C7-4EEA-B1F2-0364C9FD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1564-66FF-47C2-82F7-CFCF8C92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156-18BA-44E1-BBE8-884DC807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313-BE0B-473C-AAF9-29C36049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F94-72EC-494E-99BB-558F57C0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E90-1CA6-4D6D-94D2-F99176B6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971-F6C2-47AA-A6AB-3707BCED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3A2-00A7-43D6-A098-457C5BB4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047-ABAB-44A5-8C72-6A3C86E0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C69A-F275-4F6D-A1E8-BA449F95D18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EFE2-D3CD-40B6-8413-BF37937E5D14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744720" cy="143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0000"/>
                </a:solidFill>
                <a:latin typeface="Comic Sans MS"/>
              </a:rPr>
              <a:t>2°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ea0000"/>
                </a:solidFill>
                <a:latin typeface="Comic Sans MS"/>
              </a:rPr>
              <a:t>Elemento</a:t>
            </a:r>
            <a:r>
              <a:rPr b="0" lang="es-MX" sz="2200" spc="-1" strike="noStrike">
                <a:solidFill>
                  <a:srgbClr val="ea0000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del concepto constitucional de Derecho Administrativo: normas y principios</a:t>
            </a:r>
            <a:br>
              <a:rPr sz="2200"/>
            </a:br>
            <a:r>
              <a:rPr b="0" lang="es-MX" sz="2200" spc="-1" strike="noStrike">
                <a:solidFill>
                  <a:srgbClr val="ea0000"/>
                </a:solidFill>
                <a:latin typeface="Comic Sans MS"/>
              </a:rPr>
              <a:t>PP_2_2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997000"/>
            <a:ext cx="633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 FORMADA POR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NORMAS…(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PP_2_ 2_B1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REGULADORAS DEL SER Y DEL ACTUAR DE 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LA ADMINISTRA- CIÓN DEL ESTADO O ADMI- NISTRACIÓN PÚBLIC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1640" y="189000"/>
            <a:ext cx="432108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2° ELEMENTO DEL CONCEPTO CONSTITUCIONAL DE DERECHO ADMINISTRATIVO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PP_2_2_B1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7777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B_1. LAS NORMAS: EL ORDENAMIENTO JURÍDICO ADMINISTRATIV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CPR., artículo 6°,inc. 1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Concepto de norma jurídica en la CPR. Artículos 113 inc. 1°, 119 inc. 2°: potestades normativas; 32 N°6: reglamentos, y 63, N° 20: es todo acto de general aplicación dictado por las autoridades públicas. Los demás son decisiones y toman los nombres de decretos –supremos- y resoluciones (art. 99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Las normas que conforman el Derecho administrativo son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de nivel constitucional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nivel legal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órgánico constitucional LOCBGAE, LOCGAR, LOCM; de quórum calificado (art. 21, inc. 2°), y ordinario: leyes orgánicas de los servicios públicos,Estatuto Administrativo, LOAFE, LBsPsAds, LBsCsAds,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y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nivel reglamentario: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reglamentos del Presidente de la República, de los Gobiernos Regionales y de las Municipalidades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2° ELEMENTO DEL CONCEPTO CONSTITUCIONAL DE DERECHO ADMINISTRATIVO: NORMAS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23640" y="148428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     </a:t>
            </a: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PROBLEMÁTIC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Del art. 63, N° 20, de la CPR de 1980, en concordancia con el artículo 1° del CC, se desprende que en Chile hay dos definiciones de ley: aquélla, sustancial; ésta, orgánico formal. La vía de desregularización prevista en la Disposición 5ª transitoria, no ha sido implementada por el legislad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El concepto constitucional de ley –art. 60, N° 20-   desfigura la aplicación del reglamento presidencial autónomo –art. 32, N° 6-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 severa interpretación de la reserva legal dispuesta por el artículo 63 de la CPR, hecha por el Tribunal Constitucional,desvaloriza la potestad reglamentaria presidencial de ejecución de la le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-Qué es la reserva legal, la tesis de 199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-La sentencia Rol N° 370-2003: la reserva legal relativa implica un nivel de habilitación de 1er grado; la reserva legal absoluta, un nivel de habilitación de 2° gra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31:54Z</dcterms:modified>
  <cp:revision>70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