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D7A2-632A-4F75-9F3A-7C74A7E7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B137-6FD9-4582-AD95-E84BA5EB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E793-D7D3-4A41-B5F1-911E99A5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93B3-A0E8-4607-8106-0D4E6DEE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4B25-10A1-409C-B55C-4D543BD4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C71A-09E3-4A0D-A55D-EBCED72D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674E-2174-49D7-AAC5-847FC890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175D-4EFE-43AB-8C5E-485BC52B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9AA5-A9DC-4715-98E3-DF809106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4BDC-77DF-45E6-8E25-5D8F3C74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596A-F1F4-4D43-B17C-C0E968D5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A4DF-EBAF-4B08-B9AD-385B6CF9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5EBB-F791-4125-9CAC-E4F48825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702F-3FB7-41B1-ABD4-EFAFAF2A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8078-03C0-4E29-9181-41057057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4442-C2B0-4441-AD3B-0BA0398B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F852-B865-4BC7-A4A0-58FF0593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5873-B051-452F-8D5F-953BDC29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C20-74D4-435D-8479-7387D005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8BAA-44F2-416F-83C5-4C332775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5CE1-2E6D-4F00-B575-A902BB4F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46BB-0B6D-4E5F-AF69-13B29F80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1521-0066-4775-B32A-2B09B57D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7A35-A13D-4F18-B082-DECF888A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4C9C-EBDC-486B-B89F-D9C4361EBD6A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5424-6982-4ABD-9C9F-8297883B289C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148360" y="188640"/>
            <a:ext cx="3744720" cy="143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0000"/>
                </a:solidFill>
                <a:latin typeface="Comic Sans MS"/>
              </a:rPr>
              <a:t>2°</a:t>
            </a:r>
            <a:r>
              <a:rPr b="0" lang="es-MX" sz="2200" spc="-1" strike="noStrike">
                <a:solidFill>
                  <a:srgbClr val="0000e8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ea0000"/>
                </a:solidFill>
                <a:latin typeface="Comic Sans MS"/>
              </a:rPr>
              <a:t>Elemento</a:t>
            </a:r>
            <a:r>
              <a:rPr b="0" lang="es-MX" sz="2200" spc="-1" strike="noStrike">
                <a:solidFill>
                  <a:srgbClr val="ea0000"/>
                </a:solidFill>
                <a:latin typeface="Comic Sans MS"/>
              </a:rPr>
              <a:t> </a:t>
            </a:r>
            <a:r>
              <a:rPr b="0" lang="es-MX" sz="2200" spc="-1" strike="noStrike">
                <a:solidFill>
                  <a:srgbClr val="0000e8"/>
                </a:solidFill>
                <a:latin typeface="Comic Sans MS"/>
              </a:rPr>
              <a:t>del concepto constitucional de Derecho Administrativo: normas y principios</a:t>
            </a:r>
            <a:br>
              <a:rPr sz="2200"/>
            </a:br>
            <a:r>
              <a:rPr b="0" lang="es-MX" sz="2200" spc="-1" strike="noStrike">
                <a:solidFill>
                  <a:srgbClr val="ea0000"/>
                </a:solidFill>
                <a:latin typeface="Comic Sans MS"/>
              </a:rPr>
              <a:t>PP_2_2</a:t>
            </a:r>
            <a:r>
              <a:rPr b="0" lang="es-MX" sz="2200" spc="-1" strike="noStrike">
                <a:solidFill>
                  <a:srgbClr val="0000e8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2997000"/>
            <a:ext cx="633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 FORMADA POR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2800" spc="-1" strike="noStrike">
                <a:solidFill>
                  <a:srgbClr val="ff0000"/>
                </a:solidFill>
                <a:latin typeface="Comic Sans MS"/>
              </a:rPr>
              <a:t>NORMAS…(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PP_2_ 2_B1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REGULADORAS DEL SER Y DEL ACTUAR DE 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LA ADMINISTRA- CIÓN DEL ESTADO O ADMI- NISTRACIÓN PÚBLIC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1640" y="189000"/>
            <a:ext cx="4321080" cy="1079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2° ELEMENTO DEL CONCEPTO CONSTITUCIONAL DE DERECHO ADMINISTRATIVO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PP_2_2_B1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7777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B_1. LAS NORMAS: EL ORDENAMIENTO JURÍDICO ADMINISTRATIV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1</a:t>
            </a: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CPR., artículo 6°,inc. 1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2. Concepto de norma jurídica en la CPR. Artículos 113 inc. 1°, 119 inc. 2°: potestades normativas; 32 N°6: reglamentos, y 63, N° 20: es todo acto de general aplicación dictado por las autoridades públicas. Los demás son decisiones y toman los nombres de decretos –supremos- y resoluciones (art. 99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3. Las normas que conforman el Derecho administrativo son</a:t>
            </a: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de nivel constitucional</a:t>
            </a: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de</a:t>
            </a: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nivel legal</a:t>
            </a: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: 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órgánico constitucional LOCBGAE, LOCGAR, LOCM; de quórum calificado (art. 21, inc. 2°), y ordinario: leyes orgánicas de los servicios públicos,Estatuto Administrativo, LOAFE, LBsPsAds, LBsCsAds,</a:t>
            </a: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 y </a:t>
            </a: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de</a:t>
            </a: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nivel reglamentario: 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reglamentos del Presidente de la República, de los Gobiernos Regionales y de las Municipalidades.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79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2° ELEMENTO DEL CONCEPTO CONSTITUCIONAL DE DERECHO ADMINISTRATIVO: NORMAS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23640" y="1484280"/>
            <a:ext cx="7848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400" spc="-1" strike="noStrike">
                <a:solidFill>
                  <a:srgbClr val="0000e8"/>
                </a:solidFill>
                <a:latin typeface="Comic Sans MS"/>
              </a:rPr>
              <a:t>     </a:t>
            </a:r>
            <a:r>
              <a:rPr b="1" lang="es-MX" sz="1400" spc="-1" strike="noStrike">
                <a:solidFill>
                  <a:srgbClr val="0000e8"/>
                </a:solidFill>
                <a:latin typeface="Comic Sans MS"/>
              </a:rPr>
              <a:t>PROBLEMÁTIC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80000"/>
                </a:solidFill>
                <a:latin typeface="Comic Sans MS"/>
              </a:rPr>
              <a:t>1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. Del art. 63, N° 20, de la CPR de 1980, en concordancia con el artículo 1° del CC, se desprende que en Chile hay dos definiciones de ley: aquélla, sustancial; ésta, orgánico formal. La vía de desregularización prevista en la Disposición 5ª transitoria, no ha sido implementada por el legislado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2. El concepto constitucional de ley –art. 60, N° 20-   desfigura la aplicación del reglamento presidencial autónomo –art. 32, N° 6-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3. La severa interpretación de la reserva legal dispuesta por el artículo 63 de la CPR, hecha por el Tribunal Constitucional,desvaloriza la potestad reglamentaria presidencial de ejecución de la le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-Qué es la reserva legal, la tesis de 1990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-La sentencia Rol N° 370-2003: la reserva legal relativa implica un nivel de habilitación de 1er grado; la reserva legal absoluta, un nivel de habilitación de 2° grad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21:11:44Z</dcterms:created>
  <dc:creator>Rolando Pantoja</dc:creator>
  <dc:description/>
  <dc:language>en-US</dc:language>
  <cp:lastModifiedBy>mrojas</cp:lastModifiedBy>
  <dcterms:modified xsi:type="dcterms:W3CDTF">2008-05-05T16:31:54Z</dcterms:modified>
  <cp:revision>70</cp:revision>
  <dc:subject/>
  <dc:title>CONCEPTO DE DERECHO ADMINISTRATIV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