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6D7-4905-4D7E-AD1D-F5DFBD29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686-42B1-4B77-A40C-1CCAD1DB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960-D9D7-4772-AEE7-3B36B842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FF9-2CB4-4A45-AE15-41797B6D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ADBB-FD07-44F1-BE3A-567F805A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FA99-EDB7-4354-99AE-3568A608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98A8-BFE1-4801-A39D-7D858A52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6A00-83EE-4438-845C-0022E00B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8E9A-8A4A-4A04-8C33-960FE90C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5D63-9A93-4B88-9769-1D7DA41B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4184-053A-4FC3-9D1C-6A07AE8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549-0164-4991-A0B7-72E12DC7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5DA7-EC85-48AE-A600-C48A07E8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B2F1-FB4F-4616-AA94-F319DBE6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755-D63A-4A7D-9515-F784C682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111B-83B2-4CA7-96BD-81580AEF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BD22-05DA-4220-9B0E-C4A46A42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2CB-EF72-42DF-949D-E8F7515E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CCC-ABB2-4548-BA98-C447B9C9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861-F51A-48EE-A864-F9CC4B44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D98-E5CC-4ACD-B9B7-206E470E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46F-7330-4A3B-A537-9C149DDB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C99-8040-45F1-8830-A0E4BF8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B58-0C73-4A1B-8ED6-78623966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AF31-C2D1-49B3-955F-DB91B62707F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72FA-4950-408A-A2CD-BE17847B2BD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744720" cy="143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0000"/>
                </a:solidFill>
                <a:latin typeface="Comic Sans MS"/>
              </a:rPr>
              <a:t>2°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ea0000"/>
                </a:solidFill>
                <a:latin typeface="Comic Sans MS"/>
              </a:rPr>
              <a:t>Elemento</a:t>
            </a:r>
            <a:r>
              <a:rPr b="0" lang="es-MX" sz="2200" spc="-1" strike="noStrike">
                <a:solidFill>
                  <a:srgbClr val="ea0000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del concepto constitucional de Derecho Administrativo: normas y principios</a:t>
            </a:r>
            <a:br>
              <a:rPr sz="2200"/>
            </a:br>
            <a:r>
              <a:rPr b="0" lang="es-MX" sz="2200" spc="-1" strike="noStrike">
                <a:solidFill>
                  <a:srgbClr val="ea0000"/>
                </a:solidFill>
                <a:latin typeface="Comic Sans MS"/>
              </a:rPr>
              <a:t>PP_2_2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997000"/>
            <a:ext cx="633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 FORMADA POR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NORMAS…(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PP_2_ 2_B1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REGULADORAS DEL SER Y DEL ACTUAR DE 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LA ADMINISTRA- CIÓN DEL ESTADO O ADMI- NISTRACIÓN PÚBLIC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1640" y="189000"/>
            <a:ext cx="432108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2° ELEMENTO DEL CONCEPTO CONSTITUCIONAL DE DERECHO ADMINISTRATIVO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PP_2_2_B1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7777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B_1. LAS NORMAS: EL ORDENAMIENTO JURÍDICO ADMINISTRATIV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CPR., artículo 6°,inc. 1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Concepto de norma jurídica en la CPR. Artículos 113 inc. 1°, 119 inc. 2°: potestades normativas; 32 N°6: reglamentos, y 63, N° 20: es todo acto de general aplicación dictado por las autoridades públicas. Los demás son decisiones y toman los nombres de decretos –supremos- y resoluciones (art. 99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Las normas que conforman el Derecho administrativo son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de nivel constitucional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nivel legal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órgánico constitucional LOCBGAE, LOCGAR, LOCM; de quórum calificado (art. 21, inc. 2°), y ordinario: leyes orgánicas de los servicios públicos,Estatuto Administrativo, LOAFE, LBsPsAds, LBsCsAds,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y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nivel reglamentario: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reglamentos del Presidente de la República, de los Gobiernos Regionales y de las Municipalidades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2° ELEMENTO DEL CONCEPTO CONSTITUCIONAL DE DERECHO ADMINISTRATIVO: NORMAS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23640" y="148428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     </a:t>
            </a: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PROBLEMÁTIC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Del art. 63, N° 20, de la CPR de 1980, en concordancia con el artículo 1° del CC, se desprende que en Chile hay dos definiciones de ley: aquélla, sustancial; ésta, orgánico formal. La vía de desregularización prevista en la Disposición 5ª transitoria, no ha sido implementada por el legislad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El concepto constitucional de ley –art. 60, N° 20-   desfigura la aplicación del reglamento presidencial autónomo –art. 32, N° 6-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 severa interpretación de la reserva legal dispuesta por el artículo 63 de la CPR, hecha por el Tribunal Constitucional,desvaloriza la potestad reglamentaria presidencial de ejecución de la le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-Qué es la reserva legal, la tesis de 199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-La sentencia Rol N° 370-2003: la reserva legal relativa implica un nivel de habilitación de 1er grado; la reserva legal absoluta, un nivel de habilitación de 2° gra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31:54Z</dcterms:modified>
  <cp:revision>70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