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E30EE-0E18-4BED-82B9-0B574B3B2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82C2-2B42-46EA-A0DC-0DE9DC15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4BAB2-5715-4182-ADF4-5C4099B9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814F2-29A8-4F6F-B4D1-19827E53F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CDC5F-CBA9-4738-AEEA-8D5B2595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41F58-BBE8-44C6-B4D4-42100405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F59E-2F92-46F2-96D5-3332C6BE4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5ED9A-9CB1-4371-86D7-0F592969A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7B028-5358-4068-9D59-3A0B6A1D0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D8659-17AB-480A-94C4-92771F1D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0526-8FEC-4948-A39B-BDA457190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6C37F-2368-48A0-9671-462435782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F880-C2F8-416F-91A3-4A14F501FCF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620640" y="755640"/>
            <a:ext cx="5545080" cy="832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2000" spc="-1" strike="noStrike">
                <a:solidFill>
                  <a:srgbClr val="000000"/>
                </a:solidFill>
                <a:latin typeface="Arial"/>
              </a:rPr>
              <a:t>LEÓN DUGUIT: </a:t>
            </a:r>
            <a:r>
              <a:rPr b="1" i="1" lang="es-MX" sz="2000" spc="-1" strike="noStrike">
                <a:solidFill>
                  <a:srgbClr val="000000"/>
                </a:solidFill>
                <a:latin typeface="Arial"/>
              </a:rPr>
              <a:t>Las transformaciones del Derecho público,</a:t>
            </a:r>
            <a:r>
              <a:rPr b="1" lang="es-MX" sz="2000" spc="-1" strike="noStrike">
                <a:solidFill>
                  <a:srgbClr val="000000"/>
                </a:solidFill>
                <a:latin typeface="Arial"/>
              </a:rPr>
              <a:t> Edev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a nación posee una personalidad distinta de la de los individuos que la componen. Como tal, tiene una voluntad que naturalmente es superior a las voluntades individuales, pues la colectividad es superior al individu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Esta superioridad es la soberanía o poder público. Constituye un gobierno que la representa, que quiere por ella y que ejerce en su nombre la soberanía, de la que queda siempre titular inmutab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nación soberana y organizada en Gobierno, situada en determinado territorio, es el Esta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No siendo éste sino la nación organizada, es titular de la soberanía, del poder público, que constituye para él un derecho subjetivo. En virtud de este derecho, tiene la potestad de mando sobre los particulares. Las órdenes que emite no son más que el ejercicio de este mismo derech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0640" y="826920"/>
            <a:ext cx="5545080" cy="78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OTTO MAYER: </a:t>
            </a:r>
            <a:r>
              <a:rPr b="1" i="1" lang="es-MX" sz="1800" spc="-1" strike="noStrike">
                <a:solidFill>
                  <a:srgbClr val="000000"/>
                </a:solidFill>
                <a:latin typeface="Arial"/>
              </a:rPr>
              <a:t>Derecho Administrativo Alemán</a:t>
            </a:r>
            <a:r>
              <a:rPr b="1" lang="es-MX" sz="1800" spc="-1" strike="noStrike">
                <a:solidFill>
                  <a:srgbClr val="000000"/>
                </a:solidFill>
                <a:latin typeface="Arial"/>
              </a:rPr>
              <a:t>, tomo I, parte general, Editorial Depalma, Buenos Aires, 1949.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r>
              <a:rPr b="1" lang="es-MX" sz="1800" spc="-1" strike="noStrike">
                <a:solidFill>
                  <a:srgbClr val="000000"/>
                </a:solidFill>
                <a:latin typeface="Arial"/>
              </a:rPr>
              <a:t>La manera por medio de la cual el pueblo ejerce su poder soberano consiste en que él mismo elabora las leyes, es decir, prescribe las reglas generales que en adelante serán obligatorias para todos, incluyendo a los funcionarios del Estado sin excepción, ya sean jueces u otros, comprendido el propio Jefe de Esta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Nadie podrá obrar sino conforme a la voluntad general, es decir, según la le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sí, la potestad del Estado “se reviste a sí misma de formas y rasgos característicos del derecho. El derecho público no significa ya, como en el eufemismo de los antiguos doctores, una esfera en la cual, por oposición a la del derecho civil, no existe derecho cuando se trata de relaciones entre el Estado y el súbdito. Tenemos ante nosotros el hecho de la existencia de un derecho público que se aplica a la Administración al lado de aquel que queda atribuido a las relaciones civiles, y que debe considerarse respecto del Estado como el derecho común que en la duda le es aplicable”.</a:t>
            </a:r>
            <a:r>
              <a:rPr b="0" lang="es-MX" sz="1800" spc="-1" strike="noStrike">
                <a:solidFill>
                  <a:srgbClr val="000000"/>
                </a:solidFill>
                <a:latin typeface="Arial"/>
              </a:rPr>
              <a:t> </a:t>
            </a: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76280" y="395280"/>
            <a:ext cx="5905440" cy="8497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620640" y="755640"/>
            <a:ext cx="55450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7" name=""/>
          <p:cNvSpPr/>
          <p:nvPr/>
        </p:nvSpPr>
        <p:spPr>
          <a:xfrm>
            <a:off x="549360" y="539640"/>
            <a:ext cx="5832360" cy="838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FRITZ FLEINER: </a:t>
            </a:r>
            <a:r>
              <a:rPr b="1" i="1" lang="es-MX" sz="1700" spc="-1" strike="noStrike">
                <a:solidFill>
                  <a:srgbClr val="000000"/>
                </a:solidFill>
                <a:latin typeface="Arial"/>
              </a:rPr>
              <a:t>Instituciones de Derecho Administrativo</a:t>
            </a:r>
            <a:r>
              <a:rPr b="1" lang="es-MX" sz="1700" spc="-1" strike="noStrike">
                <a:solidFill>
                  <a:srgbClr val="000000"/>
                </a:solidFill>
                <a:latin typeface="Arial"/>
              </a:rPr>
              <a:t>, Barcelona, 1933.</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El Derecho administrativo adquiere toda su connotación como disciplina jurídica cuando “el Estado atiende los asuntos administrativos en calidad de poder superior, de soberano, pues en esos casos se hace inaplicable a su respecto el Derecho privado”.</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El Derecho administrativo se caracteriza, justamente por eso, por contener “preceptos de naturaleza jurídico-pública”, los que “presuponen una relación entre partes desiguales”, qué, por lo mismo, autoriza a la  autoridad administrativa para dictar “disposiciones unilaterales, basadas en el poder coercitivo implícitamente contenido en ella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ROGER BONNARD, </a:t>
            </a:r>
            <a:r>
              <a:rPr b="1" i="1" lang="en-US" sz="1700" spc="-1" strike="noStrike">
                <a:solidFill>
                  <a:srgbClr val="000000"/>
                </a:solidFill>
                <a:latin typeface="Arial"/>
              </a:rPr>
              <a:t>Précis de Droit Public</a:t>
            </a:r>
            <a:r>
              <a:rPr b="1" lang="en-US" sz="1700" spc="-1" strike="noStrike">
                <a:solidFill>
                  <a:srgbClr val="000000"/>
                </a:solidFill>
                <a:latin typeface="Arial"/>
              </a:rPr>
              <a:t>, Paris, 1949.</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Las prerrogativas o privilegios de la “puissance publique” son fundamentalmente tres:</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1- El poder jurídico unilateral, que permite a la Administración producir por sí misma, al impulso de su sola voluntad, un efecto de derecho, al margen de todo acuerdo de voluntades. </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2- El privilegio “du préalable” o de la ejecución de oficio, conforme al cuál la Administración se impone directamente sobre los particulares, sin resolución judicial previa que autorice la ejecución, y</a:t>
            </a:r>
            <a:endParaRPr b="0" lang="en-US" sz="17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	</a:t>
            </a:r>
            <a:r>
              <a:rPr b="1" lang="es-MX" sz="1700" spc="-1" strike="noStrike">
                <a:solidFill>
                  <a:srgbClr val="000000"/>
                </a:solidFill>
                <a:latin typeface="Arial"/>
              </a:rPr>
              <a:t>3- La “contrainte” material o uso de la fuerza pública para compeler al remiso a obedecer lo ordenado por las autoridades administrativas, aún contra su voluntad.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49360" y="539640"/>
            <a:ext cx="5904000" cy="8209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755640"/>
            <a:ext cx="5761080" cy="789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	</a:t>
            </a:r>
            <a:r>
              <a:rPr b="1" lang="es-MX" sz="1800" spc="-1" strike="noStrike">
                <a:solidFill>
                  <a:srgbClr val="000000"/>
                </a:solidFill>
                <a:latin typeface="Arial"/>
              </a:rPr>
              <a:t>ANDRÉ DE LAUBADÈRE: </a:t>
            </a:r>
            <a:r>
              <a:rPr b="1" i="1" lang="es-MX" sz="1800" spc="-1" strike="noStrike">
                <a:solidFill>
                  <a:srgbClr val="000000"/>
                </a:solidFill>
                <a:latin typeface="Arial"/>
              </a:rPr>
              <a:t>Traité elementaire de Droit administratif, </a:t>
            </a:r>
            <a:r>
              <a:rPr b="1" lang="es-MX" sz="1800" spc="-1" strike="noStrike">
                <a:solidFill>
                  <a:srgbClr val="000000"/>
                </a:solidFill>
                <a:latin typeface="Arial"/>
              </a:rPr>
              <a:t>volumen I, LGDJ, Paris, 196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Los actos de poder público o de autoridad –actos </a:t>
            </a:r>
            <a:r>
              <a:rPr b="1" i="1" lang="es-MX" sz="2000" spc="-1" strike="noStrike">
                <a:solidFill>
                  <a:srgbClr val="000000"/>
                </a:solidFill>
                <a:latin typeface="Arial"/>
              </a:rPr>
              <a:t>iure imperii- </a:t>
            </a:r>
            <a:r>
              <a:rPr b="1" lang="es-MX" sz="2000" spc="-1" strike="noStrike">
                <a:solidFill>
                  <a:srgbClr val="000000"/>
                </a:solidFill>
                <a:latin typeface="Arial"/>
              </a:rPr>
              <a:t>son aquellos en que los órganos administrativos proceden por medio de órdenes, prohibiciones y reglamentaciones. Son los actos administrativos, de Derecho público, susceptibles de ser impugnados sólo ante la jurisdicción administrativ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on actos de gestión –</a:t>
            </a:r>
            <a:r>
              <a:rPr b="1" i="1" lang="es-MX" sz="2000" spc="-1" strike="noStrike">
                <a:solidFill>
                  <a:srgbClr val="000000"/>
                </a:solidFill>
                <a:latin typeface="Arial"/>
              </a:rPr>
              <a:t>iure gestionis- </a:t>
            </a:r>
            <a:r>
              <a:rPr b="1" lang="es-MX" sz="2000" spc="-1" strike="noStrike">
                <a:solidFill>
                  <a:srgbClr val="000000"/>
                </a:solidFill>
                <a:latin typeface="Arial"/>
              </a:rPr>
              <a:t>aquellos en que los órganos administrativos actúan como lo hace un particular cualquiera en la administración de su patrimonio. Son actos de Derecho privado, sometidos a la judicatura ordinar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La teoría de los actos de autoridad y de gestión ha sido una de las ideas fundamentales sostenidas por los principales autores del siglo XIX. BATBIÉ, DUCROCQ, AUCOC, incluso del mismo LAFERRIÈRRE y BERTHÉLEMY construyeron sobre ella todo el Derecho administrativ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04640" y="395280"/>
            <a:ext cx="6120000" cy="8424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92280" y="755640"/>
            <a:ext cx="5616360" cy="7729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LONG, WEIL, BRAIBANT y otros, </a:t>
            </a:r>
            <a:r>
              <a:rPr b="1" i="1" lang="es-MX" sz="2000" spc="-1" strike="noStrike">
                <a:solidFill>
                  <a:srgbClr val="000000"/>
                </a:solidFill>
                <a:latin typeface="Arial"/>
              </a:rPr>
              <a:t>Les grands arrêts de la jurisprudence administrative</a:t>
            </a:r>
            <a:r>
              <a:rPr b="1" lang="es-MX" sz="2000" spc="-1" strike="noStrike">
                <a:solidFill>
                  <a:srgbClr val="000000"/>
                </a:solidFill>
                <a:latin typeface="Arial"/>
              </a:rPr>
              <a:t>, Sirey, varias ediciones.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rêt Terrier (1903): Doctrina.  </a:t>
            </a:r>
            <a:r>
              <a:rPr b="1" i="1" lang="es-MX" sz="2000" spc="-1" strike="noStrike">
                <a:solidFill>
                  <a:srgbClr val="000000"/>
                </a:solidFill>
                <a:latin typeface="Arial"/>
              </a:rPr>
              <a:t>El contrato de eliminación de animales dañinos dentro de un Departamento, no es un acto de gestión, tampoco es un acto de autoridad, es un acto de “gestión pública”. </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a:t>
            </a:r>
            <a:r>
              <a:rPr b="1" lang="es-MX" sz="2000" spc="-1" strike="noStrike">
                <a:solidFill>
                  <a:srgbClr val="000000"/>
                </a:solidFill>
                <a:latin typeface="Arial"/>
              </a:rPr>
              <a:t>La importancia y celebridad de esta sentencia derivan de los términos en que el Comisario ROMIEU sistematizó los principios que delimitan la competencia contencioso administrativa de la judicial, tanto a nivel nacional como territorial, criterio que mantiene su validez hasta el día de hoy. Data de las conclusiones de ROMIEU esa idea fundamental de que el Derecho administrativo y por consiguiente la juridicción administrativa, se aplican a todos aquellos casos en que la Administración actúa -en beneficio del servicio público- bajo formas exorbitantes al Derecho común.”</a:t>
            </a:r>
            <a:r>
              <a:rPr b="1" lang="es-MX"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2:05:52Z</dcterms:created>
  <dc:creator>Rolando Pantoja</dc:creator>
  <dc:description/>
  <dc:language>en-US</dc:language>
  <cp:lastModifiedBy>mrojas</cp:lastModifiedBy>
  <dcterms:modified xsi:type="dcterms:W3CDTF">2008-05-05T16:30:47Z</dcterms:modified>
  <cp:revision>12</cp:revision>
  <dc:subject/>
  <dc:title>Diapositiva 1</dc:title>
</cp:coreProperties>
</file>