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DB0-FF2B-4817-B581-0F6C6C11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00F-5CAF-436F-932D-4DB8C0D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B25-4FB6-42BE-A685-E2BDCA84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14F-4F1B-47B7-AF4E-E26BB03D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723D-3BBF-4ABC-B53C-F635741B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1B27-E6F7-47C0-9EF5-1411A02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C54A-CEE3-45FC-974D-A0D7A12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A65D-9D20-4097-8477-FB9711F0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42B-1096-4F6B-B803-ABA4F248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0810-8EC2-4637-8829-98EE6D9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01F0-335E-4245-AB23-691E309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4B3-EA8B-49A8-859B-45C5F1F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ACF-AE6B-4B19-ADE9-F675297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76C-8C6A-4FD7-9E66-5DC0741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D68-235D-48DA-845B-85B8D1E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4490-7F4F-4DD4-B73C-349ABCB3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BC31-C5A1-4E7E-9F31-0FE25FB0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6CE-B6A3-4555-B3D5-461E873F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9B6-3AF1-4C27-B61F-827818B9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1B0-246B-4CDC-AFEC-31F377E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1B7-8F89-4150-9807-A4CE7918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FDB-1835-46F4-BFE4-B627298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5A2-4F0B-4215-B71F-3778363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A75-B441-4C63-BC91-7EC78AB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096-97B9-4D4F-A5F6-FF9511B662D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D40D-5446-441F-BCE1-7508FDDA8F0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Primer tema: teorías y concepto constitucional</a:t>
            </a: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ORGÁNICAS O SU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uguitiana. León Dug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jezeana. Gastón Jèz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SUSTANCIALES U O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el Prof. Eduardo Soto Klo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del Prof. Gustavo Fiamma Oliva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LA TESIS CONSTITU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Reforma Constitucional de 199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CONSTITUCIONAL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Segundo Tema: Definición y Elementos de la definición constitucional de DAD</a:t>
            </a: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3284280"/>
            <a:ext cx="6335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DERECHO ADMINISTRATIVO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ORMADA POR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LAS NORMAS Y PRINCIPIO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QUE REGULAN EL SER Y EL ACTUAR DE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- 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Elementos del concepto constitucional de Derecho Administrativo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REGULADORES DEL SER Y DEL ACTUAR DE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LA ADMINISTRA- CIÓN DEL ESTADO O ADMI- NISTRACIÓN PÚBLICA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2349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titular de la soberanía. León Duguit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 Efecto jurídico del Estado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constitucional. Otto Mayer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Administración Pública en el Estado constitucional. El sentido del Derecho administra- tivo.Fritz Fleiner. Las tres prerrogativas del poder público.Roger Bonn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4.  La actuación de la Administración Pública en el Estado constitucional: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imperii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y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gestionis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. André de Laubadère. El acto de gestión pública. Long, Weil, Braibant y otr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acto administrativo es propiamente el acto de autoridad, el decret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6600ff"/>
                </a:solidFill>
                <a:latin typeface="Comic Sans MS"/>
              </a:rPr>
              <a:t>PROBLE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en la actualidad, sigue siendo titular de la soberanía radicada en la nación,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PER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la soberanía no es ya el poder absoluto y perpetuo del 1800 y hasta fines del 1900. CPR., artículo 5°.inciso 2°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La CPR reconoce que </a:t>
            </a:r>
            <a:r>
              <a:rPr b="1" lang="es-MX" sz="1800" spc="-1" strike="noStrike">
                <a:solidFill>
                  <a:srgbClr val="ea0000"/>
                </a:solidFill>
                <a:latin typeface="Comic Sans MS"/>
              </a:rPr>
              <a:t>N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hay “poderes del Estado”, sino que el poder del Estado es uno solo, que se ejerce por “órganos del Estado”.CPR,art. 5°.1. Entre estos órganos están las autonomías constitucionales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preeminencia de los derechos de las personas y las formas asociativas supranacionales con poderes de decisión obligatorios para los Estado, cuestionan la vigencia de las bases del “Estado nacional”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1.LAS NORMAS: EL ORDENAMIENTO JURÍDIC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CPR., artículo 6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32 N° 8; 113 inc. 2°, y 119 inc. 2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: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NORMA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Hay dos definiciones de ley. Incumplimiento de la Disposición 5ª transitori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y la desfiguración del reglamento presidencial autónom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 hecha por el Tribunal Constitucional en perjuicio de la potestad reglamentaria presidencia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2.LOS PRINCIPIOS JURÍDICO ADMINISTRA-TIV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31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