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2E3A-B1E6-48F9-9D09-27CD56E8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4C8-6F32-4AF9-9E72-5E5CFAC9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AF41-A9C4-498D-B584-6A770C5E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F24-43BE-4A16-9D9E-8A69F20E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4E8B-685B-492F-A403-A6E6645F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4E18-AB19-4BDE-871B-A1DBF715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87FB-9E57-4AD9-80BD-6CC9364F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84CA-48BD-417A-88EA-F5ACCDD4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D2D9-7308-4176-827E-02E82D7C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49D4-E3E5-4762-8AEA-2F4E34DC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AF9C-620E-440E-AA54-C129E481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477-A47D-4B13-9FDB-C0591F20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5C7E-D95F-41CA-9E7A-28752CEC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3CFA-3F50-413D-A376-BE938535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9724-9608-499F-A9AC-E7E9FB73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230A-2095-4ACC-95EF-F84528B5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4D22-1192-4322-B7B9-FBA96ED6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867-22DD-4D5D-82CA-0457FBCF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EB0F-EF30-48A1-8F6E-BDD28651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183-644D-411A-904E-26CD1F67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BB05-FA4B-4BE5-BFCB-7EA894EC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6E6-416F-464E-9938-BB4A7DFB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104-182C-4C9B-9511-B652DFF3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C110-FD7E-44A3-9428-41A1524A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D139-BC24-4156-B12D-5CC567537F57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7752-47BB-405D-A50F-3EDEE078BA31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3816360" cy="1152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1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2492280"/>
            <a:ext cx="59022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TEORÍAS QUE EXPLICAN QUÉ ES EL DERECHO ADMINISTRATIVO EN CHI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A DEFINICIÓN CONSTITUCIONAL DE DERECHO ADMINISTRA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EMENT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isciplina del Derecho Públic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Formada por normas y principi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egula el ser y el actuar de la Administración Pública o Administra- ción del Estad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381636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br>
              <a:rPr sz="2000"/>
            </a:br>
            <a:r>
              <a:rPr b="0" lang="es-MX" sz="2000" spc="-1" strike="noStrike">
                <a:solidFill>
                  <a:srgbClr val="ea0000"/>
                </a:solidFill>
                <a:latin typeface="Comic Sans MS"/>
              </a:rPr>
              <a:t>Primer tema: teorías y concepto constitucional</a:t>
            </a:r>
            <a:br>
              <a:rPr sz="2000"/>
            </a:b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2492280"/>
            <a:ext cx="59022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spcBef>
                <a:spcPts val="499"/>
              </a:spcBef>
              <a:buClr>
                <a:srgbClr val="3333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Comic Sans MS"/>
              </a:rPr>
              <a:t>TEORÍAS ORGÁNICAS O SUBJETIV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. La tesis duguitiana. León Dugu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2. La tesis jezeana. Gastón Jèz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spcBef>
                <a:spcPts val="499"/>
              </a:spcBef>
              <a:buClr>
                <a:srgbClr val="3333ff"/>
              </a:buClr>
              <a:buFont typeface="Comic Sans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Comic Sans MS"/>
              </a:rPr>
              <a:t>TEORÍAS SUSTANCIALES U OBJETIV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. La tesis del Prof. Eduardo Soto Klo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2. La tesis del Prof. Gustavo Fiamma Olivar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spcBef>
                <a:spcPts val="499"/>
              </a:spcBef>
              <a:buClr>
                <a:srgbClr val="3333ff"/>
              </a:buClr>
              <a:buFont typeface="Comic Sans MS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Comic Sans MS"/>
              </a:rPr>
              <a:t>LA TESIS CONSTITUCIO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. La Reforma Constitucional de 199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2. La LOCBGAE, artículo 3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2303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CONSTITUCIONAL DE DERECHO ADMINISTRATIVO</a:t>
            </a:r>
            <a:br>
              <a:rPr sz="2000"/>
            </a:br>
            <a:r>
              <a:rPr b="0" lang="es-MX" sz="2000" spc="-1" strike="noStrike">
                <a:solidFill>
                  <a:srgbClr val="ea0000"/>
                </a:solidFill>
                <a:latin typeface="Comic Sans MS"/>
              </a:rPr>
              <a:t>Segundo Tema: Definición y Elementos de la definición constitucional de DAD</a:t>
            </a: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549080" y="3284280"/>
            <a:ext cx="6335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DERECHO ADMINISTRATIVO ES UNA DISCIPLINA DEL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DERECHO PÚBLIC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FORMADA POR </a:t>
            </a: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LAS NORMAS Y PRINCIPIOS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QUE REGULAN EL SER Y EL ACTUAR DE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LA ADMINISTRACIÓN DEL ES- TADO O ADMINISTRACIÓN PÚBLIC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2303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 </a:t>
            </a: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br>
              <a:rPr sz="2200"/>
            </a:br>
            <a:r>
              <a:rPr b="0" lang="es-MX" sz="2200" spc="-1" strike="noStrike">
                <a:solidFill>
                  <a:srgbClr val="ea0000"/>
                </a:solidFill>
                <a:latin typeface="Comic Sans MS"/>
              </a:rPr>
              <a:t>Elementos del concepto constitucional de Derecho Administrativo</a:t>
            </a: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49080" y="2997000"/>
            <a:ext cx="633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ES UNA DISCIPLINA DEL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DERECHO PÚBLIC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FORMADA POR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NORMAS Y PRINCI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REGULADORES DEL SER Y DEL ACTUAR DE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LA ADMINISTRA- CIÓN DEL ESTADO O ADMI- NISTRACIÓN PÚBLICA</a:t>
            </a:r>
            <a:r>
              <a:rPr b="1" lang="es-MX" sz="2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55640" y="2349000"/>
            <a:ext cx="71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ES UNA DISCIPLINA DEL 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DERECHO PÚBLI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1. 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El Estado, titular de la soberanía. León Duguit.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2.  Efecto jurídico del Estado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constitucional. Otto Mayer.</a:t>
            </a: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3. La Administración Pública en el Estado constitucional. El sentido del Derecho administra- tivo.Fritz Fleiner. Las tres prerrogativas del poder público.Roger Bonnar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4.  La actuación de la Administración Pública en el Estado constitucional: los actos </a:t>
            </a:r>
            <a:r>
              <a:rPr b="1" i="1" lang="es-MX" sz="1800" spc="-1" strike="noStrike">
                <a:solidFill>
                  <a:srgbClr val="0000e8"/>
                </a:solidFill>
                <a:latin typeface="Comic Sans MS"/>
              </a:rPr>
              <a:t>iure imperii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 y los actos </a:t>
            </a:r>
            <a:r>
              <a:rPr b="1" i="1" lang="es-MX" sz="1800" spc="-1" strike="noStrike">
                <a:solidFill>
                  <a:srgbClr val="0000e8"/>
                </a:solidFill>
                <a:latin typeface="Comic Sans MS"/>
              </a:rPr>
              <a:t>iure gestionis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. André de Laubadère. El acto de gestión pública. Long, Weil, Braibant y otro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El acto administrativo es propiamente el acto de autoridad, el decret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55640" y="2205000"/>
            <a:ext cx="7129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ES UNA DISCIPLINA DEL 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DERECHO PÚBLI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6600ff"/>
                </a:solidFill>
                <a:latin typeface="Comic Sans MS"/>
              </a:rPr>
              <a:t>PROBLEMÁTIC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1.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El Estado, en la actualidad, sigue siendo titular de la soberanía radicada en la nación, 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PERO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 la soberanía no es ya el poder absoluto y perpetuo del 1800 y hasta fines del 1900. CPR., artículo 5°.inciso 2°.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2. La CPR reconoce que </a:t>
            </a:r>
            <a:r>
              <a:rPr b="1" lang="es-MX" sz="1800" spc="-1" strike="noStrike">
                <a:solidFill>
                  <a:srgbClr val="ea0000"/>
                </a:solidFill>
                <a:latin typeface="Comic Sans MS"/>
              </a:rPr>
              <a:t>NO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 hay “poderes del Estado”, sino que el poder del Estado es uno solo, que se ejerce por “órganos del Estado”.CPR,art. 5°.1. Entre estos órganos están las autonomías constitucionales.</a:t>
            </a: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3. La preeminencia de los derechos de las personas y las formas asociativas supranacionales con poderes de decisión obligatorios para los Estado, cuestionan la vigencia de las bases del “Estado nacional”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99640" y="2276280"/>
            <a:ext cx="698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FORMADA POR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NORMAS Y PRINCIPI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1.LAS NORMAS: EL ORDENAMIENTO JURÍDICO ADMINISTRATIV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CPR., artículo 6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2. Concepto de norma jurídica en la CPR. Artículos 32 N° 8; 113 inc. 2°, y 119 inc. 2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3. Las normas que conforman el Derecho administrativo: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de nivel constitucional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de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nivel legal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: 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órgánico constitucional LOCBGAE, LOCGAR, LOCM; de quórum calificado (art. 21, inc. 2°), y ordinario: leyes orgánicas de los servicios públicos,Estatuto Administrativo, LOAFE, LBsPsAds, LBsCsAds,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de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nivel reglamentario: 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reglamentos del Presidente de la República, de los Gobiernos Regionales y de las Municipalidades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99640" y="2276280"/>
            <a:ext cx="698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  FORMADA POR 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NORMAS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     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PROBLEMÁT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. Hay dos definiciones de ley. Incumplimiento de la Disposición 5ª transitori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2. El concepto constitucional de ley y la desfiguración del reglamento presidencial autónom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3. La severa interpretación de la reserva legal  hecha por el Tribunal Constitucional en perjuicio de la potestad reglamentaria presidencial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-Qué es la reserva legal, la tesis de 199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-La sentencia Rol N° 370-2003: la reserva legal relativa implica un nivel de habilitación de 1er grado; la reserva legal absoluta, un nivel de habilitación de 2° gra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115640" y="2276280"/>
            <a:ext cx="69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FORMADA POR </a:t>
            </a: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NORMAS Y PRINCIPI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2.LOS PRINCIPIOS JURÍDICO ADMINISTRA-TIV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Los Principios Clásic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1. Autorid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2. Legalid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3. Responsabilid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4.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5. Justiciabilidad.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2. El Principio Pos Moderno: la Servicialidad. Los servicios públic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3. Los Principios Contemporáneos: LOCBGAE, artículo 3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21:11:44Z</dcterms:created>
  <dc:creator>Rolando Pantoja</dc:creator>
  <dc:description/>
  <dc:language>en-US</dc:language>
  <cp:lastModifiedBy>mrojas</cp:lastModifiedBy>
  <dcterms:modified xsi:type="dcterms:W3CDTF">2008-05-05T16:29:31Z</dcterms:modified>
  <cp:revision>52</cp:revision>
  <dc:subject/>
  <dc:title>CONCEPTO DE DERECHO ADMINISTRATI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