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E22-4352-47EE-B0B7-682BF92A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FE7-5C28-4CCA-A89B-CCDA4A0E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251-5109-4EC4-B829-232FD305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57B-A422-434D-B7C2-C8F0E199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500E-0889-4397-A05D-9C7DE496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DF9-0644-4FE5-B2D8-7D27190F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9378-3014-4F27-BCA2-8BA91795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F48A-5E49-4C94-A12C-69DC96B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E1E9-2F8A-4DAD-856B-E985540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8CFB-0A24-449E-B97B-3F191741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C1E6-03B5-456B-8356-9FD8753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533-33A0-4BFC-B983-09E01F18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418A-7623-4BCD-9F69-6B43899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5D9E-D06A-4689-982D-C16F2DA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819A-C11C-4EC9-9A98-8BB59BEE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7EA5-BE6C-4E54-9F03-27E93CB2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2403-7C91-4819-B50B-25048C67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448-9FC5-4988-A359-B4F98D92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800-4E41-407F-8B10-A2C8B8F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A8D-87A6-4603-AD6F-F4760A8C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D24-7E12-4C02-A69D-ACC0CE50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DF8-9245-4B75-B80C-1F5A692C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C86-E2C6-4BDE-A9F1-B558B766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5F0-9660-4AE0-B4AE-080BB1E9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C115-4715-4B01-A842-F96DD054600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AE1-6398-4987-B5EC-29A9BC06B45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Primer tema: teorías y concepto constitucional</a:t>
            </a:r>
            <a:br>
              <a:rPr sz="2000"/>
            </a:b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ORGÁNICAS O SU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uguitiana. León Dugu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jezeana. Gastón Jèz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SUSTANCIALES U O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el Prof. Eduardo Soto Klo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del Prof. Gustavo Fiamma Oliva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LA TESIS CONSTITU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Reforma Constitucional de 199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CONSTITUCIONAL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Segundo Tema: Definición y Elementos de la definición constitucional de DAD</a:t>
            </a: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49080" y="3284280"/>
            <a:ext cx="6335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DERECHO ADMINISTRATIVO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ORMADA POR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LAS NORMAS Y PRINCIPIOS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QUE REGULAN EL SER Y EL ACTUAR DE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- 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200"/>
            </a:b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Elementos del concepto constitucional de Derecho Administrativo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2997000"/>
            <a:ext cx="633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FORMADA POR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REGULADORES DEL SER Y DEL ACTUAR DE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LA ADMINISTRA- CIÓN DEL ESTADO O ADMI- NISTRACIÓN PÚBLICA</a:t>
            </a: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5640" y="234900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titular de la soberanía. León Duguit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 Efecto jurídico del Estado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constitucional. Otto Mayer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Administración Pública en el Estado constitucional. El sentido del Derecho administra- tivo.Fritz Fleiner. Las tres prerrogativas del poder público.Roger Bonn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4.  La actuación de la Administración Pública en el Estado constitucional: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imperii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y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gestionis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. André de Laubadère. El acto de gestión pública. Long, Weil, Braibant y otr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acto administrativo es propiamente el acto de autoridad, el decret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7129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6600ff"/>
                </a:solidFill>
                <a:latin typeface="Comic Sans MS"/>
              </a:rPr>
              <a:t>PROBLEMÁTIC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en la actualidad, sigue siendo titular de la soberanía radicada en la nación,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PER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la soberanía no es ya el poder absoluto y perpetuo del 1800 y hasta fines del 1900. CPR., artículo 5°.inciso 2°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La CPR reconoce que </a:t>
            </a:r>
            <a:r>
              <a:rPr b="1" lang="es-MX" sz="1800" spc="-1" strike="noStrike">
                <a:solidFill>
                  <a:srgbClr val="ea0000"/>
                </a:solidFill>
                <a:latin typeface="Comic Sans MS"/>
              </a:rPr>
              <a:t>N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hay “poderes del Estado”, sino que el poder del Estado es uno solo, que se ejerce por “órganos del Estado”.CPR,art. 5°.1. Entre estos órganos están las autonomías constitucionales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preeminencia de los derechos de las personas y las formas asociativas supranacionales con poderes de decisión obligatorios para los Estado, cuestionan la vigencia de las bases del “Estado nacional”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1.LAS NORMAS: EL ORDENAMIENTO JURÍDIC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CPR., artículo 6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Concepto de norma jurídica en la CPR. Artículos 32 N° 8; 113 inc. 2°, y 119 inc. 2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s normas que conforman el Derecho administrativo: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 nivel constitucion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leg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órgánico constitucional LOCBGAE, LOCGAR, LOCM; de quórum calificado (art. 21, inc. 2°), y ordinario: leyes orgánicas de los servicios públicos,Estatuto Administrativo, LOAFE, LBsPsAds, LBsCsAds,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reglamentario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reglamentos del Presidente de la República, de los Gobiernos Regionales y de las Municipalidades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NORMAS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    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ROBLEMÁ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Hay dos definiciones de ley. Incumplimiento de la Disposición 5ª transitori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El concepto constitucional de ley y la desfiguración del reglamento presidencial autónom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 severa interpretación de la reserva legal  hecha por el Tribunal Constitucional en perjuicio de la potestad reglamentaria presidencia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-Qué es la reserva legal, la tesis de 199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-La sentencia Rol N° 370-2003: la reserva legal relativa implica un nivel de habilitación de 1er grado; la reserva legal absoluta, un nivel de habilitación de 2° gr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5640" y="227628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2.LOS PRINCIPIOS JURÍDICO ADMINISTRA-TIV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Los Principios Clásic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. Autor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Lega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Responsabi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4.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5. Justiciabilidad.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El Principio Pos Moderno: la Servicialidad. Los servicios públic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Los Principios Contemporáneos: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31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