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77C-FA43-42E1-9CFB-1BBCE015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6CE-3E3D-437E-84CB-45BFF5E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488-D20A-464F-BADE-E4DA4EBA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FBC-D53E-4038-8BC7-E6AA3BB9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5C8E-9BD8-4E5B-A88F-18FFD10D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E948-BA1A-462A-8CDE-F22209F0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3221-BD3E-42A0-A7B5-796BD7F3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099C-1F62-416C-B8B7-1C651AF5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C364-AE85-4420-80B3-638251E1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0FC2-F27B-48BC-8904-88B8348B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157E-EF53-4B93-B743-07CAA164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A89-D9CA-4EE2-9927-685793AE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1C70-6CD7-4C98-A9B2-ACCB3BB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2A6B-A059-48A5-871B-0C37E6B2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6F2C-F302-4214-9775-2364A577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CE43-09B9-4985-83CC-C06724C8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70B-BABD-44F3-80F2-B8CF79D9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725-E4B4-4A89-96CC-638896D5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343-CEFC-45CB-8217-D0C136CA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CD6-3C0B-48CA-9F9E-91B33156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725-FEC4-4DC9-8130-B37315F6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9B3-F808-4C22-9EF5-CFA1022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E4D-0359-4480-A326-8BC59DA3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9E6-D420-4568-A55E-19621661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A1F-F3CE-4C63-BD92-0D84BF0EE6A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E175-0231-4DD3-8C1C-BD973B480E9D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DERECHO ADMINISTRATIVO</a:t>
            </a:r>
            <a:br>
              <a:rPr sz="2400"/>
            </a:br>
            <a:r>
              <a:rPr b="0" lang="es-MX" sz="1200" spc="-1" strike="noStrike">
                <a:solidFill>
                  <a:srgbClr val="0000e8"/>
                </a:solidFill>
                <a:latin typeface="Comic Sans MS"/>
              </a:rPr>
              <a:t>RPB-Otoño 2008</a:t>
            </a: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335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urso constará de tres grandes par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Prim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Concepto de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Segund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Terc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os sujetos de derecho en el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Se desarrollan a continuació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2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A ADMINISTRACIÓN DEL ESTADO O ADMINISTRACIÓN PÚBLIC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DEL ESTADO O ADMINISTRACIÓN PÚBLICA NACE CON EL ESTADO MODERNO CONSTITUCION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PUEDE SER CARACTERIZADA DESDE EL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PUNTO DE VISTA FUNCIONAL,MATERIAL U OBJETIVO,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Y DESDE EL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UNTO DE VISTA ORGÁNICO O SUBJETIVO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CARACTERIZADA DESDE EL PUNTO DE VISTA FUNCIONAL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func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gest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DESDE EL PUNTO DE VISTA ORGÁNIC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Reforma Constitucional de 1991: las tres grandes leyes orgánicas constitucionales. La LOCBGAE, la LOCG y AR, la LOC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Importancia  de los artículos 1° y 21 de la L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os servicios públicos de fuente legal: el Título I, #1, de la LA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3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OS SUJETOS DE DERECHO EN EL DERECHO 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A ADMINISTRACIÓN DEL ESTADO O ADMINISTRACIÓN PÚBLICA COMO SUJETO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las personas administr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hechos, actos y contratos administr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PARTICULARE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persona y grupos de person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2. Su actuar: solicitudes, denuncias, reclamos, accion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FUNCIONARIOS PÚBLICO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sentido amplio, sentido restringi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El Estatut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50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