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577E-2A57-462B-BF19-E6877833B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93F0-4A2D-48BD-9845-E325122F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CF22-6D8D-4AC9-950D-B2EA15BA2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380D-9AB8-4D43-87BC-85E1CE918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D2D6-05B7-4631-80C9-2234DAD84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7C78-17AC-451F-AAAC-7D69DE12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D242-E9F6-4C8E-9ECC-E39AC7DD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5EC4-A204-421B-A586-61955044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0911-2513-4C35-A7E5-75BDD8C0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1E4E-91B4-4CBE-A0F9-7CAFBC9F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C74C-765C-44EA-9D60-AF1FF4DB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C53D-C295-4337-8C72-EF2E8CE7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9D84-9651-4AF4-858A-7209461C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2F58-D863-4DF8-A465-BC95D9E5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61A8-5181-45D9-BEC9-034197B8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A59E-4A6A-41D2-8BD8-32E968A05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AB4F-F3B5-4238-8C12-A2D0BBA15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B6B9-E1DF-4A71-B610-C33C8837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AA58-AC0E-4E18-B119-AAF15918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873B-1FF8-4C93-ACBF-8061126F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5A77-5ACE-4070-9BE5-AEDAAB42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4665-E014-4552-AA11-5370BF5F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502D-B886-4272-940B-F1F7BA99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3635-E091-41BE-B7F6-88C02F9F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2873-6A87-43F8-A7ED-3212BC6AE090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CF44-8515-48FC-805F-238FB5CE9E00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148360" y="188640"/>
            <a:ext cx="3744720" cy="1368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e8"/>
                </a:solidFill>
                <a:latin typeface="Comic Sans MS"/>
              </a:rPr>
              <a:t> </a:t>
            </a:r>
            <a:r>
              <a:rPr b="0" lang="es-MX" sz="2400" spc="-1" strike="noStrike">
                <a:solidFill>
                  <a:srgbClr val="0000e8"/>
                </a:solidFill>
                <a:latin typeface="Comic Sans MS"/>
              </a:rPr>
              <a:t>DERECHO ADMINISTRATIVO</a:t>
            </a:r>
            <a:br>
              <a:rPr sz="2400"/>
            </a:br>
            <a:r>
              <a:rPr b="0" lang="es-MX" sz="1200" spc="-1" strike="noStrike">
                <a:solidFill>
                  <a:srgbClr val="0000e8"/>
                </a:solidFill>
                <a:latin typeface="Comic Sans MS"/>
              </a:rPr>
              <a:t>RPB-Otoño 2008</a:t>
            </a:r>
            <a:endParaRPr b="0" lang="en-US" sz="1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2565000"/>
            <a:ext cx="63356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EL 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curso constará de tres grandes part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e8"/>
                </a:solidFill>
                <a:latin typeface="Comic Sans MS"/>
              </a:rPr>
              <a:t>Primera Parte: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 Concepto de Derecho Administrativ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e8"/>
                </a:solidFill>
                <a:latin typeface="Comic Sans MS"/>
              </a:rPr>
              <a:t>Segunda Parte: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 La Administración del Estado o Administración Públic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e8"/>
                </a:solidFill>
                <a:latin typeface="Comic Sans MS"/>
              </a:rPr>
              <a:t>Tercera Parte: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 Los sujetos de derecho en el Derecho Administrativ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Se desarrollan a continuació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716000" y="260280"/>
            <a:ext cx="3816360" cy="1152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omic Sans MS"/>
              </a:rPr>
              <a:t>1ª Parte</a:t>
            </a:r>
            <a:br>
              <a:rPr sz="4000"/>
            </a:br>
            <a:r>
              <a:rPr b="0" lang="es-MX" sz="2000" spc="-1" strike="noStrike">
                <a:solidFill>
                  <a:srgbClr val="0000e8"/>
                </a:solidFill>
                <a:latin typeface="Comic Sans MS"/>
              </a:rPr>
              <a:t>CONCEPTO DE DERECHO ADMINISTRATIVO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549080" y="2492280"/>
            <a:ext cx="59022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TEORÍAS QUE EXPLICAN QUÉ ES EL DERECHO ADMINISTRATIVO EN CHI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LA DEFINICIÓN CONSTITUCIONAL DE DERECHO ADMINISTRATIV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ELEMENTO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Disciplina del Derecho Públic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Formada por normas y principi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Regula el ser y el actuar de la Administración Pública o Administra- ción del Estad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16000" y="259920"/>
            <a:ext cx="4032360" cy="1513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omic Sans MS"/>
              </a:rPr>
              <a:t>2ª Parte</a:t>
            </a:r>
            <a:br>
              <a:rPr sz="4000"/>
            </a:br>
            <a:r>
              <a:rPr b="0" lang="es-MX" sz="2000" spc="-1" strike="noStrike">
                <a:solidFill>
                  <a:srgbClr val="0000e8"/>
                </a:solidFill>
                <a:latin typeface="Comic Sans MS"/>
              </a:rPr>
              <a:t>LA ADMINISTRACIÓN DEL ESTADO O ADMINISTRACIÓN PÚBLICA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186920" y="2420640"/>
            <a:ext cx="648036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LA ADMINISTRACIÓN DEL ESTADO O ADMINISTRACIÓN PÚBLICA NACE CON EL ESTADO MODERNO CONSTITUCIONAL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PUEDE SER CARACTERIZADA DESDE EL </a:t>
            </a:r>
            <a:r>
              <a:rPr b="1" lang="es-MX" sz="1600" spc="-1" strike="noStrike">
                <a:solidFill>
                  <a:srgbClr val="ff0000"/>
                </a:solidFill>
                <a:latin typeface="Comic Sans MS"/>
              </a:rPr>
              <a:t>PUNTO DE VISTA FUNCIONAL,MATERIAL U OBJETIVO,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 Y DESDE EL </a:t>
            </a:r>
            <a:r>
              <a:rPr b="1" lang="es-MX" sz="1600" spc="-1" strike="noStrike">
                <a:solidFill>
                  <a:srgbClr val="0000e8"/>
                </a:solidFill>
                <a:latin typeface="Comic Sans MS"/>
              </a:rPr>
              <a:t>PUNTO DE VISTA ORGÁNICO O SUBJETIVO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LA ADMINISTRACIÓN PÚBLICA CARACTERIZADA DESDE EL PUNTO DE VISTA FUNCIONAL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La Administración función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La Administración gestión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LA ADMINISTRACIÓN PÚBLICA DESDE EL PUNTO DE VISTA ORGÁNICO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La Reforma Constitucional de 1991: las tres grandes leyes orgánicas constitucionales. La LOCBGAE, la LOCG y AR, la LOCM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Importancia  de los artículos 1° y 21 de la LOCBGAE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Los servicios públicos de fuente legal: el Título I, #1, de la LAOCBGAE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716000" y="259920"/>
            <a:ext cx="4032360" cy="1513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omic Sans MS"/>
              </a:rPr>
              <a:t>3ª Parte</a:t>
            </a:r>
            <a:br>
              <a:rPr sz="4000"/>
            </a:br>
            <a:r>
              <a:rPr b="0" lang="es-MX" sz="2000" spc="-1" strike="noStrike">
                <a:solidFill>
                  <a:srgbClr val="0000e8"/>
                </a:solidFill>
                <a:latin typeface="Comic Sans MS"/>
              </a:rPr>
              <a:t>LOS SUJETOS DE DERECHO EN EL DERECHO  ADMINISTRATIVO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186920" y="2420640"/>
            <a:ext cx="648036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e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a0000"/>
                </a:solidFill>
                <a:latin typeface="Comic Sans MS"/>
              </a:rPr>
              <a:t>LA ADMINISTRACIÓN DEL ESTADO O ADMINISTRACIÓN PÚBLICA COMO SUJETO DE DERECHO ADMINISTRATIVO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Su ser: las personas administrativ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Su actuar: hechos, actos y contratos administrativ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e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a0000"/>
                </a:solidFill>
                <a:latin typeface="Comic Sans MS"/>
              </a:rPr>
              <a:t>LOS PARTICULARES COMO SUJETOS DE DERECHO ADMINISTRATIVO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Su ser: persona y grupos de persona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2. Su actuar: solicitudes, denuncias, reclamos, accion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ea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a0000"/>
                </a:solidFill>
                <a:latin typeface="Comic Sans MS"/>
              </a:rPr>
              <a:t>LOS FUNCIONARIOS PÚBLICOS COMO SUJETOS DE DERECHO ADMINISTRATIVO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Su ser: sentido amplio, sentido restringid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Su actuar: El Estatuto Administrativ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21:11:44Z</dcterms:created>
  <dc:creator>Rolando Pantoja</dc:creator>
  <dc:description/>
  <dc:language>en-US</dc:language>
  <cp:lastModifiedBy>mrojas</cp:lastModifiedBy>
  <dcterms:modified xsi:type="dcterms:W3CDTF">2008-05-05T16:29:50Z</dcterms:modified>
  <cp:revision>52</cp:revision>
  <dc:subject/>
  <dc:title>CONCEPTO DE DERECHO ADMINISTRATIV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