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372-41EC-40B1-B75A-5CFD0686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8F3-5A17-4E58-88BB-71D369EC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69B-6862-4E20-80DE-C8B20DA1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EC5-8675-41EE-8BDC-97DE2F7C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AE02-D98F-40DF-A952-316C0C74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4656-BA3E-4D5C-B5EF-588389F0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BA49-7A69-4920-AC51-37022D96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BBC4-82A3-4BD7-A7DC-4F8DDF26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0187-7453-4995-BEB5-C80ACB79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279D-D4F2-4320-80C8-8A3F0C74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55C9-EE22-4B32-AB9C-AE2AEFDC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00B-43F0-424D-B77F-D6A3C64C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2C89-ACC5-4182-BAE8-8765B824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B9C6-8830-46C2-9D2D-2E4C963C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320F-3970-4C5E-B238-6E4F6AE2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3C65-0F57-436F-9F1C-D0F36F4A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5DAF-5712-4181-8E77-ED2E8F73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DE6-3332-4034-9095-F19BB40D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C8B9-2DA1-416A-B7AF-F63E2FEB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E6A2-DEB1-41C7-9810-7750793F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DAE-0981-4DC4-9949-5F02283E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40D-0986-46C0-97C9-52907773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CF99-FDED-4C06-A9E6-10FF7C14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A062-FCE3-4D6F-BD48-9C74E7D1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B57C-C3FA-4BB4-A68F-8885A5671BD8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F5FE-FB3D-463A-B4AD-738452BACDF8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148360" y="188640"/>
            <a:ext cx="3744720" cy="136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e8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0000e8"/>
                </a:solidFill>
                <a:latin typeface="Comic Sans MS"/>
              </a:rPr>
              <a:t>DERECHO ADMINISTRATIVO</a:t>
            </a:r>
            <a:br>
              <a:rPr sz="2400"/>
            </a:br>
            <a:r>
              <a:rPr b="0" lang="es-MX" sz="1200" spc="-1" strike="noStrike">
                <a:solidFill>
                  <a:srgbClr val="0000e8"/>
                </a:solidFill>
                <a:latin typeface="Comic Sans MS"/>
              </a:rPr>
              <a:t>RPB-Otoño 2008</a:t>
            </a:r>
            <a:endParaRPr b="0" lang="en-US" sz="1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2565000"/>
            <a:ext cx="63356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curso constará de tres grandes part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Primera Parte: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Concepto de Derecho Administrativ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Segunda Parte: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La Administración del Estado o Administración Públic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Tercera Parte: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Los sujetos de derecho en el Derecho Administrativ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Se desarrollan a continuació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0" y="260280"/>
            <a:ext cx="3816360" cy="1152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1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CONCEPTO DE DERECHO ADMINISTRATIVO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2492280"/>
            <a:ext cx="59022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TEORÍAS QUE EXPLICAN QUÉ ES EL DERECHO ADMINISTRATIVO EN CHI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A DEFINICIÓN CONSTITUCIONAL DE DERECHO ADMINISTRA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LEMENT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isciplina del Derecho Públic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Formada por normas y principi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egula el ser y el actuar de la Administración Pública o Administra- ción del Estad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16000" y="259920"/>
            <a:ext cx="4032360" cy="1513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2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LA ADMINISTRACIÓN DEL ESTADO O ADMINISTRACIÓN PÚBLICA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86920" y="2420640"/>
            <a:ext cx="64803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DEL ESTADO O ADMINISTRACIÓN PÚBLICA NACE CON EL ESTADO MODERNO CONSTITUCIONAL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PUEDE SER CARACTERIZADA DESDE EL </a:t>
            </a: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PUNTO DE VISTA FUNCIONAL,MATERIAL U OBJETIVO,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Y DESDE EL 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PUNTO DE VISTA ORGÁNICO O SUBJETIVO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PÚBLICA CARACTERIZADA DESDE EL PUNTO DE VISTA FUNCIONAL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funció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gestió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ADMINISTRACIÓN PÚBLICA DESDE EL PUNTO DE VISTA ORGÁNIC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a Reforma Constitucional de 1991: las tres grandes leyes orgánicas constitucionales. La LOCBGAE, la LOCG y AR, la LOC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Importancia  de los artículos 1° y 21 de la LOCBGA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Los servicios públicos de fuente legal: el Título I, #1, de la LAOCBGA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16000" y="259920"/>
            <a:ext cx="4032360" cy="1513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3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LOS SUJETOS DE DERECHO EN EL DERECHO  ADMINISTRATIVO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186920" y="2420640"/>
            <a:ext cx="64803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e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0000"/>
                </a:solidFill>
                <a:latin typeface="Comic Sans MS"/>
              </a:rPr>
              <a:t>LA ADMINISTRACIÓN DEL ESTADO O ADMINISTRACIÓN PÚBLICA COMO SUJETO DE DERECHO ADMINISTRATIV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ser: las personas administrativ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actuar: hechos, actos y contratos administrativ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ea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0000"/>
                </a:solidFill>
                <a:latin typeface="Comic Sans MS"/>
              </a:rPr>
              <a:t>LOS PARTICULARES COMO SUJETOS DE DERECHO ADMINISTRATIV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ser: persona y grupos de persona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2. Su actuar: solicitudes, denuncias, reclamos, accion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80000"/>
              </a:lnSpc>
              <a:spcBef>
                <a:spcPts val="400"/>
              </a:spcBef>
              <a:buClr>
                <a:srgbClr val="ea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a0000"/>
                </a:solidFill>
                <a:latin typeface="Comic Sans MS"/>
              </a:rPr>
              <a:t>LOS FUNCIONARIOS PÚBLICOS COMO SUJETOS DE DERECHO ADMINISTRATIVO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ser: sentido amplio, sentido restringid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 actuar: El Estatuto Administrativ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21:11:44Z</dcterms:created>
  <dc:creator>Rolando Pantoja</dc:creator>
  <dc:description/>
  <dc:language>en-US</dc:language>
  <cp:lastModifiedBy>mrojas</cp:lastModifiedBy>
  <dcterms:modified xsi:type="dcterms:W3CDTF">2008-05-05T16:29:50Z</dcterms:modified>
  <cp:revision>52</cp:revision>
  <dc:subject/>
  <dc:title>CONCEPTO DE DERECHO ADMINISTRATI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