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EA13-2993-4133-A85D-963FCA05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B655-5D0E-47AD-AA6E-872A1CE7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3869-0728-4246-B549-FCF2F68D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289D-0B73-4DCE-BDC8-1958F3443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C2FD-3F7E-4E1B-A6B1-8D2E38624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2690-D004-491D-9726-5000A2AE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B8DD-63B5-43AD-B5F5-0FBDFA40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F748-B391-4C15-9159-D7B5113E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5993-D116-48FB-8CD0-7C308A9B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DE44-D1D2-472E-9DF1-D0E820DB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2BB0-53BC-46D1-A02B-31147DE4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D364-FA17-4BBF-AC9B-EAFF27D7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1265-FAE9-4241-B049-A4D84DA5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E21E-02C2-406D-AF11-6DA33B5D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84C6-E44A-4518-9E75-1A7090CE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C185-AF1B-4CB3-9913-6A10138F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7C3A-969C-4750-B784-92DED28CE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DFAA-E5EC-4E45-AEE7-F54709B4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7EBD-088E-4532-AD54-71BE854A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54F2-6A47-49E6-BB37-7E8E0D8D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58E9-8891-464E-80AB-A8B1C58A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A6F9-47C1-4F17-AFD7-4543C5F9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480F-34C7-48B0-A71D-F0D5D766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B273-4638-40A9-9BA0-A012DF0B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F373-55D2-47A1-A65A-688992C67F4D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3D23-D6A6-4C6E-B27E-7B2D085ED8A8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148360" y="188640"/>
            <a:ext cx="3744720" cy="1368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e8"/>
                </a:solidFill>
                <a:latin typeface="Comic Sans MS"/>
              </a:rPr>
              <a:t> </a:t>
            </a:r>
            <a:r>
              <a:rPr b="0" lang="es-MX" sz="2400" spc="-1" strike="noStrike">
                <a:solidFill>
                  <a:srgbClr val="0000e8"/>
                </a:solidFill>
                <a:latin typeface="Comic Sans MS"/>
              </a:rPr>
              <a:t>DERECHO ADMINISTRATIVO</a:t>
            </a:r>
            <a:br>
              <a:rPr sz="2400"/>
            </a:br>
            <a:r>
              <a:rPr b="0" lang="es-MX" sz="1200" spc="-1" strike="noStrike">
                <a:solidFill>
                  <a:srgbClr val="0000e8"/>
                </a:solidFill>
                <a:latin typeface="Comic Sans MS"/>
              </a:rPr>
              <a:t>RPB-Otoño 2008</a:t>
            </a:r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2565000"/>
            <a:ext cx="63356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EL 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curso constará de tres grandes part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e8"/>
                </a:solidFill>
                <a:latin typeface="Comic Sans MS"/>
              </a:rPr>
              <a:t>Primera Parte: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 Concepto de Derecho Administrativ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e8"/>
                </a:solidFill>
                <a:latin typeface="Comic Sans MS"/>
              </a:rPr>
              <a:t>Segunda Parte: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 La Administración del Estado o Administración Públic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e8"/>
                </a:solidFill>
                <a:latin typeface="Comic Sans MS"/>
              </a:rPr>
              <a:t>Tercera Parte: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 Los sujetos de derecho en el Derecho Administrativ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Se desarrollan a continuació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716000" y="260280"/>
            <a:ext cx="3816360" cy="1152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omic Sans MS"/>
              </a:rPr>
              <a:t>1ª Parte</a:t>
            </a:r>
            <a:br>
              <a:rPr sz="4000"/>
            </a:b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CONCEPTO DE DERECHO ADMINISTRATIVO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549080" y="2492280"/>
            <a:ext cx="59022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TEORÍAS QUE EXPLICAN QUÉ ES EL DERECHO ADMINISTRATIVO EN CHI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LA DEFINICIÓN CONSTITUCIONAL DE DERECHO ADMINISTRAT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ELEMENTO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Disciplina del Derecho Públic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Formada por normas y principi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Regula el ser y el actuar de la Administración Pública o Administra- ción del Estad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16000" y="259920"/>
            <a:ext cx="4032360" cy="1513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omic Sans MS"/>
              </a:rPr>
              <a:t>2ª Parte</a:t>
            </a:r>
            <a:br>
              <a:rPr sz="4000"/>
            </a:b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LA ADMINISTRACIÓN DEL ESTADO O ADMINISTRACIÓN PÚBLICA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186920" y="2420640"/>
            <a:ext cx="648036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A ADMINISTRACIÓN DEL ESTADO O ADMINISTRACIÓN PÚBLICA NACE CON EL ESTADO MODERNO CONSTITUCIONAL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PUEDE SER CARACTERIZADA DESDE EL </a:t>
            </a:r>
            <a:r>
              <a:rPr b="1" lang="es-MX" sz="1600" spc="-1" strike="noStrike">
                <a:solidFill>
                  <a:srgbClr val="ff0000"/>
                </a:solidFill>
                <a:latin typeface="Comic Sans MS"/>
              </a:rPr>
              <a:t>PUNTO DE VISTA FUNCIONAL,MATERIAL U OBJETIVO,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 Y DESDE EL </a:t>
            </a: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PUNTO DE VISTA ORGÁNICO O SUBJETIVO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A ADMINISTRACIÓN PÚBLICA CARACTERIZADA DESDE EL PUNTO DE VISTA FUNCIONAL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a Administración función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a Administración gestión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A ADMINISTRACIÓN PÚBLICA DESDE EL PUNTO DE VISTA ORGÁNICO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a Reforma Constitucional de 1991: las tres grandes leyes orgánicas constitucionales. La LOCBGAE, la LOCG y AR, la LOCM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Importancia  de los artículos 1° y 21 de la LOCBGA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os servicios públicos de fuente legal: el Título I, #1, de la LAOCBGA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716000" y="259920"/>
            <a:ext cx="4032360" cy="1513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omic Sans MS"/>
              </a:rPr>
              <a:t>3ª Parte</a:t>
            </a:r>
            <a:br>
              <a:rPr sz="4000"/>
            </a:b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LOS SUJETOS DE DERECHO EN EL DERECHO  ADMINISTRATIVO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186920" y="2420640"/>
            <a:ext cx="648036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e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0000"/>
                </a:solidFill>
                <a:latin typeface="Comic Sans MS"/>
              </a:rPr>
              <a:t>LA ADMINISTRACIÓN DEL ESTADO O ADMINISTRACIÓN PÚBLICA COMO SUJETO DE DERECHO ADMINISTRATIVO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Su ser: las personas administrativ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Su actuar: hechos, actos y contratos administrativ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e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0000"/>
                </a:solidFill>
                <a:latin typeface="Comic Sans MS"/>
              </a:rPr>
              <a:t>LOS PARTICULARES COMO SUJETOS DE DERECHO ADMINISTRATIVO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Su ser: persona y grupos de persona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2. Su actuar: solicitudes, denuncias, reclamos, accion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ea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0000"/>
                </a:solidFill>
                <a:latin typeface="Comic Sans MS"/>
              </a:rPr>
              <a:t>LOS FUNCIONARIOS PÚBLICOS COMO SUJETOS DE DERECHO ADMINISTRATIVO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Su ser: sentido amplio, sentido restringid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Su actuar: El Estatuto Administrativ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21:11:44Z</dcterms:created>
  <dc:creator>Rolando Pantoja</dc:creator>
  <dc:description/>
  <dc:language>en-US</dc:language>
  <cp:lastModifiedBy>mrojas</cp:lastModifiedBy>
  <dcterms:modified xsi:type="dcterms:W3CDTF">2008-05-05T16:29:50Z</dcterms:modified>
  <cp:revision>52</cp:revision>
  <dc:subject/>
  <dc:title>CONCEPTO DE DERECHO ADMINISTRATIV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