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17A-7647-491F-831D-E2AED72D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CC5-1341-4025-B07A-B3AC04B2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90C-6CC6-4BF3-AC2C-6A059252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700-6A22-4E4E-B90E-8E4BAA85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31CB-E832-4FAC-B320-D8D5EF0D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C8B6-BA13-4DD0-8FC8-F4676DFF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2391-7C8A-4AB6-B0C7-D3929402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F356-1A71-4BA9-BCFC-AC61A8FD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C3B0-E4EB-482A-826D-3D5F5DEC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893D-46C1-49B4-BEA0-CA162B58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CD53-08AC-4FCE-A196-3ECBC001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88AB-681D-4B83-8472-694B1B82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28CA-3CA0-415D-81C9-FF12ECFF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EA1E-CA00-4410-B832-3064FB58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2AE0-B56C-4793-93E2-81DB1320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F32F-6661-43CC-8F0F-88237601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E22B-6867-44FB-8A69-8668F06D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8B0-B33C-4D61-AFA9-8A699BDF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DCF-31B6-49F6-82EC-7438FCA1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FB8-CF1D-451C-8917-BCBF881F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0AF-F845-4A0C-ABEB-DE6D7A61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1AF-658B-40FB-84F0-1113C335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54E-5FFC-44EF-A7C8-062BA8A8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C93-FC2D-4459-8AEE-A7024ABC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B724-75FA-4155-A078-1828574AC1E4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A9CB-DCBE-4F5C-BDB6-87EFCDF42B53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48360" y="188640"/>
            <a:ext cx="3744720" cy="13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e8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00e8"/>
                </a:solidFill>
                <a:latin typeface="Comic Sans MS"/>
              </a:rPr>
              <a:t>DERECHO ADMINISTRATIVO</a:t>
            </a:r>
            <a:br>
              <a:rPr sz="2400"/>
            </a:br>
            <a:r>
              <a:rPr b="0" lang="es-MX" sz="1200" spc="-1" strike="noStrike">
                <a:solidFill>
                  <a:srgbClr val="0000e8"/>
                </a:solidFill>
                <a:latin typeface="Comic Sans MS"/>
              </a:rPr>
              <a:t>RPB-Otoño 2008</a:t>
            </a:r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565000"/>
            <a:ext cx="6335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urso constará de tres grandes par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Primer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Concepto de Derecho Administra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Segund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a Administración del Estado o Administración Públi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Tercer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os sujetos de derecho en el Derecho Administra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Se desarrollan a continuació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1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1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TEORÍAS QUE EXPLICAN QUÉ ES EL DERECHO ADMINISTRATIVO EN CHI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DEFINICIÓN CONSTITUCIONAL DE DERECHO ADMINISTRA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EMENT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isciplina del Derecho Públic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Formada por normas y principi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egula el ser y el actuar de la Administración Pública o Administra- ción del Est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032360" cy="1513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2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LA ADMINISTRACIÓN DEL ESTADO O ADMINISTRACIÓN PÚBLICA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6920" y="2420640"/>
            <a:ext cx="64803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DEL ESTADO O ADMINISTRACIÓN PÚBLICA NACE CON EL ESTADO MODERNO CONSTITUCIONA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PUEDE SER CARACTERIZADA DESDE EL </a:t>
            </a: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PUNTO DE VISTA FUNCIONAL,MATERIAL U OBJETIVO,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Y DESDE EL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PUNTO DE VISTA ORGÁNICO O SUBJETIVO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PÚBLICA CARACTERIZADA DESDE EL PUNTO DE VISTA FUNCIONAL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funció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gestió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PÚBLICA DESDE EL PUNTO DE VISTA ORGÁNIC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Reforma Constitucional de 1991: las tres grandes leyes orgánicas constitucionales. La LOCBGAE, la LOCG y AR, la LOC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Importancia  de los artículos 1° y 21 de la LOCBGA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os servicios públicos de fuente legal: el Título I, #1, de la LAOCBGA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032360" cy="1513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3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LOS SUJETOS DE DERECHO EN EL DERECHO 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86920" y="2420640"/>
            <a:ext cx="64803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A ADMINISTRACIÓN DEL ESTADO O ADMINISTRACIÓN PÚBLICA COMO SUJETO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las personas administrativ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actuar: hechos, actos y contratos administrativ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OS PARTICULARES COMO SUJETOS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persona y grupos de person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2. Su actuar: solicitudes, denuncias, reclamos, accion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OS FUNCIONARIOS PÚBLICOS COMO SUJETOS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sentido amplio, sentido restringi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actuar: El Estatuto Administrativ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1:11:44Z</dcterms:created>
  <dc:creator>Rolando Pantoja</dc:creator>
  <dc:description/>
  <dc:language>en-US</dc:language>
  <cp:lastModifiedBy>mrojas</cp:lastModifiedBy>
  <dcterms:modified xsi:type="dcterms:W3CDTF">2008-05-05T16:29:50Z</dcterms:modified>
  <cp:revision>52</cp:revision>
  <dc:subject/>
  <dc:title>CONCEPTO DE DERECHO ADMINISTR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