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07BD8-57A6-4A12-8BDC-A528357DA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CB4BA-E97A-4DEF-B452-49EC9DE7C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35A5D-7A03-45A7-80BC-BFA9ADA7A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91AD4-B4C5-40D2-80B1-6AB527BCF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58FF18-10BE-4E6D-B28A-A4741216D5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BA7AF-2D4D-4B58-831B-FCAC051DC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423D8-E7A1-4C12-AA56-025A6587F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CECAC-2660-439A-BC04-91C0416BB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5DA1C-80FB-4D24-80DF-1FC7CBF3B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A7583-CEFE-4B47-80C8-DA0F084C1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0740D-9A64-455E-B342-F22F88117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00308-533B-4DD8-AAE8-6880B09B4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405F1-83FB-4082-98F6-5CB8AF4A5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34013-7A61-4421-86D2-1D1C535B2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4F9D2-1176-430E-A895-46BA6EA2A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BF6FB-ABCE-4EB4-AA64-C808061B1F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9E6A4-12AF-488A-A621-BD3EB4309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D1880-A99E-4817-AD20-ABA8F1701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D5573-0ED9-4BFE-B78B-C82AA0B94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89D1C-12C4-42BE-96C9-5EC1D211A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2D4FC-BEA1-49E9-8992-9572F60FA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B74B2-84B4-4350-8A19-82E6CEADF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CDCE5-93DB-4E56-AFCC-068A488D9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D5DE9-8776-4251-81CE-4D562EB67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100000"/>
                </a:gs>
                <a:gs pos="100000">
                  <a:srgbClr val="0f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36AF0-CEF7-4092-8D5D-F5E52A82F8B2}" type="slidenum">
              <a:rPr b="0" lang="es-E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100000"/>
                </a:gs>
                <a:gs pos="100000">
                  <a:srgbClr val="0d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B9A5-EC29-45B3-98DE-80B850371BFE}" type="slidenum">
              <a:rPr b="0" lang="es-ES" sz="1200" spc="-1" strike="noStrike">
                <a:solidFill>
                  <a:srgbClr val="ffcc00"/>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lick to edit the title text format</a:t>
            </a:r>
            <a:endParaRPr b="0" lang="en-US" sz="5400" spc="-1" strike="noStrike">
              <a:solidFill>
                <a:srgbClr val="ff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econd Outline Level</a:t>
            </a:r>
            <a:endParaRPr b="0" lang="en-US" sz="2800" spc="-1" strike="noStrike">
              <a:solidFill>
                <a:srgbClr val="ffcc00"/>
              </a:solidFill>
              <a:latin typeface="Tahoma"/>
            </a:endParaRPr>
          </a:p>
          <a:p>
            <a:pPr lvl="2" marL="914400" algn="ctr">
              <a:spcBef>
                <a:spcPts val="601"/>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Third Outline Level</a:t>
            </a:r>
            <a:endParaRPr b="0" lang="en-US" sz="2400" spc="-1" strike="noStrike">
              <a:solidFill>
                <a:srgbClr val="ffcc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urth Outline Level</a:t>
            </a:r>
            <a:endParaRPr b="0" lang="en-US" sz="2000" spc="-1" strike="noStrike">
              <a:solidFill>
                <a:srgbClr val="ffcc00"/>
              </a:solidFill>
              <a:latin typeface="Tahoma"/>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ifth Outline Level</a:t>
            </a:r>
            <a:endParaRPr b="0" lang="en-US" sz="2000" spc="-1" strike="noStrike">
              <a:solidFill>
                <a:srgbClr val="ffcc00"/>
              </a:solidFill>
              <a:latin typeface="Tahoma"/>
            </a:endParaRPr>
          </a:p>
          <a:p>
            <a:pPr lvl="5"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ixth Outline Level</a:t>
            </a:r>
            <a:endParaRPr b="0" lang="en-US" sz="2000" spc="-1" strike="noStrike">
              <a:solidFill>
                <a:srgbClr val="ffcc00"/>
              </a:solidFill>
              <a:latin typeface="Tahoma"/>
            </a:endParaRPr>
          </a:p>
          <a:p>
            <a:pPr lvl="6"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eventh Outline Level</a:t>
            </a:r>
            <a:endParaRPr b="0" lang="en-US" sz="2000" spc="-1" strike="noStrike">
              <a:solidFill>
                <a:srgbClr val="ffcc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Arial"/>
                <a:ea typeface="Times New Roman"/>
              </a:rPr>
              <a:t>Plan de prevención y erradicación del trabajo infantil y adolescente en Chile. Aplicación y eficacia.</a:t>
            </a:r>
            <a:br>
              <a:rPr sz="4800"/>
            </a:br>
            <a:r>
              <a:rPr b="0" lang="en-U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0" name=""/>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Interrogan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Objetivo General</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Hipótesis</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Título</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6" name=""/>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graphicFrame>
        <p:nvGraphicFramePr>
          <p:cNvPr id="97" name=""/>
          <p:cNvGraphicFramePr/>
          <p:nvPr/>
        </p:nvGraphicFramePr>
        <p:xfrm>
          <a:off x="684360" y="1844640"/>
          <a:ext cx="7772400" cy="481032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Pregunt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Objetivos específic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Contenid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2800" spc="-1" strike="noStrike">
                <a:solidFill>
                  <a:srgbClr val="ffffff"/>
                </a:solidFill>
                <a:latin typeface="Tahoma"/>
              </a:rPr>
              <a:t>Matriz de operacionalización de las variables</a:t>
            </a:r>
            <a:endParaRPr b="0" lang="en-US" sz="2800" spc="-1" strike="noStrike">
              <a:solidFill>
                <a:srgbClr val="ffcc00"/>
              </a:solidFill>
              <a:latin typeface="Arial"/>
            </a:endParaRPr>
          </a:p>
        </p:txBody>
      </p:sp>
      <p:graphicFrame>
        <p:nvGraphicFramePr>
          <p:cNvPr id="99" name=""/>
          <p:cNvGraphicFramePr/>
          <p:nvPr/>
        </p:nvGraphicFramePr>
        <p:xfrm>
          <a:off x="685800" y="1981080"/>
          <a:ext cx="8062920" cy="3345120"/>
        </p:xfrm>
        <a:graphic>
          <a:graphicData uri="http://schemas.openxmlformats.org/drawingml/2006/table">
            <a:tbl>
              <a:tblPr/>
              <a:tblGrid>
                <a:gridCol w="1943280"/>
                <a:gridCol w="2087280"/>
                <a:gridCol w="2232000"/>
                <a:gridCol w="1800360"/>
              </a:tblGrid>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Hipótesi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Variabl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dicador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Fuent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In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Altos índices de trabajo infantil y adolesc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neficacia del Plan </a:t>
                      </a:r>
                      <a:r>
                        <a:rPr b="0" lang="en-U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 sobre el trabajo infantil en Chile</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Reformas legales promovidas para el desarrollo del Plan </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Tex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Investigacione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Documen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Material de Internet</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n-U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Windows Angelical</cp:lastModifiedBy>
  <dcterms:modified xsi:type="dcterms:W3CDTF">2008-03-29T22:33:59Z</dcterms:modified>
  <cp:revision>20</cp:revision>
  <dc:subject/>
  <dc:title>MATRIZ 1</dc:title>
</cp:coreProperties>
</file>