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91FD7-0AAF-469B-A978-B67CD6D21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270C6-E53D-4B7D-B657-0B1FBB914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0F61D-35E5-483A-84C4-6AE322B10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D79DF-456A-476B-B68C-8FDC1D8AE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2077D-211B-40CB-813B-D22AEE78A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2F8A7-AF7C-46D2-AB4D-E97358F1E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37AA8-E574-4BF7-BD0C-0FACAE83C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153A7-3DFF-4E52-83DC-5B917CE9D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93360-F38B-440D-87CE-3BD69077E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70F27-CA75-4DC1-9A8D-7EABE3A3F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C3191-EDBD-40F8-9286-CC9E44A80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70387-850D-4025-B93D-E37559186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D7946-138E-44CF-9ABA-E3A27FC52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CD729-753D-4CE2-8A22-5B4DAD163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A7F56-6C5B-4E53-B13C-902B3230B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DA8F5-1599-4CC6-82C6-2D0336BAF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F882C-DD46-4956-8A0F-EE7878447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41D91-5175-46DD-9926-119EBA252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CD9F6-EE11-456B-B0B9-7EA9E2984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7C475-D95F-4F7F-B452-EF2181DCB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58D7A-C092-47B3-A7D8-D0E8723A2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DB93-76B7-4139-AD09-A26DE2766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3B102-321E-4A1B-8846-B5E686404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D87B-97E2-4E54-8063-C2B1D7BA8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4E5C-7B54-4EAA-B8CC-FA644813C2A4}"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C975-CBB7-417F-844B-5CEF85A02D9F}"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Windows Angelical</cp:lastModifiedBy>
  <dcterms:modified xsi:type="dcterms:W3CDTF">2008-03-29T22:33:59Z</dcterms:modified>
  <cp:revision>20</cp:revision>
  <dc:subject/>
  <dc:title>MATRIZ 1</dc:title>
</cp:coreProperties>
</file>