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0F33-D9FD-4ABB-B436-917E08B83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530FB-AB62-4428-B27C-BE138FC67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EB203-1724-441B-B529-EA63609C0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6D647-A505-4FD2-8E9D-D051654B7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F8103-9F70-4A1F-B9A1-920111D916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6EEF4-6214-4FF9-A934-80717B18B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CCD51-A1C3-4485-8AC6-B23958096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34691-8C49-470A-8C67-D9F99BD65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E10DD-B6A0-49E2-A205-E4E2D32E2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38D93-0911-479A-BE85-1815ACB86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8DAA-1FF6-4B14-AEBC-B3F4AE3CB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6A8A2-4930-4B0A-8706-34EB3C637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8C66-3968-470A-AFB5-245C6D16F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05599-1031-4207-8F11-3F18CC641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9B4D6-65D2-4979-B324-B879A86BE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3325C-7D72-4189-A882-22F0ACED1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9B12F-C211-4ACB-BBA8-63637ED03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6564B-AF2E-4406-BA20-F043000E5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2EF8-ADED-4227-8505-8CD6FD595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325D-602F-40B8-9EF3-A8F87CF24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C89F8-C057-42FF-9AA2-8B37FC2F9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92FC2-F0F5-4B73-B8AF-974A70C5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6A95-F08A-48F6-8D4E-A9A8A4EB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B5974-C154-47C5-AEC9-D6FB52914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7815-6E8C-4857-8167-C80F2DECB2AD}"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2F66-0720-40B4-B8D8-FD96A86D84CB}"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Windows Angelical</cp:lastModifiedBy>
  <dcterms:modified xsi:type="dcterms:W3CDTF">2008-03-29T22:33:59Z</dcterms:modified>
  <cp:revision>20</cp:revision>
  <dc:subject/>
  <dc:title>MATRIZ 1</dc:title>
</cp:coreProperties>
</file>