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7453A-23EE-42E1-8E75-A3A0D7D9F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FEF7A-7E21-4EF8-9E4D-F53CC7565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8DDA7-BB5D-4855-B45A-9BAFE37DA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0906A-06F3-4C0F-A81D-DA7D9F9BF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3B61D2-8348-4E48-9CB4-78905408D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C1A91-CA2F-48E4-AC11-3F54C600F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8BC92-7ABB-4A40-9C4E-5E55B44C8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713A1-1979-4BCA-B894-CB5B06D69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61BB1-73B6-4AAC-ADCE-362A81B2C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BEDCD-E1F3-4BB3-96A2-E410AB1F7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71D4D-D226-4BED-9189-A868457A6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B1E40-D300-46EF-A1AE-11D2095D5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7606B-2CB8-46BD-B745-0488D4DE7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15A17-4043-4CBC-A6E1-49D24811F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45F28-9870-4CF1-9A8E-B3D2EA999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181656-1AEE-4CFB-B0B7-C132EF34B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0204F2-ACC4-4652-9F42-8AE20045A0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AFC45-7883-4859-B0C4-D185E553D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38D93-9900-415F-BAD6-E0238AA26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50A9B-69B3-4E50-A725-CFBA19DA7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E39E3-65AF-481D-9E4C-918E4568D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B2EE6-7A9C-470E-AB7A-CB3B25D4F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E73F6-A139-4961-A929-59EF4FD8E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B6262-99EE-45BF-A4D3-53C41205B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100000"/>
                </a:gs>
                <a:gs pos="100000">
                  <a:srgbClr val="0f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77B3-2C85-461B-93ED-E7472C37DB91}" type="slidenum">
              <a:rPr b="0" lang="es-E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100000"/>
                </a:gs>
                <a:gs pos="100000">
                  <a:srgbClr val="0d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F3733-E484-4CDE-80A4-E16D25E91C5D}" type="slidenum">
              <a:rPr b="0" lang="es-ES" sz="1200" spc="-1" strike="noStrike">
                <a:solidFill>
                  <a:srgbClr val="ffcc00"/>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lick to edit the title text format</a:t>
            </a:r>
            <a:endParaRPr b="0" lang="en-US" sz="5400" spc="-1" strike="noStrike">
              <a:solidFill>
                <a:srgbClr val="ff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econd Outline Level</a:t>
            </a:r>
            <a:endParaRPr b="0" lang="en-US" sz="2800" spc="-1" strike="noStrike">
              <a:solidFill>
                <a:srgbClr val="ffcc00"/>
              </a:solidFill>
              <a:latin typeface="Tahoma"/>
            </a:endParaRPr>
          </a:p>
          <a:p>
            <a:pPr lvl="2" marL="914400" algn="ctr">
              <a:spcBef>
                <a:spcPts val="601"/>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Third Outline Level</a:t>
            </a:r>
            <a:endParaRPr b="0" lang="en-US" sz="2400" spc="-1" strike="noStrike">
              <a:solidFill>
                <a:srgbClr val="ffcc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urth Outline Level</a:t>
            </a:r>
            <a:endParaRPr b="0" lang="en-US" sz="2000" spc="-1" strike="noStrike">
              <a:solidFill>
                <a:srgbClr val="ffcc00"/>
              </a:solidFill>
              <a:latin typeface="Tahoma"/>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ifth Outline Level</a:t>
            </a:r>
            <a:endParaRPr b="0" lang="en-US" sz="2000" spc="-1" strike="noStrike">
              <a:solidFill>
                <a:srgbClr val="ffcc00"/>
              </a:solidFill>
              <a:latin typeface="Tahoma"/>
            </a:endParaRPr>
          </a:p>
          <a:p>
            <a:pPr lvl="5"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ixth Outline Level</a:t>
            </a:r>
            <a:endParaRPr b="0" lang="en-US" sz="2000" spc="-1" strike="noStrike">
              <a:solidFill>
                <a:srgbClr val="ffcc00"/>
              </a:solidFill>
              <a:latin typeface="Tahoma"/>
            </a:endParaRPr>
          </a:p>
          <a:p>
            <a:pPr lvl="6"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eventh Outline Level</a:t>
            </a:r>
            <a:endParaRPr b="0" lang="en-US" sz="2000" spc="-1" strike="noStrike">
              <a:solidFill>
                <a:srgbClr val="ffcc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Arial"/>
                <a:ea typeface="Times New Roman"/>
              </a:rPr>
              <a:t>Plan de prevención y erradicación del trabajo infantil y adolescente en Chile. Aplicación y eficacia.</a:t>
            </a:r>
            <a:br>
              <a:rPr sz="4800"/>
            </a:br>
            <a:r>
              <a:rPr b="0" lang="en-U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0" name=""/>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Interrogan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Objetivo General</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Hipótesis</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Título</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6" name=""/>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graphicFrame>
        <p:nvGraphicFramePr>
          <p:cNvPr id="97" name=""/>
          <p:cNvGraphicFramePr/>
          <p:nvPr/>
        </p:nvGraphicFramePr>
        <p:xfrm>
          <a:off x="684360" y="1844640"/>
          <a:ext cx="7772400" cy="481032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Pregunt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Objetivos específic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Contenid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2800" spc="-1" strike="noStrike">
                <a:solidFill>
                  <a:srgbClr val="ffffff"/>
                </a:solidFill>
                <a:latin typeface="Tahoma"/>
              </a:rPr>
              <a:t>Matriz de operacionalización de las variables</a:t>
            </a:r>
            <a:endParaRPr b="0" lang="en-US" sz="2800" spc="-1" strike="noStrike">
              <a:solidFill>
                <a:srgbClr val="ffcc00"/>
              </a:solidFill>
              <a:latin typeface="Arial"/>
            </a:endParaRPr>
          </a:p>
        </p:txBody>
      </p:sp>
      <p:graphicFrame>
        <p:nvGraphicFramePr>
          <p:cNvPr id="99" name=""/>
          <p:cNvGraphicFramePr/>
          <p:nvPr/>
        </p:nvGraphicFramePr>
        <p:xfrm>
          <a:off x="685800" y="1981080"/>
          <a:ext cx="8062920" cy="3345120"/>
        </p:xfrm>
        <a:graphic>
          <a:graphicData uri="http://schemas.openxmlformats.org/drawingml/2006/table">
            <a:tbl>
              <a:tblPr/>
              <a:tblGrid>
                <a:gridCol w="1943280"/>
                <a:gridCol w="2087280"/>
                <a:gridCol w="2232000"/>
                <a:gridCol w="1800360"/>
              </a:tblGrid>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Hipótesi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Variabl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dicador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Fuent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In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Altos índices de trabajo infantil y adolesc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neficacia del Plan </a:t>
                      </a:r>
                      <a:r>
                        <a:rPr b="0" lang="en-U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 sobre el trabajo infantil en Chile</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Reformas legales promovidas para el desarrollo del Plan </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Tex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Investigacione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Documen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Material de Internet</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n-U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Windows Angelical</cp:lastModifiedBy>
  <dcterms:modified xsi:type="dcterms:W3CDTF">2008-03-29T22:33:59Z</dcterms:modified>
  <cp:revision>20</cp:revision>
  <dc:subject/>
  <dc:title>MATRIZ 1</dc:title>
</cp:coreProperties>
</file>