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AC0-C902-4BF5-88F6-020B54FA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9FA-DF69-44C8-8451-23DD9CC6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E10-903A-48F7-A931-D79E8081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327-CE61-4191-9902-034A5682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038-895E-4712-AC2B-B7647735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519-8C61-47DA-B95F-DCD5A330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739-F550-46AB-A387-3D55F549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3C4-CDC6-4B66-8E27-588B7825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6E3-DFD2-4397-A379-13E5ABAD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81D-D607-42B9-929A-7CBBE0F4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6FF-6AC2-40E1-B823-75B7C14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0BE-8881-4810-AA67-C269E92F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22AB-D6BF-4720-8435-4C1218265C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40160" y="0"/>
          <a:ext cx="479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0"/>
                    <a:ext cx="479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04920" y="0"/>
          <a:ext cx="5510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0"/>
                    <a:ext cx="5510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8251560" y="6005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-3240"/>
          <a:ext cx="7488000" cy="68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-3240"/>
                    <a:ext cx="74880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 de pat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57360" y="1197000"/>
          <a:ext cx="45547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197000"/>
                    <a:ext cx="45547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8340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76360" y="1052640"/>
          <a:ext cx="408492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052640"/>
                    <a:ext cx="40849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50920" y="0"/>
          <a:ext cx="530388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038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16200" y="6453360"/>
          <a:ext cx="3008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6453360"/>
                    <a:ext cx="3008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107120" y="65530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12840" y="0"/>
          <a:ext cx="51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0"/>
                    <a:ext cx="51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0"/>
          <a:ext cx="6275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0"/>
                    <a:ext cx="627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2200" y="0"/>
          <a:ext cx="792180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0"/>
                    <a:ext cx="79218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618320" y="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62280" y="0"/>
          <a:ext cx="5846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0"/>
                    <a:ext cx="5846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0"/>
          <a:ext cx="540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40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89160" y="0"/>
          <a:ext cx="5094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0"/>
                    <a:ext cx="5094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76720" y="6183360"/>
          <a:ext cx="15112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6183360"/>
                    <a:ext cx="1511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74800" y="0"/>
          <a:ext cx="5967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0"/>
                    <a:ext cx="596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4312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11400" y="0"/>
          <a:ext cx="5294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0"/>
                    <a:ext cx="5294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3980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5400000">
            <a:off x="-633600" y="593280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2400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5640" y="0"/>
          <a:ext cx="5305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305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01:44Z</dcterms:created>
  <dc:creator>rcooper</dc:creator>
  <dc:description/>
  <dc:language>en-US</dc:language>
  <cp:lastModifiedBy>Claudio Magliona</cp:lastModifiedBy>
  <dcterms:modified xsi:type="dcterms:W3CDTF">2008-07-02T23:35:35Z</dcterms:modified>
  <cp:revision>4</cp:revision>
  <dc:subject/>
  <dc:title>Diapositiva 1</dc:title>
</cp:coreProperties>
</file>