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CBE-B8EB-4005-AFFE-17506E41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597-C122-4440-B46F-FF32E676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10E-6376-411D-9A30-06890A6B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17C-2CBF-4804-A084-E0BB7DF7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F16-47A2-43BA-8E3E-43AB16FF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C0B5-E9A9-4828-ADAF-B6EDC77D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CCB-B63F-46D9-8676-607C4BF5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604-6404-42C7-9F8B-767A81B8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E1B-0877-49EE-9257-B1B907C1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C41-9B1A-4AF2-A8CE-3CC096E8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5C4-46AF-4038-BC81-F2BEBE3C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AA5-EC96-43C4-8605-687C4506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6830-AC0A-4D37-952E-8969CED71E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Leg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54.- “… los instrumentos, aparatos … en los que la forma sea reivindicable, tanto en su aspecto externo como en su funcionamiento, y siempre que esta produzca una UTILIDAD, esto es, que aporte a la función a que son destinados un beneficio, ventaja o efecto técnico que antes no tení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tular del derecho: empleador o Un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entual repartición de benefici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U. tiene un sistema: Regla Gral: Ter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ortancia en Chile por sistema de innovación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iste una definición legal para Transferencia Tecnológica, y ni siquiera una mención a ella en l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 es la efectiva utilización de la innovación en la sociedad civil o en el ámbito que correspo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3213000"/>
            <a:ext cx="107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3357720"/>
            <a:ext cx="2232360" cy="720720"/>
          </a:xfrm>
          <a:prstGeom prst="rightArrow">
            <a:avLst>
              <a:gd name="adj1" fmla="val 54648"/>
              <a:gd name="adj2" fmla="val 2079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 +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3213000"/>
            <a:ext cx="107964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3357720"/>
            <a:ext cx="2232000" cy="720720"/>
          </a:xfrm>
          <a:prstGeom prst="rightArrow">
            <a:avLst>
              <a:gd name="adj1" fmla="val 54648"/>
              <a:gd name="adj2" fmla="val 207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rotección 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28000" y="3284640"/>
            <a:ext cx="8269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T.T</a:t>
            </a: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68640"/>
            <a:ext cx="1079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3716280"/>
            <a:ext cx="28728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458136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724280"/>
            <a:ext cx="50472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627280" y="278100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5589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342900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4581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2565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08720" y="2205000"/>
            <a:ext cx="574920" cy="38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458136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88000" y="566100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96000" y="206064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780000" y="623736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284720" y="1844640"/>
            <a:ext cx="574560" cy="38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851280" y="2204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5877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84720" y="2276280"/>
            <a:ext cx="287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59280" y="3644640"/>
            <a:ext cx="1152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35640" y="249228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400536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00536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797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67280" y="4220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149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422100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516720" y="3141720"/>
            <a:ext cx="1440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35640" y="2421000"/>
            <a:ext cx="1873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7956720" y="2997360"/>
            <a:ext cx="574560" cy="385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20000" y="5013360"/>
            <a:ext cx="288720" cy="28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85080" y="4724280"/>
            <a:ext cx="827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T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645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00360" y="2997000"/>
            <a:ext cx="720720" cy="50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851280" y="234900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3716280"/>
            <a:ext cx="28728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16360" y="3860640"/>
            <a:ext cx="86508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4941720"/>
            <a:ext cx="433080" cy="722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4653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724280"/>
            <a:ext cx="79200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653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995640" y="414936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4149720"/>
            <a:ext cx="57636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08464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292720" y="2492280"/>
            <a:ext cx="576360" cy="93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8559720" y="92160"/>
            <a:ext cx="476280" cy="96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42920" y="32130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 +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7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 Black"/>
              </a:rPr>
              <a:t>I + D +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ción y Desarrollo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dinero en conocimi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ción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conocimientos en din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comienza el día 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atentes de invención (y las demás formas de protección análogas) son sólo un elemento más (habitualmente esencial) en el proceso de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no significa NECESARIAMENTE la comercialización de la in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Prod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línea de producción en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empres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start ups, spin off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mpra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Lic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Know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Franqu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nsult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T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“Material Transfer Agreemen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528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Inno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por el cual una de las partes, titular de derechos de propiedad industrial (licenciante), autoriza a otra (licenciatario) para que use y goce de dichos derechos, a cambio de un pago convenido de antemano (regal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crito (anotación al margen) en DPI para ser oponible a terc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-563040" y="60505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920" y="216648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a o no exclus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te o no exc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tuita u one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tori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cru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no voluntarias (Art. 5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32925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4120" y="1700280"/>
            <a:ext cx="3046320" cy="41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1280" y="1628280"/>
            <a:ext cx="324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1086400">
            <a:off x="69840" y="-87480"/>
            <a:ext cx="3995640" cy="3826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455400">
            <a:off x="4109760" y="299520"/>
            <a:ext cx="4464000" cy="282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37600">
            <a:off x="2484360" y="1989000"/>
            <a:ext cx="3816360" cy="362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10600">
            <a:off x="221760" y="1157400"/>
            <a:ext cx="3862440" cy="54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1382200">
            <a:off x="4614840" y="3731760"/>
            <a:ext cx="4272120" cy="3164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214800">
            <a:off x="4773240" y="272376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 rot="21213000">
            <a:off x="5254560" y="219240"/>
            <a:ext cx="3610080" cy="403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2470320" y="260280"/>
            <a:ext cx="3439800" cy="360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 rot="21451200">
            <a:off x="2124000" y="2889000"/>
            <a:ext cx="40323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sitos Modelo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licación 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costo de solicitud y tram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es requis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plazo de prot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en países menos industria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ción: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por ciclos de producción acele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62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 forma tridimensional asociada o no a colores, y cualquier artículo industrial o artesanal que sirva de patrón para la fabricación de otras unidades y que se distinga de sus similares, sea por su forma, configuración geométrica, ornamentación o una combinación de estas, siempre que dichas características le den una apariencia especial perceptible por medio de la vista, de tal manera que resulte una fisonomía nuev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onomía original, Nueva y Difer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rte Arbitrario (“Diseñ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ños desde fecha de solic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7564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529080" cy="212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4508640"/>
            <a:ext cx="3816360" cy="20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4175280" cy="245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tículo 68 en adelan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atos de trabajo o prestación de servic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venciones Universita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-616320" y="5994000"/>
            <a:ext cx="14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1413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para mi gusto, Título poco afortun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23:33:19Z</dcterms:created>
  <dc:creator>rcooper</dc:creator>
  <dc:description/>
  <dc:language>en-US</dc:language>
  <cp:lastModifiedBy>Claudio Magliona</cp:lastModifiedBy>
  <dcterms:modified xsi:type="dcterms:W3CDTF">2008-07-02T23:35:22Z</dcterms:modified>
  <cp:revision>6</cp:revision>
  <dc:subject/>
  <dc:title>Modelo de Utilidad</dc:title>
</cp:coreProperties>
</file>