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5F3-9896-4C12-BA55-60BECE92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0A3-EBDA-4CAE-8742-C3D6CC43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804-81C4-48B4-9268-A4695F2A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7F8-A05B-4A19-9130-F2F0AAA4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7D3-04AE-4C9A-AFB8-52832B2B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084-B76C-4379-95B3-83699220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6AA-3E22-4FBD-BC1A-EF6FF43A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A49-1FA1-4CC8-8A34-4EC883FB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1B0-B8D0-4771-B60D-24FCB765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1C7-E07C-4A30-8070-A75CBC88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E64-94A0-4F93-9450-2942CB4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B75-8498-4049-A2C0-55C24FEE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A057-7AEF-4A92-AD2B-D4F3B1E1FA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40160" y="0"/>
          <a:ext cx="479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0"/>
                    <a:ext cx="479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04920" y="0"/>
          <a:ext cx="5510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0"/>
                    <a:ext cx="5510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8251560" y="6005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-3240"/>
          <a:ext cx="7488000" cy="68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-3240"/>
                    <a:ext cx="74880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 de pat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57360" y="1197000"/>
          <a:ext cx="45547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197000"/>
                    <a:ext cx="45547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8340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76360" y="1052640"/>
          <a:ext cx="408492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052640"/>
                    <a:ext cx="40849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50920" y="0"/>
          <a:ext cx="530388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038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16200" y="6453360"/>
          <a:ext cx="3008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6453360"/>
                    <a:ext cx="3008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107120" y="65530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12840" y="0"/>
          <a:ext cx="51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0"/>
                    <a:ext cx="51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0"/>
          <a:ext cx="6275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0"/>
                    <a:ext cx="627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2200" y="0"/>
          <a:ext cx="792180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0"/>
                    <a:ext cx="79218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618320" y="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62280" y="0"/>
          <a:ext cx="5846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0"/>
                    <a:ext cx="5846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0"/>
          <a:ext cx="540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40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89160" y="0"/>
          <a:ext cx="5094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0"/>
                    <a:ext cx="5094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76720" y="6183360"/>
          <a:ext cx="15112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6183360"/>
                    <a:ext cx="1511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74800" y="0"/>
          <a:ext cx="5967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0"/>
                    <a:ext cx="596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4312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11400" y="0"/>
          <a:ext cx="5294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0"/>
                    <a:ext cx="5294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3980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5400000">
            <a:off x="-633600" y="593280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2400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5640" y="0"/>
          <a:ext cx="5305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305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01:44Z</dcterms:created>
  <dc:creator>rcooper</dc:creator>
  <dc:description/>
  <dc:language>en-US</dc:language>
  <cp:lastModifiedBy>Claudio Magliona</cp:lastModifiedBy>
  <dcterms:modified xsi:type="dcterms:W3CDTF">2008-07-02T23:35:35Z</dcterms:modified>
  <cp:revision>4</cp:revision>
  <dc:subject/>
  <dc:title>Diapositiva 1</dc:title>
</cp:coreProperties>
</file>