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463E-0A26-4D0E-A28F-4C92530D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595-665E-438C-BCDA-8E8C0B55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B42-0CE3-4361-9D94-34515E4E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6BED-0018-4043-933C-DC7A8289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3CE-2CD9-4EC6-B465-FC01B929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9E96-80AD-4FC3-88F4-DC6FFC0D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9775-FCFC-49BB-8F65-2F0FAD42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1C53-9BA5-496F-AA30-6C038F18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03E-C8D1-4CE5-A26B-4459EC33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0855-6D9E-41B8-831E-E428E204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5320-3E44-4F9C-B9DA-24616C72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78D-2CE2-44D9-B407-7D93241A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EEF9-E54D-4083-A446-505CC6811C5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40160" y="0"/>
          <a:ext cx="4798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0"/>
                    <a:ext cx="4798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rot="5400000">
            <a:off x="8142120" y="5789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104920" y="0"/>
          <a:ext cx="5510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4920" y="0"/>
                    <a:ext cx="5510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 rot="16200000">
            <a:off x="8251560" y="6005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4360" y="-3240"/>
          <a:ext cx="7488000" cy="681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-3240"/>
                    <a:ext cx="748800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ceso de patent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57360" y="1197000"/>
          <a:ext cx="4554720" cy="558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1197000"/>
                    <a:ext cx="455472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583400" y="659772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376360" y="1052640"/>
          <a:ext cx="408492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360" y="1052640"/>
                    <a:ext cx="408492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050920" y="0"/>
          <a:ext cx="530388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0388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716200" y="6453360"/>
          <a:ext cx="300816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6200" y="6453360"/>
                    <a:ext cx="30081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7107120" y="65530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112840" y="0"/>
          <a:ext cx="5116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2840" y="0"/>
                    <a:ext cx="511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43080" y="0"/>
          <a:ext cx="6275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3080" y="0"/>
                    <a:ext cx="6275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659772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2200" y="0"/>
          <a:ext cx="7921800" cy="686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0"/>
                    <a:ext cx="79218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7618320" y="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862280" y="0"/>
          <a:ext cx="5846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0"/>
                    <a:ext cx="5846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0"/>
          <a:ext cx="5405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0"/>
                    <a:ext cx="5405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89160" y="0"/>
          <a:ext cx="509436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9160" y="0"/>
                    <a:ext cx="509436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076720" y="6183360"/>
          <a:ext cx="151128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6183360"/>
                    <a:ext cx="1511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 rot="5400000">
            <a:off x="8142120" y="5789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74800" y="0"/>
          <a:ext cx="5967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0"/>
                    <a:ext cx="5967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43120" y="0"/>
          <a:ext cx="5229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3120" y="0"/>
                    <a:ext cx="5229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 rot="5400000">
            <a:off x="-63360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111400" y="0"/>
          <a:ext cx="5294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1400" y="0"/>
                    <a:ext cx="5294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 rot="5400000">
            <a:off x="-63360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39800" y="0"/>
          <a:ext cx="5229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9800" y="0"/>
                    <a:ext cx="5229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 rot="5400000">
            <a:off x="-633600" y="593280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12400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6692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95640" y="0"/>
          <a:ext cx="5305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0"/>
                    <a:ext cx="5305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692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0:01:44Z</dcterms:created>
  <dc:creator>rcooper</dc:creator>
  <dc:description/>
  <dc:language>en-US</dc:language>
  <cp:lastModifiedBy>Claudio Magliona</cp:lastModifiedBy>
  <dcterms:modified xsi:type="dcterms:W3CDTF">2008-07-02T23:35:35Z</dcterms:modified>
  <cp:revision>4</cp:revision>
  <dc:subject/>
  <dc:title>Diapositiva 1</dc:title>
</cp:coreProperties>
</file>