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36D-2F48-4E67-983E-13DAEA90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6A2-F914-4CFA-9ABC-72D5C7E0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A14-70EE-4EC9-B61A-E36EF8D8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420-CF64-4DCA-916D-2F11859C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ACB-3C85-459F-BA81-0B3E8625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9B2-58E9-4280-B31E-690D6CFD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0D2-B695-432D-A21C-F374354E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800B-B86B-4A22-8B97-2A5FC971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E33-18B0-42A2-B20F-7E8086E5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246-9242-4D03-A22A-5FC9F06A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3D3-DFE7-4D8A-89BE-E7E0DDB3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3DE-95FF-4EED-8138-343BD0F3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A557-3DC1-4AA6-BF8F-9A8388F7F9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40160" y="0"/>
          <a:ext cx="4798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0"/>
                    <a:ext cx="479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04920" y="0"/>
          <a:ext cx="5510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0"/>
                    <a:ext cx="5510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 rot="16200000">
            <a:off x="8251560" y="6005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-3240"/>
          <a:ext cx="7488000" cy="68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-3240"/>
                    <a:ext cx="748800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so de patent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57360" y="1197000"/>
          <a:ext cx="455472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1197000"/>
                    <a:ext cx="455472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58340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76360" y="1052640"/>
          <a:ext cx="408492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052640"/>
                    <a:ext cx="408492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050920" y="0"/>
          <a:ext cx="530388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038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716200" y="6453360"/>
          <a:ext cx="30081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6200" y="6453360"/>
                    <a:ext cx="3008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107120" y="65530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12840" y="0"/>
          <a:ext cx="511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2840" y="0"/>
                    <a:ext cx="511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43080" y="0"/>
          <a:ext cx="6275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0"/>
                    <a:ext cx="627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2200" y="0"/>
          <a:ext cx="7921800" cy="68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0"/>
                    <a:ext cx="79218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618320" y="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62280" y="0"/>
          <a:ext cx="5846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0"/>
                    <a:ext cx="5846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0"/>
          <a:ext cx="5405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40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89160" y="0"/>
          <a:ext cx="5094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9160" y="0"/>
                    <a:ext cx="5094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76720" y="6183360"/>
          <a:ext cx="15112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6183360"/>
                    <a:ext cx="1511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74800" y="0"/>
          <a:ext cx="5967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0"/>
                    <a:ext cx="5967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4312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11400" y="0"/>
          <a:ext cx="5294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0"/>
                    <a:ext cx="5294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3980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rot="5400000">
            <a:off x="-633600" y="593280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2400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95640" y="0"/>
          <a:ext cx="5305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5305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01:44Z</dcterms:created>
  <dc:creator>rcooper</dc:creator>
  <dc:description/>
  <dc:language>en-US</dc:language>
  <cp:lastModifiedBy>Claudio Magliona</cp:lastModifiedBy>
  <dcterms:modified xsi:type="dcterms:W3CDTF">2008-07-02T23:35:35Z</dcterms:modified>
  <cp:revision>4</cp:revision>
  <dc:subject/>
  <dc:title>Diapositiva 1</dc:title>
</cp:coreProperties>
</file>