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7624-7FE9-4073-9600-B1D271058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833-86CD-424D-B957-65DB2C4D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55F8-1AE9-4FA8-A6EF-911CF4BA5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8F94-1B35-48A4-8178-7BA4E31B2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CB12-4F8D-4A98-A9C3-EEF71B8F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983-896B-4266-B8B8-5A990C0B4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E49B-0751-422E-AFF6-856D4039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B06-5C9E-4250-8162-4218ED7B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FF2-5CCE-409A-A929-E0DD7269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AD8B-DA58-419C-8A02-579FD8A5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3199-E5B2-478F-81C7-130132D7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677-A3E0-4644-BB0C-78EF627A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7915-36E3-496D-9483-F0448213EDA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ción Leg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ículo 54.- “… los instrumentos, aparatos … en los que la forma sea reivindicable, tanto en su aspecto externo como en su funcionamiento, y siempre que esta produzca una UTILIDAD, esto es, que aporte a la función a que son destinados un beneficio, ventaja o efecto técnico que antes no tenía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itular del derecho: empleador o Univer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ventual repartición de beneficios econó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a U. tiene un sistema: Regla Gral: Ter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mportancia en Chile por sistema de innovación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iste una definición legal para Transferencia Tecnológica, y ni siquiera una mención a ella en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T es la efectiva utilización de la innovación en la sociedad civil o en el ámbito que correspo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Id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3213000"/>
            <a:ext cx="107928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3357720"/>
            <a:ext cx="2232360" cy="720720"/>
          </a:xfrm>
          <a:prstGeom prst="rightArrow">
            <a:avLst>
              <a:gd name="adj1" fmla="val 54648"/>
              <a:gd name="adj2" fmla="val 2079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  + 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95640" y="3213000"/>
            <a:ext cx="1079640" cy="10080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Produ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3357720"/>
            <a:ext cx="2232000" cy="720720"/>
          </a:xfrm>
          <a:prstGeom prst="rightArrow">
            <a:avLst>
              <a:gd name="adj1" fmla="val 54648"/>
              <a:gd name="adj2" fmla="val 2078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Protección 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28000" y="3284640"/>
            <a:ext cx="826920" cy="93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3a"/>
                </a:solidFill>
                <a:latin typeface="Arial"/>
              </a:rPr>
              <a:t>T.T</a:t>
            </a: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000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 Black"/>
              </a:rPr>
              <a:t>Contexto re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068640"/>
            <a:ext cx="10796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16000" y="3573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56000" y="3716280"/>
            <a:ext cx="28728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458136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59280" y="4724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724280"/>
            <a:ext cx="504720" cy="86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2627280" y="2781000"/>
            <a:ext cx="93672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19640" y="3429000"/>
            <a:ext cx="289080" cy="289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360" y="558972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342900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80000" y="4581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2565360"/>
            <a:ext cx="288720" cy="28908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08720" y="2205000"/>
            <a:ext cx="574920" cy="385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219640" y="458136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788000" y="5661000"/>
            <a:ext cx="574560" cy="385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796000" y="206064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3780000" y="6237360"/>
            <a:ext cx="574560" cy="3855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284720" y="1844640"/>
            <a:ext cx="574560" cy="3859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3851280" y="2204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708360" y="587700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4284720" y="2276280"/>
            <a:ext cx="28728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059280" y="3644640"/>
            <a:ext cx="115236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2764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35640" y="2492280"/>
            <a:ext cx="57636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4005360"/>
            <a:ext cx="28908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00720" y="4005360"/>
            <a:ext cx="288720" cy="288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95640" y="479736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067280" y="4220640"/>
            <a:ext cx="4334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7280" y="4724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149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516720" y="4221000"/>
            <a:ext cx="57636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516720" y="3141720"/>
            <a:ext cx="1440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435640" y="2421000"/>
            <a:ext cx="1873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7956720" y="2997360"/>
            <a:ext cx="574560" cy="385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020000" y="5013360"/>
            <a:ext cx="288720" cy="28872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308720" y="5157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885080" y="4724280"/>
            <a:ext cx="827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3a"/>
                </a:solidFill>
                <a:latin typeface="Arial"/>
              </a:rPr>
              <a:t>T.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42920" y="3645000"/>
            <a:ext cx="1368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2700360" y="2997000"/>
            <a:ext cx="720720" cy="50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851280" y="234900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27280" y="3716280"/>
            <a:ext cx="287280" cy="865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916360" y="3860640"/>
            <a:ext cx="865080" cy="72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059280" y="4941720"/>
            <a:ext cx="433080" cy="722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4653000"/>
            <a:ext cx="720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67280" y="4724280"/>
            <a:ext cx="792000" cy="863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56000" y="4653000"/>
            <a:ext cx="792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3995640" y="4149360"/>
            <a:ext cx="433440" cy="360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88000" y="4149720"/>
            <a:ext cx="576360" cy="79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508464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5292720" y="2492280"/>
            <a:ext cx="576360" cy="936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8559720" y="92160"/>
            <a:ext cx="476280" cy="960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42920" y="32130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I +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3716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 Black"/>
              </a:rPr>
              <a:t>I + D +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ción y Desarrollo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dinero en conocimien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novación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ir conocimientos en diner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comienza el día 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atentes de invención (y las demás formas de protección análogas) son sólo un elemento más (habitualmente esencial) en el proceso de 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TT no significa NECESARIAMENTE la comercialización de la inv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59636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Produc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línea de producción en Empre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ueva empres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start ups, spin off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 algn="just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TRANSFERENCIA TECN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4292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Negocio Tecnoló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mprave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Lic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Know 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Franqui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Consulto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TA (</a:t>
            </a:r>
            <a:r>
              <a:rPr b="1" i="1" lang="es-ES" sz="2800" spc="-1" strike="noStrike">
                <a:solidFill>
                  <a:srgbClr val="000000"/>
                </a:solidFill>
                <a:latin typeface="Arial"/>
              </a:rPr>
              <a:t>“Material Transfer Agreement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atos de Socie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35280" y="6453360"/>
            <a:ext cx="13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Innomin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to por el cual una de las partes, titular de derechos de propiedad industrial (licenciante), autoriza a otra (licenciatario) para que use y goce de dichos derechos, a cambio de un pago convenido de antemano (regal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crito (anotación al margen) en DPI para ser oponible a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-563040" y="60505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 Black"/>
              </a:rPr>
              <a:t>CONTRATO DE LICEN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26920" y="2166480"/>
            <a:ext cx="77724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va o no exclus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yente o no excluy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tuita u onero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ritorial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cruz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cencias no voluntarias (Art. 5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64533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1700280"/>
            <a:ext cx="3292560" cy="4114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334120" y="1700280"/>
            <a:ext cx="3046320" cy="41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" name=""/>
          <p:cNvSpPr/>
          <p:nvPr/>
        </p:nvSpPr>
        <p:spPr>
          <a:xfrm rot="5400000">
            <a:off x="8204400" y="579024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71280" y="1628280"/>
            <a:ext cx="324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 rot="21086400">
            <a:off x="69840" y="-87480"/>
            <a:ext cx="3995640" cy="3826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 rot="455400">
            <a:off x="4109760" y="299520"/>
            <a:ext cx="4464000" cy="28274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237600">
            <a:off x="2484360" y="1989000"/>
            <a:ext cx="3816360" cy="3627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 rot="210600">
            <a:off x="221760" y="1157400"/>
            <a:ext cx="3862440" cy="5473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 rot="21382200">
            <a:off x="4614840" y="3731760"/>
            <a:ext cx="4272120" cy="3164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 rot="214800">
            <a:off x="4773240" y="2723760"/>
            <a:ext cx="4356000" cy="3267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 rot="21213000">
            <a:off x="5254560" y="219240"/>
            <a:ext cx="3610080" cy="4032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2470320" y="260280"/>
            <a:ext cx="3439800" cy="3600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 rot="21451200">
            <a:off x="2124000" y="2889000"/>
            <a:ext cx="40323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quisitos Modelo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ve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til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licación Indust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635280" y="656892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costo de solicitud y trami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es requis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or plazo de prot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en países menos industrializ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ción: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or importancia por ciclos de producción aceler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ículo 62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 forma tridimensional asociada o no a colores, y cualquier artículo industrial o artesanal que sirva de patrón para la fabricación de otras unidades y que se distinga de sus similares, sea por su forma, configuración geométrica, ornamentación o una combinación de estas, siempre que dichas características le den una apariencia especial perceptible por medio de la vista, de tal manera que resulte una fisonomía nuev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75640" y="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eño Indust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onomía original, Nueva y Difer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orte Arbitrario (“Diseño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ura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años desde fecha de solicit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5640" y="6613560"/>
            <a:ext cx="13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3529080" cy="2122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4508640"/>
            <a:ext cx="3816360" cy="205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4175280" cy="245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venciones en Serv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4292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rtículo 68 en adelant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ontratos de trabajo o prestación de servici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8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venciones Universitaria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5400000">
            <a:off x="-616320" y="599400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47640" y="1413000"/>
            <a:ext cx="65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para mi gusto, Título poco afortunad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8T23:33:19Z</dcterms:created>
  <dc:creator>rcooper</dc:creator>
  <dc:description/>
  <dc:language>en-US</dc:language>
  <cp:lastModifiedBy>Claudio Magliona</cp:lastModifiedBy>
  <dcterms:modified xsi:type="dcterms:W3CDTF">2008-07-02T23:35:22Z</dcterms:modified>
  <cp:revision>6</cp:revision>
  <dc:subject/>
  <dc:title>Modelo de Utilidad</dc:title>
</cp:coreProperties>
</file>