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27D-3FCC-4D8D-9BA4-87BAF8E8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B5F-9712-45BB-925B-04C5541A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141-6ED3-4551-9FF7-9E66BA60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EF1-50B4-4397-93EA-27FD9B2B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AF4-1F44-4577-8ADC-8C8A4718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78C-DDC2-4DD0-96DF-315A3EE2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ED2-A9AD-4DEC-8ED0-9AEABDF5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A9A-0A3D-47E9-80BF-51A91B91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DD3-A802-4D11-BC7E-0C8CB1D7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62D-FBC6-43BF-97C5-0B40C17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F49-4920-4CB7-ACFB-384495BD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FD3-CE1B-4025-B025-8D92AA9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FC4-C4EF-4D2A-B716-53F0AF2AD9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Le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54.- “… los instrumentos, aparatos … en los que la forma sea reivindicable, tanto en su aspecto externo como en su funcionamiento, y siempre que esta produzca una UTILIDAD, esto es, que aporte a la función a que son destinados un beneficio, ventaja o efecto técnico que antes no tení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tular del derecho: empleador o 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entual repartición de benefici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U. tiene un sistema: Regla Gral: Ter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ortancia en Chile por sistema de innovación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iste una definición legal para Transferencia Tecnológica, y ni siquiera una mención a ella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 es la efectiva utilización de la innovación en la sociedad civil o en el ámbito que correspo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213000"/>
            <a:ext cx="107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3357720"/>
            <a:ext cx="2232360" cy="720720"/>
          </a:xfrm>
          <a:prstGeom prst="rightArrow">
            <a:avLst>
              <a:gd name="adj1" fmla="val 54648"/>
              <a:gd name="adj2" fmla="val 207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+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213000"/>
            <a:ext cx="10796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3357720"/>
            <a:ext cx="2232000" cy="720720"/>
          </a:xfrm>
          <a:prstGeom prst="rightArrow">
            <a:avLst>
              <a:gd name="adj1" fmla="val 54648"/>
              <a:gd name="adj2" fmla="val 207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tección 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3284640"/>
            <a:ext cx="8269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T.T</a:t>
            </a: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68640"/>
            <a:ext cx="1079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371628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58136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724280"/>
            <a:ext cx="50472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27280" y="27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5589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42900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581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565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8720" y="2205000"/>
            <a:ext cx="574920" cy="3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458136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96000" y="206064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780000" y="623736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284720" y="1844640"/>
            <a:ext cx="574560" cy="3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851280" y="2204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77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227628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59280" y="3644640"/>
            <a:ext cx="115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35640" y="249228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400536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00536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797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67280" y="4220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149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4221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516720" y="314172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35640" y="2421000"/>
            <a:ext cx="187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956720" y="2997360"/>
            <a:ext cx="574560" cy="38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0000" y="5013360"/>
            <a:ext cx="28872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4724280"/>
            <a:ext cx="827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T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00360" y="2997000"/>
            <a:ext cx="720720" cy="50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51280" y="234900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3716280"/>
            <a:ext cx="2872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16360" y="3860640"/>
            <a:ext cx="86508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4941720"/>
            <a:ext cx="433080" cy="72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653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724280"/>
            <a:ext cx="79200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653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995640" y="414936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4149720"/>
            <a:ext cx="576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08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292720" y="2492280"/>
            <a:ext cx="57636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8559720" y="92160"/>
            <a:ext cx="476280" cy="96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32130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 +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I + D +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 y Desarrollo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dinero en conocimi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ción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conocimientos en din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comienza el día 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atentes de invención (y las demás formas de protección análogas) son sólo un elemento más (habitualmente esencial) en el proceso de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no significa NECESARIAMENTE la comercialización de la in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línea de producción en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empres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start ups, spin off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mpra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Li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Franqu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nsult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T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“Material Transfer Agreemen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Inno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por el cual una de las partes, titular de derechos de propiedad industrial (licenciante), autoriza a otra (licenciatario) para que use y goce de dichos derechos, a cambio de un pago convenido de antemano (regal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rito (anotación al margen) en DPI para ser oponible a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-563040" y="60505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216648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a o no exclu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te o no exc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tuita u one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cru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no voluntarias (Art. 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925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1700280"/>
            <a:ext cx="304632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1280" y="1628280"/>
            <a:ext cx="324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1086400">
            <a:off x="69840" y="-87480"/>
            <a:ext cx="3995640" cy="382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455400">
            <a:off x="4109760" y="299520"/>
            <a:ext cx="4464000" cy="282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37600">
            <a:off x="2484360" y="1989000"/>
            <a:ext cx="3816360" cy="362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10600">
            <a:off x="221760" y="1157400"/>
            <a:ext cx="3862440" cy="54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1382200">
            <a:off x="4614840" y="3731760"/>
            <a:ext cx="4272120" cy="316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214800">
            <a:off x="4773240" y="272376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21213000">
            <a:off x="5254560" y="219240"/>
            <a:ext cx="361008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470320" y="260280"/>
            <a:ext cx="343980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 rot="21451200">
            <a:off x="2124000" y="2889000"/>
            <a:ext cx="4032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sitos Modelo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licación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costo de solicitud y tram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es 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plazo de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en países menos industr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ción: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por ciclos de producción acel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62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 forma tridimensional asociada o no a colores, y cualquier artículo industrial o artesanal que sirva de patrón para la fabricación de otras unidades y que se distinga de sus similares, sea por su forma, configuración geométrica, ornamentación o una combinación de estas, siempre que dichas características le den una apariencia especial perceptible por medio de la vista, de tal manera que resulte una fisonomía nue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onomía original, Nueva y Dife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rte Arbitrario (“Diseñ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ños desde fecha de solic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564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529080" cy="21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3816360" cy="20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175280" cy="24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68 en adela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tos de trabajo o prestación de servic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venciones Universita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-616320" y="599400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413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para mi gusto, Título poco afortun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3:33:19Z</dcterms:created>
  <dc:creator>rcooper</dc:creator>
  <dc:description/>
  <dc:language>en-US</dc:language>
  <cp:lastModifiedBy>Claudio Magliona</cp:lastModifiedBy>
  <dcterms:modified xsi:type="dcterms:W3CDTF">2008-07-02T23:35:22Z</dcterms:modified>
  <cp:revision>6</cp:revision>
  <dc:subject/>
  <dc:title>Modelo de Utilidad</dc:title>
</cp:coreProperties>
</file>