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4E7-D915-4D80-8C2C-52C42EE0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008-44B1-4FA8-9A8E-0270F175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F64-00B5-4995-82ED-619506A5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724-B755-42C6-8D5F-5F6650B5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C9A5-4B7E-4F04-90DD-C768E71D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D4D-B692-4E79-9193-3CF737B3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4C3-F28C-4B8D-A280-8E602D50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F5B-0CB2-4926-B07A-63E1EF6D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DCF-D224-437B-9D59-358EA7B7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E7D-D1E1-4EC4-92A6-772C4C33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9B0-5512-4D90-9B30-D067673E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099-6B76-41AE-A376-E216B8ED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C89A-DE28-4EFB-BE64-F9008CF029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40160" y="0"/>
          <a:ext cx="4798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0"/>
                    <a:ext cx="4798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rot="5400000">
            <a:off x="8142120" y="5789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04920" y="0"/>
          <a:ext cx="5510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0"/>
                    <a:ext cx="5510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 rot="16200000">
            <a:off x="8251560" y="6005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4360" y="-3240"/>
          <a:ext cx="7488000" cy="68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-3240"/>
                    <a:ext cx="748800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ceso de patent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57360" y="1197000"/>
          <a:ext cx="4554720" cy="55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1197000"/>
                    <a:ext cx="455472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583400" y="659772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376360" y="1052640"/>
          <a:ext cx="408492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052640"/>
                    <a:ext cx="408492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050920" y="0"/>
          <a:ext cx="530388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0388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716200" y="6453360"/>
          <a:ext cx="300816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6200" y="6453360"/>
                    <a:ext cx="30081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107120" y="65530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12840" y="0"/>
          <a:ext cx="511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2840" y="0"/>
                    <a:ext cx="511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43080" y="0"/>
          <a:ext cx="6275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0"/>
                    <a:ext cx="6275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659772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2200" y="0"/>
          <a:ext cx="7921800" cy="68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0"/>
                    <a:ext cx="79218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618320" y="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862280" y="0"/>
          <a:ext cx="5846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0"/>
                    <a:ext cx="5846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0"/>
          <a:ext cx="5405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540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89160" y="0"/>
          <a:ext cx="509436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9160" y="0"/>
                    <a:ext cx="50943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076720" y="6183360"/>
          <a:ext cx="15112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6183360"/>
                    <a:ext cx="1511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5400000">
            <a:off x="8142120" y="5789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74800" y="0"/>
          <a:ext cx="5967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0"/>
                    <a:ext cx="5967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43120" y="0"/>
          <a:ext cx="522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3120" y="0"/>
                    <a:ext cx="522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 rot="5400000">
            <a:off x="-63360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11400" y="0"/>
          <a:ext cx="5294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0"/>
                    <a:ext cx="5294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-63360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39800" y="0"/>
          <a:ext cx="522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0"/>
                    <a:ext cx="522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 rot="5400000">
            <a:off x="-633600" y="593280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2400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6692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95640" y="0"/>
          <a:ext cx="5305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0"/>
                    <a:ext cx="5305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692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01:44Z</dcterms:created>
  <dc:creator>rcooper</dc:creator>
  <dc:description/>
  <dc:language>en-US</dc:language>
  <cp:lastModifiedBy>Claudio Magliona</cp:lastModifiedBy>
  <dcterms:modified xsi:type="dcterms:W3CDTF">2008-07-02T23:35:35Z</dcterms:modified>
  <cp:revision>4</cp:revision>
  <dc:subject/>
  <dc:title>Diapositiva 1</dc:title>
</cp:coreProperties>
</file>