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DCD-9CA9-41BF-9F2C-2D159389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C0D-9853-4E74-85AB-5397078B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32C-8556-432D-8758-5D6ACA79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F220-1B70-43FD-8F8C-B7F94C9E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4F9-74A1-4BE5-9B11-82803FBB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1B1-954A-4A68-9F67-6B51CAFF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0D41-3436-412F-B1EF-29D8AE61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050-D320-4E39-B0F8-4490759B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5A9-326D-4670-BF05-D41754D3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AC9-0F09-4473-BAA2-C975232B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CCB3-99F9-4671-AFBA-42F7DFE2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62CE-C4D7-4074-9014-B0CB6D7A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956D-E4D7-4B7D-BC6F-CC19A8006CA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ón Leg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ículo 54.- “… los instrumentos, aparatos … en los que la forma sea reivindicable, tanto en su aspecto externo como en su funcionamiento, y siempre que esta produzca una UTILIDAD, esto es, que aporte a la función a que son destinados un beneficio, ventaja o efecto técnico que antes no tení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8204400" y="579024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nciones en Serv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tular del derecho: empleador o Univer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entual repartición de benefici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U. tiene un sistema: Regla Gral: Ter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ortancia en Chile por sistema de innovación 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xiste una definición legal para Transferencia Tecnológica, y ni siquiera una mención a ella en la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T es la efectiva utilización de la innovación en la sociedad civil o en el ámbito que correspo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 Black"/>
              </a:rPr>
              <a:t>Context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3213000"/>
            <a:ext cx="1079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3357720"/>
            <a:ext cx="2232360" cy="720720"/>
          </a:xfrm>
          <a:prstGeom prst="rightArrow">
            <a:avLst>
              <a:gd name="adj1" fmla="val 54648"/>
              <a:gd name="adj2" fmla="val 2079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  +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3213000"/>
            <a:ext cx="107964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3357720"/>
            <a:ext cx="2232000" cy="720720"/>
          </a:xfrm>
          <a:prstGeom prst="rightArrow">
            <a:avLst>
              <a:gd name="adj1" fmla="val 54648"/>
              <a:gd name="adj2" fmla="val 207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rotección D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28000" y="3284640"/>
            <a:ext cx="8269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T.T</a:t>
            </a: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0000" y="65689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 Black"/>
              </a:rPr>
              <a:t>Contexto r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068640"/>
            <a:ext cx="1079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342900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6000" y="3716280"/>
            <a:ext cx="28728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458136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59280" y="4724280"/>
            <a:ext cx="50472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627280" y="278100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342900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5589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342900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458136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256536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08720" y="2205000"/>
            <a:ext cx="574920" cy="38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9640" y="4581360"/>
            <a:ext cx="574560" cy="385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788000" y="5661000"/>
            <a:ext cx="574560" cy="385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796000" y="2060640"/>
            <a:ext cx="574560" cy="385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780000" y="6237360"/>
            <a:ext cx="574560" cy="385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284720" y="1844640"/>
            <a:ext cx="574560" cy="385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3851280" y="2204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5877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284720" y="2276280"/>
            <a:ext cx="2872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059280" y="3644640"/>
            <a:ext cx="1152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35640" y="2492280"/>
            <a:ext cx="57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400536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00536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479736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067280" y="4220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67280" y="472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149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6720" y="422100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516720" y="3141720"/>
            <a:ext cx="1440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435640" y="2421000"/>
            <a:ext cx="1873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7956720" y="2997360"/>
            <a:ext cx="574560" cy="385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020000" y="5013360"/>
            <a:ext cx="288720" cy="28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885080" y="4724280"/>
            <a:ext cx="827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T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3645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00360" y="2997000"/>
            <a:ext cx="720720" cy="50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851280" y="2349000"/>
            <a:ext cx="43344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3716280"/>
            <a:ext cx="28728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916360" y="3860640"/>
            <a:ext cx="86508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4941720"/>
            <a:ext cx="433080" cy="722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465300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4724280"/>
            <a:ext cx="792000" cy="86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465300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995640" y="4149360"/>
            <a:ext cx="4334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4149720"/>
            <a:ext cx="576360" cy="79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508464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292720" y="2492280"/>
            <a:ext cx="576360" cy="93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8559720" y="92160"/>
            <a:ext cx="476280" cy="960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42920" y="32130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 +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37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5640" y="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 Black"/>
              </a:rPr>
              <a:t>I + D +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ción y Desarrollo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r dinero en conocimien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ción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r conocimientos en din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T comienza el día u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atentes de invención (y las demás formas de protección análogas) son sólo un elemento más (habitualmente esencial) en el proceso de 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T no significa NECESARIAMENTE la comercialización de la in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6360" y="6453360"/>
            <a:ext cx="13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egocio Produ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eva línea de producción en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eva empresa (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start ups, spin off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 de Soc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egocio Tec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Compra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Lic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Know 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Franqui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Consult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TA (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“Material Transfer Agreement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Soc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35280" y="6453360"/>
            <a:ext cx="13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ONTRATO DE LIC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to Inno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to por el cual una de las partes, titular de derechos de propiedad industrial (licenciante), autoriza a otra (licenciatario) para que use y goce de dichos derechos, a cambio de un pago convenido de antemano (regal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crito (anotación al margen) en DPI para ser oponible a terc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-563040" y="60505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ONTRATO DE LIC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6920" y="2166480"/>
            <a:ext cx="77724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siva o no exclus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yente o no excl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tuita u oner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itori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cias cru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cias no voluntarias (Art. 5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32925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4120" y="1700280"/>
            <a:ext cx="3046320" cy="41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 rot="5400000">
            <a:off x="8204400" y="579024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71280" y="1628280"/>
            <a:ext cx="3240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1086400">
            <a:off x="69840" y="-87480"/>
            <a:ext cx="3995640" cy="3826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455400">
            <a:off x="4109760" y="299520"/>
            <a:ext cx="4464000" cy="2827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37600">
            <a:off x="2484360" y="1989000"/>
            <a:ext cx="3816360" cy="3627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10600">
            <a:off x="221760" y="1157400"/>
            <a:ext cx="3862440" cy="5473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1382200">
            <a:off x="4614840" y="3731760"/>
            <a:ext cx="4272120" cy="3164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 rot="214800">
            <a:off x="4773240" y="272376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 rot="21213000">
            <a:off x="5254560" y="219240"/>
            <a:ext cx="3610080" cy="4032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2470320" y="260280"/>
            <a:ext cx="3439800" cy="360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 rot="21451200">
            <a:off x="2124000" y="2889000"/>
            <a:ext cx="40323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quisitos Modelo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ve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licación Indus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65689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 costo de solicitud y tram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es requis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 plazo de prot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importancia en países menos industrial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ción: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importancia por ciclos de producción acele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eño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ículo 62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 forma tridimensional asociada o no a colores, y cualquier artículo industrial o artesanal que sirva de patrón para la fabricación de otras unidades y que se distinga de sus similares, sea por su forma, configuración geométrica, ornamentación o una combinación de estas, siempre que dichas características le den una apariencia especial perceptible por medio de la vista, de tal manera que resulte una fisonomía nuev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75640" y="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eño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onomía original, Nueva y Difer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orte Arbitrario (“Diseño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años desde fecha de solic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7564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529080" cy="212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11640" y="4508640"/>
            <a:ext cx="3816360" cy="20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4175280" cy="245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nciones en Serv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tículo 68 en adelan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atos de trabajo o prestación de servici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venciones Universitar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-616320" y="5994000"/>
            <a:ext cx="14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14130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para mi gusto, Título poco afortun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23:33:19Z</dcterms:created>
  <dc:creator>rcooper</dc:creator>
  <dc:description/>
  <dc:language>en-US</dc:language>
  <cp:lastModifiedBy>Claudio Magliona</cp:lastModifiedBy>
  <dcterms:modified xsi:type="dcterms:W3CDTF">2008-07-02T23:35:22Z</dcterms:modified>
  <cp:revision>6</cp:revision>
  <dc:subject/>
  <dc:title>Modelo de Utilidad</dc:title>
</cp:coreProperties>
</file>