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112-2089-4380-B2BB-67AF2581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B6A9-F41D-417D-A2ED-0423C1E9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3EB-F18A-4188-8874-9EE3417A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5178-D78B-41BF-8FF7-E86E20D2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9B8D-926E-4C8A-8304-AAB013B51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4C1A-D83F-49D7-B52C-D803B82A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9DB0-E9ED-4CA0-91A2-FF2BB1D2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8580-E4C8-4B37-B698-0FE40FE3C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EAF0-FB1E-4827-A6BD-FB7779EF5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9A7-B376-4EA1-BD69-71E75FAA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399-F265-4501-A48A-50C85B1EC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4126-CFD4-46EC-AC6C-73D30B2F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2E950-78B6-4EC5-B1EB-3A6C7AE50C4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40160" y="0"/>
          <a:ext cx="47988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0160" y="0"/>
                    <a:ext cx="4798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2104920" y="0"/>
          <a:ext cx="5510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4920" y="0"/>
                    <a:ext cx="5510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 rot="16200000">
            <a:off x="8251560" y="6005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4360" y="-3240"/>
          <a:ext cx="7488000" cy="681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-3240"/>
                    <a:ext cx="748800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Proceso de patent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457360" y="1197000"/>
          <a:ext cx="4554720" cy="558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7360" y="1197000"/>
                    <a:ext cx="455472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758340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MODELO DE UT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376360" y="1052640"/>
          <a:ext cx="4084920" cy="580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052640"/>
                    <a:ext cx="4084920" cy="58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050920" y="0"/>
          <a:ext cx="530388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3038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2716200" y="6453360"/>
          <a:ext cx="300816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16200" y="6453360"/>
                    <a:ext cx="300816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7107120" y="65530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2112840" y="0"/>
          <a:ext cx="5116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2840" y="0"/>
                    <a:ext cx="5116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243080" y="0"/>
          <a:ext cx="6275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3080" y="0"/>
                    <a:ext cx="6275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0" y="659772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322200" y="0"/>
          <a:ext cx="7921800" cy="686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2200" y="0"/>
                    <a:ext cx="79218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7618320" y="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862280" y="0"/>
          <a:ext cx="58467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0"/>
                    <a:ext cx="58467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124000" y="0"/>
          <a:ext cx="54054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405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89160" y="0"/>
          <a:ext cx="5094360" cy="616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89160" y="0"/>
                    <a:ext cx="50943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76720" y="6183360"/>
          <a:ext cx="1511280" cy="77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6183360"/>
                    <a:ext cx="151128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5400000">
            <a:off x="8142120" y="57898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74800" y="0"/>
          <a:ext cx="5967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4800" y="0"/>
                    <a:ext cx="5967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74312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312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111400" y="0"/>
          <a:ext cx="52941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11400" y="0"/>
                    <a:ext cx="52941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-63360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39800" y="0"/>
          <a:ext cx="5229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39800" y="0"/>
                    <a:ext cx="5229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 rot="5400000">
            <a:off x="-633600" y="593280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12400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195640" y="0"/>
          <a:ext cx="530532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0"/>
                    <a:ext cx="53053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66920" y="0"/>
          <a:ext cx="52102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0"/>
                    <a:ext cx="52102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 rot="16200000">
            <a:off x="8251560" y="5964480"/>
            <a:ext cx="1525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00"/>
                </a:solidFill>
                <a:latin typeface="Arial"/>
              </a:rPr>
              <a:t>© Rodrigo Co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01:44Z</dcterms:created>
  <dc:creator>rcooper</dc:creator>
  <dc:description/>
  <dc:language>en-US</dc:language>
  <cp:lastModifiedBy>Claudio Magliona</cp:lastModifiedBy>
  <dcterms:modified xsi:type="dcterms:W3CDTF">2008-07-02T23:35:35Z</dcterms:modified>
  <cp:revision>4</cp:revision>
  <dc:subject/>
  <dc:title>Diapositiva 1</dc:title>
</cp:coreProperties>
</file>