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911-8186-4A74-9649-3F3993B5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B7B-06EF-455F-BBB3-7A0ADCBC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B21-8D70-4FD3-9C7D-0E21F792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FBF-9054-4583-A9EB-0157071B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8F1F-6DC9-48E9-AE2F-A64DAC34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9E4B-885D-4A8B-8BD9-A6A926FD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1809-8D84-450C-B388-1DC5A481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63AD-4478-4E48-8A72-90E73D12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9329-073D-4023-990C-38E8AF84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4803-17FF-4485-BF11-116680BF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4F2C-4A03-4DC2-B7E2-39E2C08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FC2-3CC6-41DC-97AF-1EB55002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BA87-4115-4588-B2EC-16A9DEFD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B45B-3681-44EE-ACA4-691D17C2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F857-5B47-45EC-B8EC-6317ECB5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0F80-DAFC-48D1-8C5C-22929B19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2ACB-C230-4BF3-8532-846414A8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532-FF44-4114-AF12-F39CD573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CD2-049E-4658-9E77-402AA079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3FB-6523-4EF2-A9F3-ADDDFB58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FA1-B458-44DE-89FC-CDF04E74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9F3-32CA-4434-8371-0BB84538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4B0-AAD0-4673-B9B7-DDB2E75B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383-AC2E-406C-80D6-FB6871AD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2149-555D-40FA-811C-5E94C2B99008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BD81-A9C5-46C2-A7EF-13781C5A7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3645000"/>
            <a:ext cx="61516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Book Antiqua"/>
              </a:rPr>
              <a:t>Diploma de Postítulo en Nuevas Tecnologías y 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280" y="472392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Seminario II: Propiedad Intelectual y Litigios</a:t>
            </a:r>
            <a:endParaRPr b="0" lang="en-US" sz="20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Macarena López M. y Rodrigo Rojas P.</a:t>
            </a:r>
            <a:r>
              <a:rPr b="1" lang="es-MX" sz="1600" spc="-1" strike="noStrike">
                <a:solidFill>
                  <a:srgbClr val="2d6bc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2560" y="5589720"/>
            <a:ext cx="1297080" cy="936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628640"/>
            <a:ext cx="712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Introducción (fundamentos de protección de la PI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de Música (P2P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a Dispositiv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Ánimo de Lucro v. Beneficio Comerc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ompilaciones – Bases de dat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arga de la prueba en Chi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Futuro: excepciones a los derechos del titular. Ingeniería </a:t>
            </a: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inversa, </a:t>
            </a: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uso justo (“Fair use”), etc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1520" y="1988640"/>
            <a:ext cx="821844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ony Corp. of América v. Universal City Studios (198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d528d"/>
                </a:solidFill>
                <a:latin typeface="Book Antiqua"/>
              </a:rPr>
              <a:t>A&amp;M Records, Inc v. Napster (2002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MGM Studios, Inc. v. Grokster, Ltd. (2005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versal City Studios v. Corley (200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ted States v. La Macchia (199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élez Murillo – Colombia (2008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Feist Publications, Inc. v. Rural Telephone Service (199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Copiepresse v. Google – Bélgica (2007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iacom v. Youtube y Google (2007) (demanda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Jurisprudencia Chilena; nueva tendencia jurisprudenci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d528d"/>
                </a:solidFill>
                <a:latin typeface="Book Antiqua"/>
              </a:rPr>
              <a:t>Proyecto de Ley que modifica la Ley N° 17.33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(Boletín N° 5012-03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Nuevo régimen de excep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Ingeniería Inversa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Seguridad, prueba y funcionamient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Fair Use  (Uso Legítimo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an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Responsabilidad de los ISP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utoría del softwar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0574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. Int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895480"/>
            <a:ext cx="5410440" cy="5335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. Normas vigent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733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3. Tem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572000"/>
            <a:ext cx="5410440" cy="533520"/>
          </a:xfrm>
          <a:prstGeom prst="roundRect">
            <a:avLst>
              <a:gd name="adj" fmla="val 19046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4. Cas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4280" y="5373720"/>
            <a:ext cx="541008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5. Futur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dede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91c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d6bc7"/>
              </a:gs>
              <a:gs pos="100000">
                <a:srgbClr val="0e21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5a3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0" y="36432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Nombres de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omini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50720" y="21337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94360" y="2349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0960" y="4724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31640" y="528624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iseño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Industrial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662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Book Antiqua"/>
              </a:rPr>
              <a:t>Propiedad Intelectu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3680" y="15145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Book Antiqua"/>
              </a:rPr>
              <a:t>Alcanc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687120"/>
            <a:ext cx="2819160" cy="106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° de Autor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ropiamente ta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657240"/>
            <a:ext cx="2970360" cy="10674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Indic. Geográfi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nomin. de orige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59640"/>
            <a:ext cx="3097440" cy="52092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lectu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dustr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Derechos Morales y Patrimoniales sobr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Literarias y Artíst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Musical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Softwar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Cinematográf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Videogramas y multimedi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tros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4. El autor, como titular exclusivo del derecho moral, tiene de por vida las siguientes facultade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1)  Reivindicar la paternidad de la obra, asociando a la misma su nombre o seudónimo conocid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2) Oponerse a toda deformación, mutilación, u otra modificación hecha sin su expreso y previo consentimiento. No se considerarán como tales los trabajos de conservación, reconstitución o restauración de las obras que hayan sufrido daños que alteren o menoscaben su valor artístic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3)  Mantener la obra inédita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4) Autorizar a terceros a terminar la obra inconclusa, previo consentimiento del editor o del cesionario si los hubiere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5) Exigir que se respete su voluntad de mantener la obra anónima o seudónima mientras ésta no pertenezca al patrimonio cultural comú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77520" y="2072880"/>
            <a:ext cx="598644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Explotación de D°s de Autor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P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Explota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ifus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8560" y="155700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8. Sólo el titular del derecho de autor o quienes estuvieren expresamente autorizados por él, tendrán el derecho de utilizar la obra en alguna de las siguientes forma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a) Publicarla mediante su edición, grabación, emisión radiofónica o de televisión, representación, ejecución, lectura, recitación, exhibición y, en general, cualquier otro medio de comunicación al público, actualmente conocido o que se conozca en el futur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b)   Reproducirla por cualquier procedimient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c)  Adaptarla a otro género, o utilizarla en cualquiera otra forma que extrañe una variación, adaptación o transformación de la obra originaria, incluida la traducción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d)  Ejecutarla públicamente mediante la emisión por radio o televisión, discos fonográficos, películas cinematográficas, cintas magnetofónicas u otro soporte material apto para ser utilizado en aparatos reproductores de sonido y voces, con o sin imágenes, o por cualquier otro medi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mas v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stitución Política – Art. 19° Ns. 10º, 11º, 24° y 25°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Ley N° 17.336, sobre Propiedad Intelectual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io de Berna para la Protección de las Obras Literarias y Artística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Tratados de Libre Comercio suscritos con Estados Unidos, la Unión Europea y Méxic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de Roma sobre la Protección de los Artistas Intérpretes o Ejecutantes, los Productores de Fonogramas y los Organismos de Radiodifusió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Acuerdo sobre los Aspectos de los Derechos de Propiedad Intelectual relacionados con el Comercio de la Organización Mundial del Comerci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para la Protección y Promoción de la diversidad de las Expresiones Culturales de la Organización de las Naciones Unidas para la Educación, la Ciencia y la Cultura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184464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2:12:59Z</dcterms:created>
  <dc:creator>Rodrigo Rojas y Macarena López</dc:creator>
  <dc:description/>
  <cp:keywords/>
  <dc:language>en-US</dc:language>
  <cp:lastModifiedBy>Claudio Magliona</cp:lastModifiedBy>
  <dcterms:modified xsi:type="dcterms:W3CDTF">2008-06-26T20:11:07Z</dcterms:modified>
  <cp:revision>17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