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84B-81DA-4E32-8E85-29B910A7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F6E-3132-44AC-913C-EB156765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86B-3914-4D86-90EA-F81FAFCE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AA2-29C0-46F7-813A-A414186D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9311-250B-4EE4-9244-8297119A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0813-A31A-49AD-98F3-D636A199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A566-5935-411C-A77D-E1B6B1A3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C184-9A82-468E-AFA7-5880CF9A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D905-CE2D-459E-AEF4-2965F3DB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A599-D92F-47C2-B060-6DEFA20E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B3AD-AD6E-4015-B859-3ACF756F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E04-8CF4-49D6-8F69-1B5C8B39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87E7-05EF-48F3-ADE7-9AC52DF8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A1D4-AF6C-4E01-92ED-2EF6BCEB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CE94-6535-4AD3-A31B-1CEBEBE9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B8F0-D094-4A75-AA88-6DF687DD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B520-D1F1-46F5-AC0A-1F0356D3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35D-9828-410B-B8F0-BCF9C512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D08-C60E-4E86-B423-7A6F438E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35B3-09D3-4654-B1F5-D51D2E1C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8A6-85FC-4C7C-865C-A73A9DDB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8C8-C5EF-4AA3-9295-6B8E5491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134-8670-459B-A65C-12820D5E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AA6D-1F2E-4A2E-99C5-04C33C7D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0"/>
            <a:ext cx="9132840" cy="1125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2" name="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0" y="-11160"/>
            <a:ext cx="2341440" cy="1123560"/>
            <a:chOff x="0" y="-11160"/>
            <a:chExt cx="2341440" cy="1123560"/>
          </a:xfrm>
        </p:grpSpPr>
        <p:graphicFrame>
          <p:nvGraphicFramePr>
            <p:cNvPr id="6" name=""/>
            <p:cNvGraphicFramePr/>
            <p:nvPr/>
          </p:nvGraphicFramePr>
          <p:xfrm>
            <a:off x="1103400" y="-11160"/>
            <a:ext cx="1238040" cy="112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3400" y="-11160"/>
                      <a:ext cx="1238040" cy="11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0" y="-11160"/>
            <a:ext cx="1170000" cy="112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-11160"/>
                      <a:ext cx="1170000" cy="11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C91E-7AD4-4ECC-B79B-FCEAADCAA96F}" type="slidenum"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" name="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761E-48E7-4CD7-B7C5-E9A7EE68C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2520" y="551484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528d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96080" y="0"/>
            <a:ext cx="3247920" cy="2781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61" name="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87560" cy="279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123720" y="2819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884320" y="0"/>
            <a:ext cx="3011760" cy="2781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6bc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640" y="3645000"/>
            <a:ext cx="61516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Book Antiqua"/>
              </a:rPr>
              <a:t>Diploma de Postítulo en Nuevas Tecnologías y Propiedad Intelec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280" y="4723920"/>
            <a:ext cx="6048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d6bc7"/>
                </a:solidFill>
                <a:latin typeface="Book Antiqua"/>
              </a:rPr>
              <a:t>Seminario II: Propiedad Intelectual y Litigios</a:t>
            </a:r>
            <a:endParaRPr b="0" lang="en-US" sz="2000" spc="-1" strike="noStrike">
              <a:solidFill>
                <a:srgbClr val="2d6bc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d6bc7"/>
                </a:solidFill>
                <a:latin typeface="Book Antiqua"/>
              </a:rPr>
              <a:t>Macarena López M. y Rodrigo Rojas P.</a:t>
            </a:r>
            <a:r>
              <a:rPr b="1" lang="es-MX" sz="1600" spc="-1" strike="noStrike">
                <a:solidFill>
                  <a:srgbClr val="2d6bc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22560" y="5589720"/>
            <a:ext cx="1297080" cy="936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6080" y="2725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5880" y="2268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7080" y="30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240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1628640"/>
            <a:ext cx="712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Introducción (fundamentos de protección de la PI)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escarga de Música (P2P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escarga a Dispositiv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d528d"/>
                </a:solidFill>
                <a:latin typeface="Book Antiqua"/>
              </a:rPr>
              <a:t>Ánimo de Lucro v. Beneficio Comerci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Compilaciones – Bases de dat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Carga de la prueba en Chi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Futuro: excepciones a los derechos del titular. Ingeniería </a:t>
            </a:r>
            <a:r>
              <a:rPr b="0" lang="es-CL" sz="2400" spc="-1" strike="noStrike">
                <a:solidFill>
                  <a:srgbClr val="1d528d"/>
                </a:solidFill>
                <a:latin typeface="Book Antiqua"/>
              </a:rPr>
              <a:t>inversa, </a:t>
            </a: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uso justo (“Fair use”), etc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1520" y="1988640"/>
            <a:ext cx="8218440" cy="33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Sony Corp. of América v. Universal City Studios (1984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d528d"/>
                </a:solidFill>
                <a:latin typeface="Book Antiqua"/>
              </a:rPr>
              <a:t>A&amp;M Records, Inc v. Napster (2002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MGM Studios, Inc. v. Grokster, Ltd. (2005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Universal City Studios v. Corley (2001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United States v. La Macchia (1994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Vélez Murillo – Colombia (2008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Feist Publications, Inc. v. Rural Telephone Service (1991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Copiepresse v. Google – Bélgica (2007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Viacom v. Youtube y Google (2007) (demanda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Jurisprudencia Chilena; nueva tendencia jurisprudencia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d528d"/>
                </a:solidFill>
                <a:latin typeface="Book Antiqua"/>
              </a:rPr>
              <a:t>Proyecto de Ley que modifica la Ley N° 17.336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(Boletín N° 5012-03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Nuevo régimen de excepcio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Ingeniería Inversa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Seguridad, prueba y funcionamiento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Fair Use  (Uso Legítimo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Sancio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Responsabilidad de los ISP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utoría del softwar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2057400"/>
            <a:ext cx="541044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4315b"/>
              </a:gs>
              <a:gs pos="50000">
                <a:srgbClr val="2d6bc7"/>
              </a:gs>
              <a:gs pos="100000">
                <a:srgbClr val="14315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1. Introduc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895480"/>
            <a:ext cx="5410440" cy="533520"/>
          </a:xfrm>
          <a:prstGeom prst="roundRect">
            <a:avLst>
              <a:gd name="adj" fmla="val 12796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2. Normas vigent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733920"/>
            <a:ext cx="5410440" cy="53316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3. Tem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4572000"/>
            <a:ext cx="5410440" cy="533520"/>
          </a:xfrm>
          <a:prstGeom prst="roundRect">
            <a:avLst>
              <a:gd name="adj" fmla="val 19046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4. Cas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4280" y="5373720"/>
            <a:ext cx="541008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5. Futur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deded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1d528d"/>
              </a:gs>
              <a:gs pos="100000">
                <a:srgbClr val="091c3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2d6bc7"/>
              </a:gs>
              <a:gs pos="100000">
                <a:srgbClr val="0e213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5a36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333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78000" y="364320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Nombres de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omini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50720" y="213372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Marca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94360" y="23493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Patent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80960" y="472428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° de Autor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31640" y="5286240"/>
            <a:ext cx="125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iseño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Industrial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3662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Book Antiqua"/>
              </a:rPr>
              <a:t>Propiedad Intelectua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1d528d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463680" y="15145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Book Antiqua"/>
              </a:rPr>
              <a:t>Alcanc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piedad Intelec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3687120"/>
            <a:ext cx="2819160" cy="106740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1067400"/>
              <a:gd name="textAreaBottom" fmla="*/ 1067760 h 10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° de Autor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propiamente tal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3657240"/>
            <a:ext cx="2970360" cy="1067400"/>
          </a:xfrm>
          <a:custGeom>
            <a:avLst/>
            <a:gdLst>
              <a:gd name="textAreaLeft" fmla="*/ 0 w 2970360"/>
              <a:gd name="textAreaRight" fmla="*/ 2970720 w 2970360"/>
              <a:gd name="textAreaTop" fmla="*/ 0 h 1067400"/>
              <a:gd name="textAreaBottom" fmla="*/ 1067760 h 10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Marca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Patente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Indic. Geográfica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enomin. de orige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3959640"/>
            <a:ext cx="3097440" cy="52092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4315b"/>
              </a:gs>
              <a:gs pos="100000">
                <a:srgbClr val="2d6bc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Gener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91628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315b"/>
              </a:gs>
              <a:gs pos="100000">
                <a:srgbClr val="2d6bc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lectu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dustri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191628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° de Autor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0600" y="1916280"/>
            <a:ext cx="702648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d528d"/>
                </a:solidFill>
                <a:latin typeface="Book Antiqua"/>
              </a:rPr>
              <a:t>Derechos Morales y Patrimoniales sobre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Literarias y Artístic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Musicale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Softwar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Cinematográfic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Videogramas y multimedia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tros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0600" y="1916280"/>
            <a:ext cx="702648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rt. 14. El autor, como titular exclusivo del derecho moral, tiene de por vida las siguientes facultades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1)  Reivindicar la paternidad de la obra, asociando a la misma su nombre o seudónimo conocid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2) Oponerse a toda deformación, mutilación, u otra modificación hecha sin su expreso y previo consentimiento. No se considerarán como tales los trabajos de conservación, reconstitución o restauración de las obras que hayan sufrido daños que alteren o menoscaben su valor artístic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3)  Mantener la obra inédita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4) Autorizar a terceros a terminar la obra inconclusa, previo consentimiento del editor o del cesionario si los hubiere, 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5) Exigir que se respete su voluntad de mantener la obra anónima o seudónima mientras ésta no pertenezca al patrimonio cultural común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s Patrimon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77520" y="2072880"/>
            <a:ext cx="598644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d528d"/>
                </a:solidFill>
                <a:latin typeface="Book Antiqua"/>
              </a:rPr>
              <a:t>Explotación de D°s de Autor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Produc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Explota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ifus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s Patrimon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8560" y="155700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rt. 18. Sólo el titular del derecho de autor o quienes estuvieren expresamente autorizados por él, tendrán el derecho de utilizar la obra en alguna de las siguientes formas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a) Publicarla mediante su edición, grabación, emisión radiofónica o de televisión, representación, ejecución, lectura, recitación, exhibición y, en general, cualquier otro medio de comunicación al público, actualmente conocido o que se conozca en el futur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b)   Reproducirla por cualquier procedimient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c)  Adaptarla a otro género, o utilizarla en cualquiera otra forma que extrañe una variación, adaptación o transformación de la obra originaria, incluida la traducción, 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d)  Ejecutarla públicamente mediante la emisión por radio o televisión, discos fonográficos, películas cinematográficas, cintas magnetofónicas u otro soporte material apto para ser utilizado en aparatos reproductores de sonido y voces, con o sin imágenes, o por cualquier otro medio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rmas vig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stitución Política – Art. 19° Ns. 10º, 11º, 24° y 25°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Ley N° 17.336, sobre Propiedad Intelectual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io de Berna para la Protección de las Obras Literarias y Artística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Tratados de Libre Comercio suscritos con Estados Unidos, la Unión Europea y México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ción de Roma sobre la Protección de los Artistas Intérpretes o Ejecutantes, los Productores de Fonogramas y los Organismos de Radiodifusió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Acuerdo sobre los Aspectos de los Derechos de Propiedad Intelectual relacionados con el Comercio de la Organización Mundial del Comercio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ción para la Protección y Promoción de la diversidad de las Expresiones Culturales de la Organización de las Naciones Unidas para la Educación, la Ciencia y la Cultura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184464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02:12:59Z</dcterms:created>
  <dc:creator>Rodrigo Rojas y Macarena López</dc:creator>
  <dc:description/>
  <cp:keywords/>
  <dc:language>en-US</dc:language>
  <cp:lastModifiedBy>Claudio Magliona</cp:lastModifiedBy>
  <dcterms:modified xsi:type="dcterms:W3CDTF">2008-06-26T20:11:07Z</dcterms:modified>
  <cp:revision>17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21033</vt:lpwstr>
  </property>
</Properties>
</file>