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7EED-AA2F-4A19-8B61-D815C0C95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ED0E-3890-4319-9BD5-7A13168B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60B6-4F2D-4CB9-BF80-9FE48A3F1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08B0-B324-4CE0-9D5E-F23C5F300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9021-EE71-4AE5-8A92-13C1FD3E8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6bc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7A3E-751A-4903-982C-D1A95701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72DC-3200-4978-B4C5-CA64063D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4F60-35A3-4C16-B029-2FCE50AA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241A-749D-4545-BB12-6AA70F5C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2d6bc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7B08-5558-42BD-AE22-DDB4ADFB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A9B4-6812-4C68-B5C7-87F89CC0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6bc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82C8-6528-40CA-8586-012FFD38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5527-31C1-4AA3-8921-1A32A935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4B51-4B73-476B-89FB-D9806F96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DF7A-C83A-4047-92CD-5BC80122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AA0C-EABE-4445-94C5-3729ABFC2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741B4-98FD-4019-8742-7FD04D4B4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24DA-1018-4144-B1B1-102A3B44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A34A-A1A6-440F-8666-27A1BE1C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17A5-92EC-4BF0-8067-14DC45A1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2d6bc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A3BF-C3C5-459E-B100-A91488E1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181D-69AC-432C-B043-903EFB54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2989-9C93-44D0-BA8E-F755AA20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9737-C59A-4178-BAE4-F95B5FB4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160" y="0"/>
            <a:ext cx="9132840" cy="1125360"/>
          </a:xfrm>
          <a:prstGeom prst="rect">
            <a:avLst/>
          </a:prstGeom>
          <a:solidFill>
            <a:srgbClr val="2d6b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879480"/>
            <a:ext cx="9143640" cy="144360"/>
            <a:chOff x="0" y="879480"/>
            <a:chExt cx="9143640" cy="144360"/>
          </a:xfrm>
        </p:grpSpPr>
        <p:sp>
          <p:nvSpPr>
            <p:cNvPr id="2" name=""/>
            <p:cNvSpPr/>
            <p:nvPr/>
          </p:nvSpPr>
          <p:spPr>
            <a:xfrm>
              <a:off x="0" y="87948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95076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02384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0" y="-11160"/>
            <a:ext cx="2341440" cy="1123560"/>
            <a:chOff x="0" y="-11160"/>
            <a:chExt cx="2341440" cy="1123560"/>
          </a:xfrm>
        </p:grpSpPr>
        <p:graphicFrame>
          <p:nvGraphicFramePr>
            <p:cNvPr id="6" name=""/>
            <p:cNvGraphicFramePr/>
            <p:nvPr/>
          </p:nvGraphicFramePr>
          <p:xfrm>
            <a:off x="1103400" y="-11160"/>
            <a:ext cx="1238040" cy="1120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03400" y="-11160"/>
                      <a:ext cx="1238040" cy="112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" name=""/>
            <p:cNvGraphicFramePr/>
            <p:nvPr/>
          </p:nvGraphicFramePr>
          <p:xfrm>
            <a:off x="0" y="-11160"/>
            <a:ext cx="1170000" cy="1123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-11160"/>
                      <a:ext cx="1170000" cy="112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684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6bc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52104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6bc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272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02C2-8F65-4E87-878B-98EEF186A457}" type="slidenum">
              <a:rPr b="0" lang="en-US" sz="1400" spc="-1" strike="noStrike">
                <a:solidFill>
                  <a:srgbClr val="2d6bc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" name=""/>
          <p:cNvGrpSpPr/>
          <p:nvPr/>
        </p:nvGrpSpPr>
        <p:grpSpPr>
          <a:xfrm>
            <a:off x="0" y="1109520"/>
            <a:ext cx="9144000" cy="169920"/>
            <a:chOff x="0" y="1109520"/>
            <a:chExt cx="9144000" cy="169920"/>
          </a:xfrm>
        </p:grpSpPr>
        <p:sp>
          <p:nvSpPr>
            <p:cNvPr id="16" name=""/>
            <p:cNvSpPr/>
            <p:nvPr/>
          </p:nvSpPr>
          <p:spPr>
            <a:xfrm>
              <a:off x="0" y="1109520"/>
              <a:ext cx="914400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43240" y="1131840"/>
              <a:ext cx="6800760" cy="14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002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B695-1B5F-4BAC-B3DE-F17EB751A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72520" y="5514840"/>
            <a:ext cx="1155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Arial"/>
              </a:rPr>
              <a:t>Company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d528d"/>
                </a:solidFill>
                <a:latin typeface="Arial"/>
              </a:rPr>
              <a:t>LOGO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96080" y="0"/>
            <a:ext cx="3247920" cy="2781360"/>
          </a:xfrm>
          <a:prstGeom prst="rect">
            <a:avLst/>
          </a:prstGeom>
          <a:solidFill>
            <a:srgbClr val="2d6b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9080" y="2330280"/>
            <a:ext cx="9114840" cy="358920"/>
            <a:chOff x="19080" y="2330280"/>
            <a:chExt cx="9114840" cy="358920"/>
          </a:xfrm>
        </p:grpSpPr>
        <p:sp>
          <p:nvSpPr>
            <p:cNvPr id="61" name=""/>
            <p:cNvSpPr/>
            <p:nvPr/>
          </p:nvSpPr>
          <p:spPr>
            <a:xfrm>
              <a:off x="19080" y="233028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080" y="244476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080" y="256536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080" y="268920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87560" cy="2790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2787480"/>
            <a:ext cx="914400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2819520"/>
            <a:ext cx="624852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3123720" y="281916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2884320" y="0"/>
            <a:ext cx="3011760" cy="27813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6bc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d6bc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SzPct val="60000"/>
              <a:buFont typeface="Wingdings 2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71640" y="3645000"/>
            <a:ext cx="61516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Book Antiqua"/>
              </a:rPr>
              <a:t>Diploma de Postítulo en Nuevas Tecnologías y Propiedad Intelect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771280" y="4723920"/>
            <a:ext cx="6048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d6bc7"/>
                </a:solidFill>
                <a:latin typeface="Book Antiqua"/>
              </a:rPr>
              <a:t>Seminario II: Propiedad Intelectual y Litigios</a:t>
            </a:r>
            <a:endParaRPr b="0" lang="en-US" sz="2000" spc="-1" strike="noStrike">
              <a:solidFill>
                <a:srgbClr val="2d6bc7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d6bc7"/>
                </a:solidFill>
                <a:latin typeface="Book Antiqua"/>
              </a:rPr>
              <a:t>Macarena López M. y Rodrigo Rojas P.</a:t>
            </a:r>
            <a:r>
              <a:rPr b="1" lang="es-MX" sz="1600" spc="-1" strike="noStrike">
                <a:solidFill>
                  <a:srgbClr val="2d6bc7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d6bc7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22560" y="5589720"/>
            <a:ext cx="1297080" cy="936360"/>
          </a:xfrm>
          <a:prstGeom prst="rect">
            <a:avLst/>
          </a:prstGeom>
          <a:solidFill>
            <a:srgbClr val="1d5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e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16080" y="2725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15880" y="2268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7080" y="30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92400" y="3716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00000" y="1628640"/>
            <a:ext cx="7128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Introducción (fundamentos de protección de la PI)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Descarga de Música (P2P)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Descarga a Dispositivo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d528d"/>
                </a:solidFill>
                <a:latin typeface="Book Antiqua"/>
              </a:rPr>
              <a:t>Ánimo de Lucro v. Beneficio Comercia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Compilaciones – Bases de dato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Carga de la prueba en Chil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Futuro: excepciones a los derechos del titular. Ingeniería </a:t>
            </a:r>
            <a:r>
              <a:rPr b="0" lang="es-CL" sz="2400" spc="-1" strike="noStrike">
                <a:solidFill>
                  <a:srgbClr val="1d528d"/>
                </a:solidFill>
                <a:latin typeface="Book Antiqua"/>
              </a:rPr>
              <a:t>inversa, </a:t>
            </a: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uso justo (“Fair use”), etc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a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1520" y="1988640"/>
            <a:ext cx="8218440" cy="33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Sony Corp. of América v. Universal City Studios (1984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1d528d"/>
                </a:solidFill>
                <a:latin typeface="Book Antiqua"/>
              </a:rPr>
              <a:t>A&amp;M Records, Inc v. Napster (2002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MGM Studios, Inc. v. Grokster, Ltd. (2005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Universal City Studios v. Corley (2001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United States v. La Macchia (1994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Vélez Murillo – Colombia (2008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Feist Publications, Inc. v. Rural Telephone Service (1991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Copiepresse v. Google – Bélgica (2007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Viacom v. Youtube y Google (2007) (demanda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d528d"/>
                </a:solidFill>
                <a:latin typeface="Book Antiqua"/>
              </a:rPr>
              <a:t>Jurisprudencia Chilena; nueva tendencia jurisprudencia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Futu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1d528d"/>
                </a:solidFill>
                <a:latin typeface="Book Antiqua"/>
              </a:rPr>
              <a:t>Proyecto de Ley que modifica la Ley N° 17.336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(Boletín N° 5012-03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Nuevo régimen de excepcion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Ingeniería Inversa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Seguridad, prueba y funcionamiento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Fair Use  (Uso Legítimo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Sancion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Responsabilidad de los ISP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Autoría del software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52480" y="2057400"/>
            <a:ext cx="5410440" cy="53352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14315b"/>
              </a:gs>
              <a:gs pos="50000">
                <a:srgbClr val="2d6bc7"/>
              </a:gs>
              <a:gs pos="100000">
                <a:srgbClr val="14315b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1. Introducción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2895480"/>
            <a:ext cx="5410440" cy="533520"/>
          </a:xfrm>
          <a:prstGeom prst="roundRect">
            <a:avLst>
              <a:gd name="adj" fmla="val 12796"/>
            </a:avLst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2. Normas vigente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3733920"/>
            <a:ext cx="5410440" cy="53316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464675"/>
              </a:gs>
              <a:gs pos="50000">
                <a:srgbClr val="9999ff"/>
              </a:gs>
              <a:gs pos="100000">
                <a:srgbClr val="464675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3. Tema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52480" y="4572000"/>
            <a:ext cx="5410440" cy="533520"/>
          </a:xfrm>
          <a:prstGeom prst="roundRect">
            <a:avLst>
              <a:gd name="adj" fmla="val 19046"/>
            </a:avLst>
          </a:prstGeom>
          <a:solidFill>
            <a:srgbClr val="99cc00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4. Caso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54280" y="5373720"/>
            <a:ext cx="5410080" cy="53352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5. Futuro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t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20241600">
            <a:off x="1077480" y="253800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ededed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16765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1d528d"/>
              </a:gs>
              <a:gs pos="100000">
                <a:srgbClr val="091c3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32004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2d6bc7"/>
              </a:gs>
              <a:gs pos="100000">
                <a:srgbClr val="0e213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78000" y="489744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5a36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42670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9999ff"/>
              </a:gs>
              <a:gs pos="100000">
                <a:srgbClr val="46467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190512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33333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78000" y="364320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</a:rPr>
              <a:t>Nombres de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</a:rPr>
              <a:t>Domini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50720" y="213372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Marcas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94360" y="234936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</a:rPr>
              <a:t>Patentes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80960" y="4724280"/>
            <a:ext cx="12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</a:rPr>
              <a:t>D° de Autor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31640" y="5286240"/>
            <a:ext cx="125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</a:rPr>
              <a:t>Diseños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</a:rPr>
              <a:t>Industriales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29000" y="366228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Book Antiqua"/>
              </a:rPr>
              <a:t>Propiedad Intelectua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73200" y="1963800"/>
            <a:ext cx="1793880" cy="1617480"/>
          </a:xfrm>
          <a:prstGeom prst="line">
            <a:avLst/>
          </a:prstGeom>
          <a:ln w="936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 flipH="1">
            <a:off x="456840" y="1963440"/>
            <a:ext cx="2016720" cy="1080"/>
          </a:xfrm>
          <a:prstGeom prst="straightConnector1">
            <a:avLst/>
          </a:prstGeom>
          <a:ln w="9360">
            <a:solidFill>
              <a:srgbClr val="1d528d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463680" y="1514520"/>
            <a:ext cx="10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Book Antiqua"/>
              </a:rPr>
              <a:t>Alcance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piedad Intelect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12000" y="3687120"/>
            <a:ext cx="2819160" cy="106740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1067400"/>
              <a:gd name="textAreaBottom" fmla="*/ 1067760 h 106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ok Antiqua"/>
              </a:rPr>
              <a:t>D° de Autor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ok Antiqua"/>
              </a:rPr>
              <a:t>propiamente tal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ok Antiqua"/>
              </a:rPr>
              <a:t>y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ok Antiqua"/>
              </a:rPr>
              <a:t>Derechos Conexos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0400" y="3657240"/>
            <a:ext cx="2970360" cy="1067400"/>
          </a:xfrm>
          <a:custGeom>
            <a:avLst/>
            <a:gdLst>
              <a:gd name="textAreaLeft" fmla="*/ 0 w 2970360"/>
              <a:gd name="textAreaRight" fmla="*/ 2970720 w 2970360"/>
              <a:gd name="textAreaTop" fmla="*/ 0 h 1067400"/>
              <a:gd name="textAreaBottom" fmla="*/ 1067760 h 106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464675"/>
              </a:gs>
              <a:gs pos="100000">
                <a:srgbClr val="9999ff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ok Antiqua"/>
              </a:rPr>
              <a:t>Marcas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ok Antiqua"/>
              </a:rPr>
              <a:t>Patentes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ok Antiqua"/>
              </a:rPr>
              <a:t>Indic. Geográficas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ok Antiqua"/>
              </a:rPr>
              <a:t>Denomin. de origen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3959640"/>
            <a:ext cx="3097440" cy="520920"/>
          </a:xfrm>
          <a:custGeom>
            <a:avLst/>
            <a:gdLst>
              <a:gd name="textAreaLeft" fmla="*/ 0 w 3097440"/>
              <a:gd name="textAreaRight" fmla="*/ 3097800 w 309744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14315b"/>
              </a:gs>
              <a:gs pos="100000">
                <a:srgbClr val="2d6bc7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Genero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191628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4315b"/>
              </a:gs>
              <a:gs pos="100000">
                <a:srgbClr val="2d6bc7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ntelectua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64675"/>
              </a:gs>
              <a:gs pos="100000">
                <a:srgbClr val="9999ff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ndustria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56360" y="191628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D° de Autor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9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Derecho de Au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90600" y="1916280"/>
            <a:ext cx="7026480" cy="40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1d528d"/>
                </a:solidFill>
                <a:latin typeface="Book Antiqua"/>
              </a:rPr>
              <a:t>Derechos Morales y Patrimoniales sobre: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Obras Literarias y Artística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Obras Musicale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Softwar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Obras Cinematográfica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Videogramas y multimedia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Otros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Derecho de Au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90600" y="1916280"/>
            <a:ext cx="7026480" cy="40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Art. 14. El autor, como titular exclusivo del derecho moral, tiene de por vida las siguientes facultades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7056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1)  Reivindicar la paternidad de la obra, asociando a la misma su nombre o seudónimo conocido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7056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2) Oponerse a toda deformación, mutilación, u otra modificación hecha sin su expreso y previo consentimiento. No se considerarán como tales los trabajos de conservación, reconstitución o restauración de las obras que hayan sufrido daños que alteren o menoscaben su valor artístico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7056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3)  Mantener la obra inédita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7056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4) Autorizar a terceros a terminar la obra inconclusa, previo consentimiento del editor o del cesionario si los hubiere, y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7056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5) Exigir que se respete su voluntad de mantener la obra anónima o seudónima mientras ésta no pertenezca al patrimonio cultural común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Derechos Patrimon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77520" y="2072880"/>
            <a:ext cx="5986440" cy="27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1d528d"/>
                </a:solidFill>
                <a:latin typeface="Book Antiqua"/>
              </a:rPr>
              <a:t>Explotación de D°s de Autor: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Producción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Explotación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Difusión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Derechos Patrimon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98560" y="1557000"/>
            <a:ext cx="7345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Art. 18. Sólo el titular del derecho de autor o quienes estuvieren expresamente autorizados por él, tendrán el derecho de utilizar la obra en alguna de las siguientes formas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a) Publicarla mediante su edición, grabación, emisión radiofónica o de televisión, representación, ejecución, lectura, recitación, exhibición y, en general, cualquier otro medio de comunicación al público, actualmente conocido o que se conozca en el futuro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b)   Reproducirla por cualquier procedimiento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c)  Adaptarla a otro género, o utilizarla en cualquiera otra forma que extrañe una variación, adaptación o transformación de la obra originaria, incluida la traducción, y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d)  Ejecutarla públicamente mediante la emisión por radio o televisión, discos fonográficos, películas cinematográficas, cintas magnetofónicas u otro soporte material apto para ser utilizado en aparatos reproductores de sonido y voces, con o sin imágenes, o por cualquier otro medio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ormas vig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d528d"/>
                </a:solidFill>
                <a:latin typeface="Book Antiqua"/>
              </a:rPr>
              <a:t>Constitución Política – Art. 19° Ns. 10º, 11º, 24° y 25°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d528d"/>
                </a:solidFill>
                <a:latin typeface="Book Antiqua"/>
              </a:rPr>
              <a:t>Ley N° 17.336, sobre Propiedad Intelectual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d528d"/>
                </a:solidFill>
                <a:latin typeface="Book Antiqua"/>
              </a:rPr>
              <a:t>Convenio de Berna para la Protección de las Obras Literarias y Artística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d528d"/>
                </a:solidFill>
                <a:latin typeface="Book Antiqua"/>
              </a:rPr>
              <a:t>Tratados de Libre Comercio suscritos con Estados Unidos, la Unión Europea y México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d528d"/>
                </a:solidFill>
                <a:latin typeface="Book Antiqua"/>
              </a:rPr>
              <a:t>Convención de Roma sobre la Protección de los Artistas Intérpretes o Ejecutantes, los Productores de Fonogramas y los Organismos de Radiodifusión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d528d"/>
                </a:solidFill>
                <a:latin typeface="Book Antiqua"/>
              </a:rPr>
              <a:t>Acuerdo sobre los Aspectos de los Derechos de Propiedad Intelectual relacionados con el Comercio de la Organización Mundial del Comercio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d528d"/>
                </a:solidFill>
                <a:latin typeface="Book Antiqua"/>
              </a:rPr>
              <a:t>Convención para la Protección y Promoción de la diversidad de las Expresiones Culturales de la Organización de las Naciones Unidas para la Educación, la Ciencia y la Cultura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92360" y="184464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9T02:12:59Z</dcterms:created>
  <dc:creator>Rodrigo Rojas y Macarena López</dc:creator>
  <dc:description/>
  <cp:keywords/>
  <dc:language>en-US</dc:language>
  <cp:lastModifiedBy>Claudio Magliona</cp:lastModifiedBy>
  <dcterms:modified xsi:type="dcterms:W3CDTF">2008-06-26T20:11:07Z</dcterms:modified>
  <cp:revision>179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8021033</vt:lpwstr>
  </property>
</Properties>
</file>