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563-1D22-4E46-A4C9-E3C45849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986-E984-42C7-BAC7-307F4371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B46-C478-4D20-B5D6-7E42E2B5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093-B35B-473C-9FBD-D1F05B81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2839-F021-4E81-AEFD-F5718EC4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4924-35DC-4119-B111-67DAA908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B703-5BB3-4427-B126-8435FAAC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064B-30F4-4407-B04E-AE29C588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0125-C368-4E6E-BE6F-BC3031EB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EB74-8ACA-41C9-918B-126105D4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C37E-36F6-43C2-8ED5-97E5AAE4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A6B-6193-41BC-B2D0-A9BD4CB0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EEDF-6786-4391-823E-27A845EE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E4C3-E1C1-41B7-B2DA-317C873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99ED-0DF1-410A-B988-806D8F6F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2AF7-B36E-49C0-B94A-B5521A33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71DF-ED5F-4384-B252-80890703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E26-6BEE-4315-92EB-A1FCEEC4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662-1AA9-4704-8719-1E1DA673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522-FD9F-40C6-863C-EF415437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90E-EF67-4DF1-9D23-1BE41D4E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12D-8A2A-4541-A94F-DCD23106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24E-B3A5-4D1B-8CAF-9B47FBF3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725-0CD8-4793-A707-41D26A1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F363-B989-4691-8798-9A6F7FC335DD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C114-3735-449C-A46D-FACCF604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3645000"/>
            <a:ext cx="61516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Book Antiqua"/>
              </a:rPr>
              <a:t>Diploma de Postítulo en Nuevas Tecnologías y 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280" y="4723920"/>
            <a:ext cx="604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Seminario II: Propiedad Intelectual y Litigios</a:t>
            </a:r>
            <a:endParaRPr b="0" lang="en-US" sz="2000" spc="-1" strike="noStrike">
              <a:solidFill>
                <a:srgbClr val="2d6bc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d6bc7"/>
                </a:solidFill>
                <a:latin typeface="Book Antiqua"/>
              </a:rPr>
              <a:t>Macarena López M. y Rodrigo Rojas P.</a:t>
            </a:r>
            <a:r>
              <a:rPr b="1" lang="es-MX" sz="1600" spc="-1" strike="noStrike">
                <a:solidFill>
                  <a:srgbClr val="2d6bc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2560" y="5589720"/>
            <a:ext cx="1297080" cy="936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16080" y="2725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5880" y="2268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7080" y="30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240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628640"/>
            <a:ext cx="712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Introducción (fundamentos de protección de la PI)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de Música (P2P)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escarga a Dispositiv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Ánimo de Lucro v. Beneficio Comerc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ompilaciones – Bases de dat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Carga de la prueba en Chi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Futuro: excepciones a los derechos del titular. Ingeniería </a:t>
            </a:r>
            <a:r>
              <a:rPr b="0" lang="es-CL" sz="2400" spc="-1" strike="noStrike">
                <a:solidFill>
                  <a:srgbClr val="1d528d"/>
                </a:solidFill>
                <a:latin typeface="Book Antiqua"/>
              </a:rPr>
              <a:t>inversa, </a:t>
            </a: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uso justo (“Fair use”), etc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1520" y="1988640"/>
            <a:ext cx="821844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ony Corp. of América v. Universal City Studios (198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d528d"/>
                </a:solidFill>
                <a:latin typeface="Book Antiqua"/>
              </a:rPr>
              <a:t>A&amp;M Records, Inc v. Napster (2002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MGM Studios, Inc. v. Grokster, Ltd. (2005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versal City Studios v. Corley (200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United States v. La Macchia (1994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élez Murillo – Colombia (2008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Feist Publications, Inc. v. Rural Telephone Service (1991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Copiepresse v. Google – Bélgica (2007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Viacom v. Youtube y Google (2007) (demanda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Jurisprudencia Chilena; nueva tendencia jurisprudenci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d528d"/>
                </a:solidFill>
                <a:latin typeface="Book Antiqua"/>
              </a:rPr>
              <a:t>Proyecto de Ley que modifica la Ley N° 17.336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(Boletín N° 5012-03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Nuevo régimen de excep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Ingeniería Inversa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Seguridad, prueba y funcionamient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Fair Use  (Uso Legítimo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Sancio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Responsabilidad de los ISP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utoría del softwar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2057400"/>
            <a:ext cx="541044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. Int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895480"/>
            <a:ext cx="5410440" cy="5335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. Normas vigent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733920"/>
            <a:ext cx="5410440" cy="53316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3. Tem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4572000"/>
            <a:ext cx="5410440" cy="533520"/>
          </a:xfrm>
          <a:prstGeom prst="roundRect">
            <a:avLst>
              <a:gd name="adj" fmla="val 19046"/>
            </a:avLst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4. Caso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4280" y="5373720"/>
            <a:ext cx="5410080" cy="53352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5. Futur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dede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1d528d"/>
              </a:gs>
              <a:gs pos="100000">
                <a:srgbClr val="091c3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2d6bc7"/>
              </a:gs>
              <a:gs pos="100000">
                <a:srgbClr val="0e213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5a3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333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78000" y="364320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Nombres de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ominio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50720" y="213372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94360" y="234936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0960" y="472428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31640" y="5286240"/>
            <a:ext cx="125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Diseño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 Antiqua"/>
              </a:rPr>
              <a:t>Industriales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3662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Book Antiqua"/>
              </a:rPr>
              <a:t>Propiedad Intelectua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1d528d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63680" y="15145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Book Antiqua"/>
              </a:rPr>
              <a:t>Alcance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piedad Intelec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687120"/>
            <a:ext cx="2819160" cy="106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° de Autor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ropiamente tal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3657240"/>
            <a:ext cx="2970360" cy="10674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1067400"/>
              <a:gd name="textAreaBottom" fmla="*/ 1067760 h 10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Mar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Patente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Indic. Geográfica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Book Antiqua"/>
              </a:rPr>
              <a:t>Denomin. de orige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3959640"/>
            <a:ext cx="3097440" cy="52092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15b"/>
              </a:gs>
              <a:gs pos="100000">
                <a:srgbClr val="2d6b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lectu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675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dustria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° de Autor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Derechos Morales y Patrimoniales sobre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Literarias y Artíst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Musicale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Softwar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bras Cinematográfica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Videogramas y multimedia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Otros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0600" y="1916280"/>
            <a:ext cx="70264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4. El autor, como titular exclusivo del derecho moral, tiene de por vida las siguientes facultade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1)  Reivindicar la paternidad de la obra, asociando a la misma su nombre o seudónimo conocid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2) Oponerse a toda deformación, mutilación, u otra modificación hecha sin su expreso y previo consentimiento. No se considerarán como tales los trabajos de conservación, reconstitución o restauración de las obras que hayan sufrido daños que alteren o menoscaben su valor artístic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3)  Mantener la obra inédita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4) Autorizar a terceros a terminar la obra inconclusa, previo consentimiento del editor o del cesionario si los hubiere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7056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5) Exigir que se respete su voluntad de mantener la obra anónima o seudónima mientras ésta no pertenezca al patrimonio cultural común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77520" y="2072880"/>
            <a:ext cx="598644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d528d"/>
                </a:solidFill>
                <a:latin typeface="Book Antiqua"/>
              </a:rPr>
              <a:t>Explotación de D°s de Autor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Produc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Explotac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d528d"/>
                </a:solidFill>
                <a:latin typeface="Book Antiqua"/>
              </a:rPr>
              <a:t>Difusió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erechos Patrimon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8560" y="155700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d528d"/>
                </a:solidFill>
                <a:latin typeface="Book Antiqua"/>
              </a:rPr>
              <a:t>Art. 18. Sólo el titular del derecho de autor o quienes estuvieren expresamente autorizados por él, tendrán el derecho de utilizar la obra en alguna de las siguientes formas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a) Publicarla mediante su edición, grabación, emisión radiofónica o de televisión, representación, ejecución, lectura, recitación, exhibición y, en general, cualquier otro medio de comunicación al público, actualmente conocido o que se conozca en el futur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b)   Reproducirla por cualquier procedimiento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c)  Adaptarla a otro género, o utilizarla en cualquiera otra forma que extrañe una variación, adaptación o transformación de la obra originaria, incluida la traducción, 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d528d"/>
                </a:solidFill>
                <a:latin typeface="Book Antiqua"/>
              </a:rPr>
              <a:t>d)  Ejecutarla públicamente mediante la emisión por radio o televisión, discos fonográficos, películas cinematográficas, cintas magnetofónicas u otro soporte material apto para ser utilizado en aparatos reproductores de sonido y voces, con o sin imágenes, o por cualquier otro medio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rmas v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stitución Política – Art. 19° Ns. 10º, 11º, 24° y 25°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Ley N° 17.336, sobre Propiedad Intelectual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io de Berna para la Protección de las Obras Literarias y Artística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Tratados de Libre Comercio suscritos con Estados Unidos, la Unión Europea y Méxic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de Roma sobre la Protección de los Artistas Intérpretes o Ejecutantes, los Productores de Fonogramas y los Organismos de Radiodifusió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Acuerdo sobre los Aspectos de los Derechos de Propiedad Intelectual relacionados con el Comercio de la Organización Mundial del Comercio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1d528d"/>
                </a:solidFill>
                <a:latin typeface="Book Antiqua"/>
              </a:rPr>
              <a:t>Convención para la Protección y Promoción de la diversidad de las Expresiones Culturales de la Organización de las Naciones Unidas para la Educación, la Ciencia y la Cultura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184464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02:12:59Z</dcterms:created>
  <dc:creator>Rodrigo Rojas y Macarena López</dc:creator>
  <dc:description/>
  <cp:keywords/>
  <dc:language>en-US</dc:language>
  <cp:lastModifiedBy>Claudio Magliona</cp:lastModifiedBy>
  <dcterms:modified xsi:type="dcterms:W3CDTF">2008-06-26T20:11:07Z</dcterms:modified>
  <cp:revision>17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