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0102-9F04-48AF-9FE7-87E86B2D1A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ar análisis del monopolio y su proceso de maximización de ingr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048-51A8-46BB-8429-B8BF5666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0A7-7D7E-4085-A871-A0827DA6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42A-1D06-4F41-853A-70B06546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7FA-5EE5-47EF-B5A1-9961BDC4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719D-D9BB-4B0D-BBCC-C37F88FD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2FB8-CC46-44B1-9B36-7D242BEE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D1DE-E6E0-4056-A8B8-5C41A030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155E-C3D9-4D54-B770-B62C5EA1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BAB7-523E-40C0-B6E0-5E99C948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FAED-1564-479B-9856-59D16C11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1215-6AF8-41C2-9A59-26B6D677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CE2-A1A7-4454-87A5-7DAF6E87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9230-6F69-4F13-A726-D892899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2BA9-9AB2-44FD-98D0-434381B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88EB-46CB-4A35-BA11-FC3DB37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A417-C4D6-40AF-ABEB-2903A7E7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C560-7A5E-4CFE-98B9-A442D494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2E3A-C92E-4FB1-BDC2-5FF56977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C7E05-ED94-4A1B-ACAA-6B3F2FA1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FA8F-CA56-44BF-882D-16A01278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848B-6BD5-436F-A26A-2FC125C6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3E88-4662-40FC-A906-C85CBEB9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A4E-104E-4165-86A1-F04E5D00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26478-0345-4240-84C8-4F04F591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A993-428B-4D0F-BEE5-94245A8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CAD3-0F73-495F-BA5B-277D9C2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50DF-7910-446F-BCC8-B45BE55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AC69-EF33-44F3-8E48-E13AB14E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7B13-3776-46CB-9746-F344C745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5E3B-632B-4593-A60B-A19B4F47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C12-0DFC-4C98-94D0-14221C36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FF0-6821-4213-B8CD-877F5DF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341-7717-4A03-863E-ADC1C2CB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EF6-6F01-4559-BC44-3910B9E4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EB6-EF40-4A14-B084-CA918FAE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4C1-A887-4C2E-8670-1950089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BF3F-7D38-4926-AFF8-0C7049D0326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F281-D259-4DB4-B07B-0806C92485F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8003-011C-4859-A022-10CDDF9F60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678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b7"/>
                </a:solidFill>
                <a:latin typeface="Arial Black"/>
              </a:rPr>
              <a:t>Propiedad Industrial y Defensa de la Competenc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onaldo Br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oris Sant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Restricciones Vertic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territor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sobre la producc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ijación de precios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tromisión en la gest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ranqu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gla: Si la explotación legítima directamente de la propiedad industrial permite iguales efectos, la restricción sería vál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A8A-9F0F-43F0-A5F9-C44E06FE3E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Nuevas Tecnologí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las generales, proscripción de la exclusión y del abuso, derechos a contratar con competidores, a innovar y a compet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gulación de los contratos sobre transferencia de tecnolog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040-FC92-49C6-90BD-BA6469DD14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Cas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IMS Health contra NDC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ósforos chinos, Calvin Klein, Le Coq Sportive, Soprole – Da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F85-1315-4529-BE08-3303BFA613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3500280"/>
            <a:ext cx="1008000" cy="863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3500280"/>
            <a:ext cx="396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¿Cuál es el Valor Social de una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14972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3141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365720"/>
            <a:ext cx="0" cy="107928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36572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08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573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social de la inno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5C3-48A5-429F-A204-595EA38CC1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2997360"/>
            <a:ext cx="1224000" cy="1008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997360"/>
            <a:ext cx="108108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00536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78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ción de beneficios del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3645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mg 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465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érdida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38A-793E-40BD-858D-EA2D30931C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133720"/>
            <a:ext cx="2305080" cy="1871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133720"/>
            <a:ext cx="3889440" cy="3166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r el bienestar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2852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797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2123640" y="3500280"/>
            <a:ext cx="1295280" cy="2305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18920" y="400536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19280" y="3068640"/>
            <a:ext cx="403236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227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4869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Prod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0A7-5A94-41DC-876E-8F1A74BE42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2997360"/>
            <a:ext cx="1081080" cy="36036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78136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5516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357336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941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501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55008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14172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465300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4292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3357720"/>
            <a:ext cx="35892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3357720"/>
            <a:ext cx="0" cy="208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3357720"/>
            <a:ext cx="108108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9280" y="3357720"/>
            <a:ext cx="144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4005360"/>
            <a:ext cx="41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4005360"/>
            <a:ext cx="1081080" cy="64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B55-7AFD-451F-BC3B-AEE373FB1F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26920" y="134136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367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a empresa en competencia a la Ber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314172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4365720"/>
            <a:ext cx="439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933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443700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 del Inno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798-2840-4F34-A90E-46DDC7A292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La razón de ser de la propiedad industr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recho de propi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novación. Crecimiento y bienestar general. Innovaciones generan más y mejores bienes a menores precios. Pero suponen inversión en I+D, riesgosa: se posibilita si el inversionista tiene expectativa de recuperarla con rentas sobrenormales, monopó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llow (1957), crecimiento EEUU se explica por mejoras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chumpeter (1943), los monopolios pueden innovar, porque recuperarán su inversión en I+D con rentas sobrenormales </a:t>
            </a:r>
            <a:r>
              <a:rPr b="0" lang="es-MX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, aún sin la exclusividad existen incentivos a inno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cance. Derecho a excluir y a explo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269-08EE-48C8-85B1-71B78DF00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b7"/>
                </a:solidFill>
                <a:latin typeface="Arial Black"/>
              </a:rPr>
              <a:t>La razón de ser de la defensa de la competenci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recho a emprender, derecho a competir, libertad de los ig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ienestar de los consumidores, eficiencia, </a:t>
            </a:r>
            <a:r>
              <a:rPr b="0" lang="es-MX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bienestar social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libre competencia, sin fallas de mercado, genera eficiencia productiva y asignativa, y así bienestar soc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ero los individuos repudian los monopolios sólo hasta que se convierten en uno, y resulta que la competencia tiende al Highlander: La entrada a la cancha es libre y la lucha es por el dinero de los consumidores, libres para decidir a quién y cuánto entregar. Las armas legales son la innovación y la eficiencia, que permite ofrecer más y mejores bienes a menores precios. Los competidores luchan a muerte. Los sobrevivientes adquieren poder de mercado con cada victoria. Este poder puede usarse para crear armas ilegales, con las cuales impedir el ingreso de nuevos competidores, eliminar a los actuales e imponer bienes y precios. O sea, para anular la libertad de los otros agentes. Esta libertad es la que debe ser proteg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nce. Prohibición de excluir y de explotar en forma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3DB-B31D-4B99-B6F4-D7F2ECB20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oder de Mercado y Derechos Industrial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menos incentivos que una empresa en competencia para innovar.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Compárese el valor de la innovación para uno y otro (</a:t>
            </a:r>
            <a:r>
              <a:rPr b="0" lang="es-MX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para impedir la innovación ajena, pues genera competencia y empuja a la baja el precio de equilib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estratégicos para utilizar los derechos industriales con el fin de excluir competidores o imponer precios u otras condiciones abusivas. (monopolio amenazado por la entrada, Gilbert y Newbery 19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C41-FF89-4F23-AFA5-1AC63094E0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Doctrina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inherencia. Son ilícitas las restricciones a la competencia que excedan del alcance del derecho de propiedad indus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ausencia de conflicto. Los derechos de propiedad industrial excluyen absolutamente la aplicación de la ley de defensa de la competencia, como todo derecho de propi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regla de la razón. Las restricciones que impone el propietario industrial pueden ser eficientes y hasta pro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aplicación de las reglas sobre restricciones vertic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323-F881-45DC-BDF4-3E1CBDB9EB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Solució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monopolización. La propiedad industrial otorga exclusividad sobre un invento, procedimiento o signo, no sobre un mercado (aunque podrían coincidir, si es aquel es la única forma de producir un bien sin sustitut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derecho a emprender. La propiedad industrial permite impedir el emprendimiento en relación al objeto de tal propiedad, pero no más allá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explotación. La propiedad industrial permite explotarla, pero no autoriza la explotación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real: Sólo en lo que lo toca al derecho a excluir del objeto amparado por propiedad industrial. El conflicto se resuelve en favor de la propiedad industr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aparente: Fuera de aquel ámbito, y aún dentro del mismo, en lo que toca a la explotación abusiva, no hay conflicto, la ley de propiedad industrial no es la aplicable, sino la ley de defensa de la competencia, que prohíbe la exclusión y la explotación abusiva. Así, podría infringir la ley de defensa de la competencia, la imposición, en un contrato de licencia, de contratar licencias de otros proveedores (exclusión), o la de contratar una licencia distinta de la requerida (venta atada)… pero la realidad es comple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449-D3A0-4F75-9F96-7AE311025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Excluso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nopolización de mercados adquiriendo propiedad industrial. Derechos industriales genéricos o sin uso. Carrera de patentes. Patentamiento Defens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se materializan beneficios de invenciones. Demanda insatisfecha, pérdidas sociales. Agentes dispuestos a adquirir productos a precios de mercado no puedan hacerlo. Un caso dramático es el de los medicamentos, países pobres quedan privados de ell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obliga a competidores a emular innovación falsa, incrementando co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itigios por amplitud de patente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dquisición fraudulenta de propiedad industrial. Ejercicio del </a:t>
            </a:r>
            <a:r>
              <a:rPr b="0" i="1" lang="es-MX" sz="1600" spc="-1" strike="noStrike">
                <a:solidFill>
                  <a:srgbClr val="ffffff"/>
                </a:solidFill>
                <a:latin typeface="Arial"/>
              </a:rPr>
              <a:t>ius prohibendi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 otros propietarios legítim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Juicio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europea del agotamiento de lo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chilena sobre importaciones paralel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s de licencia. Cláusulas que restringen competir o innovar, o contratar con competidor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licencias son en general, deseables, porque posibilitan uso, difusión y socialización de la innovación (pago por ingeniería inversa o adopcion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restricciones son razonables, funcionales a la protección de los derechos industriales, pero no pueden ir más allá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Un criterio es no permitir más restricciones que las que derivarían de la explotación directa, sin licen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28D-A064-4056-9023-2D02516CFD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Abusiv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alías y otras contraprestaciones abusivas. Discrim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ntas atadas. Licencias a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osición de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ambién se han cuestionado pagos posteriores a la licencias y retrocesiones de mejor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D50-0961-442A-BD44-5121FE3B30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Coordinad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 y colusiones exclusorias y abus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, pérdida de independencia de las empresas y concen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F16-56B4-4A5C-A6BA-66A0F60CC7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9:19:04Z</dcterms:created>
  <dc:creator>Boris</dc:creator>
  <dc:description/>
  <dc:language>en-US</dc:language>
  <cp:lastModifiedBy>Claudio Magliona</cp:lastModifiedBy>
  <dcterms:modified xsi:type="dcterms:W3CDTF">2008-06-25T14:11:09Z</dcterms:modified>
  <cp:revision>52</cp:revision>
  <dc:subject/>
  <dc:title>Propiedad Industrial y Defensa de la Competencia</dc:title>
</cp:coreProperties>
</file>