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BC57-2CBA-4C49-A6B9-B102786458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sertar análisis del monopolio y su proceso de maximización de ingre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D6E-7DE0-449E-BADF-1718B539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742-466E-4001-ABE0-DE701F09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751-3874-465E-BFE7-6DEF1125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8F6-B0F4-43F1-AFC1-6ECA59D1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393A-10B2-47D8-B0FC-A7E36103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557E-9458-4E60-8895-EC82A5E7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6195-756A-4E5F-A437-7FF2A315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2044-E5C4-468D-9D3F-D74F920F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F590-8ADD-4D4A-A352-FF4A9918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A5D8-A76D-4095-9CA7-D307D254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D711-AA6A-4C2D-96AF-D54BAE4A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0EB-0289-4F1C-8CBB-C49E2B07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1E6F-FD70-4B99-B503-6CA61CA5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F515-2998-4E72-9523-8E60EFED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EA2F-BC5E-4F05-9EAB-95023AEB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5DB8-6ECF-47AC-A5B9-23A70197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CBC5-94F1-4A76-8FD0-8FA8C3C9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54DB-76C7-4E08-98D3-7BF6590A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30A61-F46D-4679-ADA7-E8171633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7CC14-A085-4100-9B34-0E91B2AD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5596-6FB5-4A07-9DA8-B75E8934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9942C-2609-4C88-B036-2A7FDFEC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67B-9D7F-4B56-8E5E-BD9553A3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49155-8641-423B-92B2-7A414BD0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C656-2AC2-4EF5-8B8C-1D31E18E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6267-D705-40FD-B7E3-26A88A35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DEECB-EF27-464F-8918-278DE913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6BDC1-C68D-4C37-8FA9-71B9E483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75BB2-F723-4C65-B154-1780A0F1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8E11D-49AB-41FD-AF67-72B18CEC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67B-32CD-4B3E-B63B-B732C5A0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D8E-DA95-432E-9DD2-2D17ECF1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203-1FED-48AD-B1E4-58E763B7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758-399F-4F41-886D-28D61258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DD0-2CF4-40F7-85B5-96D7894E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806-DBA5-4E65-A231-83719A90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B14D-C419-4AEA-86F1-34DBD899BE8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1669-15FF-42BB-9B39-E2EC2A3CC98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5251-9BBB-4C39-9E66-79CD67C712A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3678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b7"/>
                </a:solidFill>
                <a:latin typeface="Arial Black"/>
              </a:rPr>
              <a:t>Propiedad Industrial y Defensa de la Competenci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2656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onaldo Bru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oris Sant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Restricciones Vertic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tricciones territor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tricciones sobre la producción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ijación de precios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tromisión en la gestión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ranqui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gla: Si la explotación legítima directamente de la propiedad industrial permite iguales efectos, la restricción sería vál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4EC-E5C1-4229-AF07-56F98597D0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Nuevas Tecnologí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glas generales, proscripción de la exclusión y del abuso, derechos a contratar con competidores, a innovar y a compet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regulación de los contratos sobre transferencia de tecnologí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243-3FE1-4401-B899-EBE1D3C081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Cas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IMS Health contra NDC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ósforos chinos, Calvin Klein, Le Coq Sportive, Soprole – Da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CC2-0D15-4475-B75B-F8F9C889F2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3500280"/>
            <a:ext cx="1008000" cy="8636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3500280"/>
            <a:ext cx="1728720" cy="865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3500280"/>
            <a:ext cx="396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500280"/>
            <a:ext cx="0" cy="187344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32846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¿Cuál es el Valor Social de una innov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414972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27640" y="314172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365720"/>
            <a:ext cx="0" cy="1079280"/>
          </a:xfrm>
          <a:prstGeom prst="line">
            <a:avLst/>
          </a:prstGeom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9280" y="436572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450864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08360" y="3573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or social de la innov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05D-BAE8-410D-A033-C29A5C2E8C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00360" y="2997360"/>
            <a:ext cx="1224000" cy="10080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2997360"/>
            <a:ext cx="1081080" cy="10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2133720"/>
            <a:ext cx="1873080" cy="331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400536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299736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2781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618920" y="2997360"/>
            <a:ext cx="10810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ximización de beneficios del monopol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3860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3645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mg =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4005360"/>
            <a:ext cx="0" cy="1439640"/>
          </a:xfrm>
          <a:prstGeom prst="line">
            <a:avLst/>
          </a:prstGeom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465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314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érdida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1DC-1381-435D-BCA4-33E8C7E316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133720"/>
            <a:ext cx="2305080" cy="18716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2133720"/>
            <a:ext cx="3889440" cy="3166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ximizar el bienestar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3860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24360" y="2852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4005360"/>
            <a:ext cx="0" cy="1439640"/>
          </a:xfrm>
          <a:prstGeom prst="line">
            <a:avLst/>
          </a:prstGeom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0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4000" y="4797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man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2123640" y="3500280"/>
            <a:ext cx="1295280" cy="23050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618920" y="4005360"/>
            <a:ext cx="2305080" cy="0"/>
          </a:xfrm>
          <a:prstGeom prst="line">
            <a:avLst/>
          </a:prstGeom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619280" y="3068640"/>
            <a:ext cx="4032360" cy="22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68360" y="2276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dente del consumi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486900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dente del Prod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6A5-75D7-41D1-9DFE-3E2EC050D8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19280" y="2997360"/>
            <a:ext cx="1081080" cy="360360"/>
          </a:xfrm>
          <a:prstGeom prst="rect">
            <a:avLst/>
          </a:pr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78136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618920" y="2997360"/>
            <a:ext cx="10810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5516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eneficios de una innovación para un monopol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3573360"/>
            <a:ext cx="792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4941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5013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43280" y="55008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3141720"/>
            <a:ext cx="7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19280" y="465300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429264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00360" y="3357720"/>
            <a:ext cx="35892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3357720"/>
            <a:ext cx="0" cy="208728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19280" y="3357720"/>
            <a:ext cx="1081080" cy="64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360" y="299736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19280" y="3357720"/>
            <a:ext cx="144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19280" y="4005360"/>
            <a:ext cx="41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133720"/>
            <a:ext cx="1873080" cy="331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2349360"/>
            <a:ext cx="14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4005360"/>
            <a:ext cx="1081080" cy="64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FDF-6AB3-4E3B-9401-B0FBB9C8C9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26920" y="134136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19280" y="3500280"/>
            <a:ext cx="1728720" cy="865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3500280"/>
            <a:ext cx="3673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48000" y="3500280"/>
            <a:ext cx="0" cy="187344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32846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eneficios de una innovación para una empresa en competencia a la Ber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3141720"/>
            <a:ext cx="792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4365720"/>
            <a:ext cx="439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32360" y="393372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19640" y="2349360"/>
            <a:ext cx="14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8000" y="443700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ta del Innov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2CE-396F-4618-B4EB-C058FA1CF5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La razón de ser de la propiedad industri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recho de propie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novación. Crecimiento y bienestar general. Innovaciones generan más y mejores bienes a menores precios. Pero suponen inversión en I+D, riesgosa: se posibilita si el inversionista tiene expectativa de recuperarla con rentas sobrenormales, monopól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llow (1957), crecimiento EEUU se explica por mejoras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chumpeter (1943), los monopolios pueden innovar, porque recuperarán su inversión en I+D con rentas sobrenormales </a:t>
            </a:r>
            <a:r>
              <a:rPr b="0" lang="es-MX" sz="20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grá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n embargo, aún sin la exclusividad existen incentivos a innov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cance. Derecho a excluir y a explot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226-C936-46DB-ADD6-AAB9923484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b7"/>
                </a:solidFill>
                <a:latin typeface="Arial Black"/>
              </a:rPr>
              <a:t>La razón de ser de la defensa de la competenci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007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recho a emprender, derecho a competir, libertad de los ig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ienestar de los consumidores, eficiencia, </a:t>
            </a:r>
            <a:r>
              <a:rPr b="0" lang="es-MX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bienestar social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a libre competencia, sin fallas de mercado, genera eficiencia productiva y asignativa, y así bienestar soci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ero los individuos repudian los monopolios sólo hasta que se convierten en uno, y resulta que la competencia tiende al Highlander: La entrada a la cancha es libre y la lucha es por el dinero de los consumidores, libres para decidir a quién y cuánto entregar. Las armas legales son la innovación y la eficiencia, que permite ofrecer más y mejores bienes a menores precios. Los competidores luchan a muerte. Los sobrevivientes adquieren poder de mercado con cada victoria. Este poder puede usarse para crear armas ilegales, con las cuales impedir el ingreso de nuevos competidores, eliminar a los actuales e imponer bienes y precios. O sea, para anular la libertad de los otros agentes. Esta libertad es la que debe ser proteg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nce. Prohibición de excluir y de explotar en forma abusi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ED4-7409-4159-B300-72DFD8EC99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oder de Mercado y Derechos Industriale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menos incentivos que una empresa en competencia para innovar.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Compárese el valor de la innovación para uno y otro (</a:t>
            </a:r>
            <a:r>
              <a:rPr b="0" lang="es-MX" sz="2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Gráficos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incentivos para impedir la innovación ajena, pues genera competencia y empuja a la baja el precio de equilib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incentivos estratégicos para utilizar los derechos industriales con el fin de excluir competidores o imponer precios u otras condiciones abusivas. (monopolio amenazado por la entrada, Gilbert y Newbery 19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5B9-D66F-45BC-A647-0BB7BC7B47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El Conflicto</a:t>
            </a:r>
            <a:br>
              <a:rPr sz="4400"/>
            </a:br>
            <a:r>
              <a:rPr b="1" lang="es-MX" sz="2800" spc="-1" strike="noStrike">
                <a:solidFill>
                  <a:srgbClr val="ffffb7"/>
                </a:solidFill>
                <a:latin typeface="Arial Black"/>
              </a:rPr>
              <a:t>Doctrinas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ctrina de la inherencia. Son ilícitas las restricciones a la competencia que excedan del alcance del derecho de propiedad industr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ctrina de la ausencia de conflicto. Los derechos de propiedad industrial excluyen absolutamente la aplicación de la ley de defensa de la competencia, como todo derecho de propie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regla de la razón. Las restricciones que impone el propietario industrial pueden ser eficientes y hasta procompet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aplicación de las reglas sobre restricciones vertic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871-9119-4705-99C5-F1CB5D589E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El Conflicto</a:t>
            </a:r>
            <a:br>
              <a:rPr sz="4400"/>
            </a:br>
            <a:r>
              <a:rPr b="1" lang="es-MX" sz="2800" spc="-1" strike="noStrike">
                <a:solidFill>
                  <a:srgbClr val="ffffb7"/>
                </a:solidFill>
                <a:latin typeface="Arial Black"/>
              </a:rPr>
              <a:t>Solución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monopolización. La propiedad industrial otorga exclusividad sobre un invento, procedimiento o signo, no sobre un mercado (aunque podrían coincidir, si es aquel es la única forma de producir un bien sin sustituto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derecho a emprender. La propiedad industrial permite impedir el emprendimiento en relación al objeto de tal propiedad, pero no más allá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explotación. La propiedad industrial permite explotarla, pero no autoriza la explotación abusi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flicto real: Sólo en lo que lo toca al derecho a excluir del objeto amparado por propiedad industrial. El conflicto se resuelve en favor de la propiedad industri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flicto aparente: Fuera de aquel ámbito, y aún dentro del mismo, en lo que toca a la explotación abusiva, no hay conflicto, la ley de propiedad industrial no es la aplicable, sino la ley de defensa de la competencia, que prohíbe la exclusión y la explotación abusiva. Así, podría infringir la ley de defensa de la competencia, la imposición, en un contrato de licencia, de contratar licencias de otros proveedores (exclusión), o la de contratar una licencia distinta de la requerida (venta atada)… pero la realidad es comple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19B-10D1-492F-A185-294AD1AE97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Exclusori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onopolización de mercados adquiriendo propiedad industrial. Derechos industriales genéricos o sin uso. Carrera de patentes. Patentamiento Defensiv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se materializan beneficios de invenciones. Demanda insatisfecha, pérdidas sociales. Agentes dispuestos a adquirir productos a precios de mercado no puedan hacerlo. Un caso dramático es el de los medicamentos, países pobres quedan privados de ell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e obliga a competidores a emular innovación falsa, incrementando co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itigios por amplitud de patentes retardan y encarecen la 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dquisición fraudulenta de propiedad industrial. Ejercicio del </a:t>
            </a:r>
            <a:r>
              <a:rPr b="0" i="1" lang="es-MX" sz="1600" spc="-1" strike="noStrike">
                <a:solidFill>
                  <a:srgbClr val="ffffff"/>
                </a:solidFill>
                <a:latin typeface="Arial"/>
              </a:rPr>
              <a:t>ius prohibendi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 otros propietarios legítim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Juicios retardan y encarecen la 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Doctrina europea del agotamiento de los derech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Doctrina chilena sobre importaciones paralel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tos de licencia. Cláusulas que restringen competir o innovar, o contratar con competidor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s licencias son en general, deseables, porque posibilitan uso, difusión y socialización de la innovación (pago por ingeniería inversa o adopcion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as restricciones son razonables, funcionales a la protección de los derechos industriales, pero no pueden ir más allá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Un criterio es no permitir más restricciones que las que derivarían de la explotación directa, sin licenc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C05-5AA0-4008-A880-75C1AD0418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Abusiv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galías y otras contraprestaciones abusivas. Discrimin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entas atadas. Licencias at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osición de 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ambién se han cuestionado pagos posteriores a la licencias y retrocesiones de mejora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669-36F6-4AFE-B455-6AB3FD56DB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Coordinad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ransacciones sobre licencias, licencias cruzadas y colusiones exclusorias y abus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ransacciones sobre licencias, licencias cruzadas, pérdida de independencia de las empresas y concentr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9F6-72A8-45AD-80D7-4B1A32DD75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9:19:04Z</dcterms:created>
  <dc:creator>Boris</dc:creator>
  <dc:description/>
  <dc:language>en-US</dc:language>
  <cp:lastModifiedBy>Claudio Magliona</cp:lastModifiedBy>
  <dcterms:modified xsi:type="dcterms:W3CDTF">2008-06-25T14:11:09Z</dcterms:modified>
  <cp:revision>52</cp:revision>
  <dc:subject/>
  <dc:title>Propiedad Industrial y Defensa de la Competencia</dc:title>
</cp:coreProperties>
</file>