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403F-589B-458C-83CD-0EFC77530B6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sertar análisis del monopolio y su proceso de maximización de ingres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ED0C-D559-49BB-B7AF-17AC8A11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68BE-F143-4A12-8E88-9E11766F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D42-9ECC-4411-9BDC-44220E69B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2CCC-AC7B-4E43-9061-105C70DC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7156-BBDA-47A8-8A87-CF225E8F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4FA8-A08B-42D4-87AF-D5A01A0D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E66B-557F-4BD8-BC44-655AE21D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F249-C776-462B-92D5-790973A6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DA86-F1D5-427A-853B-B833D4BD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92A6-731F-4169-994A-7A58A1BB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D2EA-F33E-4D39-869B-3FDCEEC9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1AA4-BBC6-49C6-AEA8-36AAB563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1CB5-7FAE-47FF-ACD6-CCF12B93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F678-E166-45BF-8B12-A31431BB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4411-AD48-4662-8B4C-05BFE882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D540-BD2D-4DC1-99B0-6413680F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92E8-EA65-46DA-AE53-80F4B695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5708A-ABD5-48E9-9496-353278D6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7FC4F-A6C6-4E48-ABCA-96516FA5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4CF64-AE8F-403A-901C-CE58CA4B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A9C55-7D29-4B51-A822-4A5A0C8F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0C118-23AE-4818-93AD-424718E7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EAA1-C46E-42F7-B653-315DA5FF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71412-F33B-489B-B8F1-5278CBA2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32BB1-4331-42AF-B772-966465B0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FF077-BC6C-453E-8AC6-1143554A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FBD3B-F5B5-4DB9-933C-3DC58BD8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9726E-8807-4AFD-9868-59742B15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4550C-DB00-420A-A46D-53D279CD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905E0-911E-46FD-A1CD-7A09B165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6D6A-812C-4906-A88A-953AD235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DA08-1A0C-450B-9FB1-69EBF0F1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930-F60B-4F80-9737-3B8A7AED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99C9-8A93-4FC5-B409-8D7D1F6A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54B9-6473-4A7E-A5FE-89B82044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FAC6-7ECE-42D5-A9E8-B980E5BD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E32A-CEC8-459D-BB5F-B02CD3B3B77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D912-0DED-47D7-9D68-7BDC5A4B223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5EC9-448C-40FF-8B39-E62EC7E2C45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83678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b7"/>
                </a:solidFill>
                <a:latin typeface="Arial Black"/>
              </a:rPr>
              <a:t>Propiedad Industrial y Defensa de la Competenci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826560" y="386028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onaldo Bru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Boris Santa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Restricciones Vertica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stricciones territor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stricciones sobre la producción del licencia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ijación de precios del licencia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ntromisión en la gestión del licencia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ranqui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gla: Si la explotación legítima directamente de la propiedad industrial permite iguales efectos, la restricción sería vál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270C-5CCE-4314-8BC8-C270D53CC3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Nuevas Tecnologí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glas generales, proscripción de la exclusión y del abuso, derechos a contratar con competidores, a innovar y a compet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regulación de los contratos sobre transferencia de tecnologí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DB0D-438D-4B34-9B8F-C0EFAE0656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Caso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IMS Health contra NDC H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Fósforos chinos, Calvin Klein, Le Coq Sportive, Soprole – Dan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B437-77D4-4EA0-9440-76D47DE097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26920" y="141300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48000" y="3500280"/>
            <a:ext cx="1008000" cy="86364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19280" y="3500280"/>
            <a:ext cx="1728720" cy="865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19280" y="2133720"/>
            <a:ext cx="4105080" cy="33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19280" y="3500280"/>
            <a:ext cx="3960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48000" y="3500280"/>
            <a:ext cx="0" cy="1873440"/>
          </a:xfrm>
          <a:prstGeom prst="line">
            <a:avLst/>
          </a:prstGeom>
          <a:ln w="1908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5640" y="328464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59280" y="5445000"/>
            <a:ext cx="502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¿Cuál es el Valor Social de una innovació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414972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27640" y="3141720"/>
            <a:ext cx="79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4365720"/>
            <a:ext cx="0" cy="1079280"/>
          </a:xfrm>
          <a:prstGeom prst="line">
            <a:avLst/>
          </a:prstGeom>
          <a:ln w="1908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40360" y="5445000"/>
            <a:ext cx="502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03640" y="4797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19280" y="4365720"/>
            <a:ext cx="4681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35640" y="4508640"/>
            <a:ext cx="79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08360" y="3573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or social de la innov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7067-08CB-40C9-BB34-E1F343E07C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26920" y="141300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00360" y="2997360"/>
            <a:ext cx="1224000" cy="10080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2997360"/>
            <a:ext cx="1081080" cy="100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19280" y="2133720"/>
            <a:ext cx="4105080" cy="33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19280" y="2133720"/>
            <a:ext cx="1873080" cy="3311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19280" y="4005360"/>
            <a:ext cx="4681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00360" y="2997360"/>
            <a:ext cx="0" cy="244764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2781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" sz="14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618920" y="2997360"/>
            <a:ext cx="10810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4000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Maximización de beneficios del monopol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3860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1600" spc="-1" strike="noStrike" baseline="30000">
                <a:solidFill>
                  <a:srgbClr val="ffff66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80000" y="3645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mg = 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4005360"/>
            <a:ext cx="0" cy="1439640"/>
          </a:xfrm>
          <a:prstGeom prst="line">
            <a:avLst/>
          </a:prstGeom>
          <a:ln w="1908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0836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66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32000" y="4653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Im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797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8000" y="3141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érdida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24720" y="5661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vol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FA33-7215-40FE-9275-A7503A30AD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26920" y="141300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133720"/>
            <a:ext cx="2305080" cy="187164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19280" y="2133720"/>
            <a:ext cx="3889440" cy="3166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Maximizar el bienestar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3860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1600" spc="-1" strike="noStrike" baseline="30000">
                <a:solidFill>
                  <a:srgbClr val="ffff66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24360" y="2852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fer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24360" y="4005360"/>
            <a:ext cx="0" cy="1439640"/>
          </a:xfrm>
          <a:prstGeom prst="line">
            <a:avLst/>
          </a:prstGeom>
          <a:ln w="255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0836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66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64000" y="479736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man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400000">
            <a:off x="2123640" y="3500280"/>
            <a:ext cx="1295280" cy="230508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618920" y="4005360"/>
            <a:ext cx="2305080" cy="0"/>
          </a:xfrm>
          <a:prstGeom prst="line">
            <a:avLst/>
          </a:prstGeom>
          <a:ln w="255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619280" y="3068640"/>
            <a:ext cx="4032360" cy="2232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68360" y="2276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edente del consumi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40000" y="486900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edente del Prod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24720" y="5661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vol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D1DB-CC54-4F64-918D-33574F0B94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26920" y="141300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19280" y="2997360"/>
            <a:ext cx="1081080" cy="360360"/>
          </a:xfrm>
          <a:prstGeom prst="rect">
            <a:avLst/>
          </a:pr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19280" y="2133720"/>
            <a:ext cx="4105080" cy="33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5640" y="278136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618920" y="2997360"/>
            <a:ext cx="10810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40000" y="551664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eneficios de una innovación para un monopol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003640" y="3573360"/>
            <a:ext cx="792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03640" y="4941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Im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92720" y="501336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man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43280" y="550080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6920" y="3141720"/>
            <a:ext cx="7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19280" y="4653000"/>
            <a:ext cx="4681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51640" y="4292640"/>
            <a:ext cx="79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00360" y="3357720"/>
            <a:ext cx="35892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59280" y="3357720"/>
            <a:ext cx="0" cy="208728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19280" y="3357720"/>
            <a:ext cx="1081080" cy="64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00360" y="2997360"/>
            <a:ext cx="0" cy="244764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619280" y="3357720"/>
            <a:ext cx="144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19280" y="4005360"/>
            <a:ext cx="4176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2133720"/>
            <a:ext cx="1873080" cy="3311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800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8000" y="35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19640" y="2349360"/>
            <a:ext cx="1440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 Cm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19280" y="4005360"/>
            <a:ext cx="1081080" cy="647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08000" y="407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FCB6-914C-4F27-8F4E-AB1F9A2611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826920" y="1341360"/>
            <a:ext cx="7777440" cy="4824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19280" y="3500280"/>
            <a:ext cx="1728720" cy="865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1557360"/>
            <a:ext cx="0" cy="38876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19280" y="5445000"/>
            <a:ext cx="5113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19280" y="2133720"/>
            <a:ext cx="4105080" cy="33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19280" y="3500280"/>
            <a:ext cx="3673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48000" y="3500280"/>
            <a:ext cx="0" cy="1873440"/>
          </a:xfrm>
          <a:prstGeom prst="line">
            <a:avLst/>
          </a:prstGeom>
          <a:ln w="1908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84720" y="5516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5640" y="328464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59280" y="5445000"/>
            <a:ext cx="502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eneficios de una innovación para una empresa en competencia a la Bert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356000" y="3141720"/>
            <a:ext cx="792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003640" y="4797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19280" y="4365720"/>
            <a:ext cx="4392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932360" y="3933720"/>
            <a:ext cx="792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19640" y="2349360"/>
            <a:ext cx="1440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 Cm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08000" y="443700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nta del Innov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24720" y="5661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vol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189A-97A9-48FB-8B47-EF9F7C76EC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La razón de ser de la propiedad industri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recho de propie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novación. Crecimiento y bienestar general. Innovaciones generan más y mejores bienes a menores precios. Pero suponen inversión en I+D, riesgosa: se posibilita si el inversionista tiene expectativa de recuperarla con rentas sobrenormales, monopól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llow (1957), crecimiento EEUU se explica por mejoras tecno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chumpeter (1943), los monopolios pueden innovar, porque recuperarán su inversión en I+D con rentas sobrenormales </a:t>
            </a:r>
            <a:r>
              <a:rPr b="0" lang="es-MX" sz="20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gráf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n embargo, aún sin la exclusividad existen incentivos a innov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lcance. Derecho a excluir y a explot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EED4-1306-4CFA-9090-31F302AACA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b7"/>
                </a:solidFill>
                <a:latin typeface="Arial Black"/>
              </a:rPr>
              <a:t>La razón de ser de la defensa de la competenci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007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Derecho a emprender, derecho a competir, libertad de los ig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Bienestar de los consumidores, eficiencia, </a:t>
            </a:r>
            <a:r>
              <a:rPr b="0" lang="es-MX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bienestar social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La libre competencia, sin fallas de mercado, genera eficiencia productiva y asignativa, y así bienestar soci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ero los individuos repudian los monopolios sólo hasta que se convierten en uno, y resulta que la competencia tiende al Highlander: La entrada a la cancha es libre y la lucha es por el dinero de los consumidores, libres para decidir a quién y cuánto entregar. Las armas legales son la innovación y la eficiencia, que permite ofrecer más y mejores bienes a menores precios. Los competidores luchan a muerte. Los sobrevivientes adquieren poder de mercado con cada victoria. Este poder puede usarse para crear armas ilegales, con las cuales impedir el ingreso de nuevos competidores, eliminar a los actuales e imponer bienes y precios. O sea, para anular la libertad de los otros agentes. Esta libertad es la que debe ser protegi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nce. Prohibición de excluir y de explotar en forma abusiv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EBC5-5765-4963-89CA-E62551519C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Poder de Mercado y Derechos Industriale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monopolista tiene menos incentivos que una empresa en competencia para innovar. 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Compárese el valor de la innovación para uno y otro (</a:t>
            </a:r>
            <a:r>
              <a:rPr b="0" lang="es-MX" sz="24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Gráficos</a:t>
            </a: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monopolista tiene incentivos para impedir la innovación ajena, pues genera competencia y empuja a la baja el precio de equilib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monopolista tiene incentivos estratégicos para utilizar los derechos industriales con el fin de excluir competidores o imponer precios u otras condiciones abusivas. (monopolio amenazado por la entrada, Gilbert y Newbery 198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18DD-50CE-49B5-BD88-22E9C62A90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El Conflicto</a:t>
            </a:r>
            <a:br>
              <a:rPr sz="4400"/>
            </a:br>
            <a:r>
              <a:rPr b="1" lang="es-MX" sz="2800" spc="-1" strike="noStrike">
                <a:solidFill>
                  <a:srgbClr val="ffffb7"/>
                </a:solidFill>
                <a:latin typeface="Arial Black"/>
              </a:rPr>
              <a:t>Doctrinas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octrina de la inherencia. Son ilícitas las restricciones a la competencia que excedan del alcance del derecho de propiedad industr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octrina de la ausencia de conflicto. Los derechos de propiedad industrial excluyen absolutamente la aplicación de la ley de defensa de la competencia, como todo derecho de propie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regla de la razón. Las restricciones que impone el propietario industrial pueden ser eficientes y hasta procompetiti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aplicación de las reglas sobre restricciones vertic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6463-39A2-46CA-B139-6E87A28549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El Conflicto</a:t>
            </a:r>
            <a:br>
              <a:rPr sz="4400"/>
            </a:br>
            <a:r>
              <a:rPr b="1" lang="es-MX" sz="2800" spc="-1" strike="noStrike">
                <a:solidFill>
                  <a:srgbClr val="ffffb7"/>
                </a:solidFill>
                <a:latin typeface="Arial Black"/>
              </a:rPr>
              <a:t>Solución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opiedad industrial y monopolización. La propiedad industrial otorga exclusividad sobre un invento, procedimiento o signo, no sobre un mercado (aunque podrían coincidir, si es aquel es la única forma de producir un bien sin sustitutos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opiedad industrial y derecho a emprender. La propiedad industrial permite impedir el emprendimiento en relación al objeto de tal propiedad, pero no más allá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opiedad industrial y explotación. La propiedad industrial permite explotarla, pero no autoriza la explotación abusiv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nflicto real: Sólo en lo que lo toca al derecho a excluir del objeto amparado por propiedad industrial. El conflicto se resuelve en favor de la propiedad industri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nflicto aparente: Fuera de aquel ámbito, y aún dentro del mismo, en lo que toca a la explotación abusiva, no hay conflicto, la ley de propiedad industrial no es la aplicable, sino la ley de defensa de la competencia, que prohíbe la exclusión y la explotación abusiva. Así, podría infringir la ley de defensa de la competencia, la imposición, en un contrato de licencia, de contratar licencias de otros proveedores (exclusión), o la de contratar una licencia distinta de la requerida (venta atada)… pero la realidad es complej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72F5-F5CB-4EB3-9B47-078D7738F5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Prácticas Exclusori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Monopolización de mercados adquiriendo propiedad industrial. Derechos industriales genéricos o sin uso. Carrera de patentes. Patentamiento Defensiv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o se materializan beneficios de invenciones. Demanda insatisfecha, pérdidas sociales. Agentes dispuestos a adquirir productos a precios de mercado no puedan hacerlo. Un caso dramático es el de los medicamentos, países pobres quedan privados de ell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Se obliga a competidores a emular innovación falsa, incrementando cos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Litigios por amplitud de patentes retardan y encarecen la 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Adquisición fraudulenta de propiedad industrial. Ejercicio del </a:t>
            </a:r>
            <a:r>
              <a:rPr b="0" i="1" lang="es-MX" sz="1600" spc="-1" strike="noStrike">
                <a:solidFill>
                  <a:srgbClr val="ffffff"/>
                </a:solidFill>
                <a:latin typeface="Arial"/>
              </a:rPr>
              <a:t>ius prohibendi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ntra otros propietarios legítimo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Juicios retardan y encarecen la 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Doctrina europea del agotamiento de los derech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Doctrina chilena sobre importaciones paralel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ntratos de licencia. Cláusulas que restringen competir o innovar, o contratar con competidor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Las licencias son en general, deseables, porque posibilitan uso, difusión y socialización de la innovación (pago por ingeniería inversa o adopcion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Las restricciones son razonables, funcionales a la protección de los derechos industriales, pero no pueden ir más allá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Un criterio es no permitir más restricciones que las que derivarían de la explotación directa, sin licenci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0EC3-CCD5-49E9-AD32-3399898ECE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Prácticas Abusiv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galías y otras contraprestaciones abusivas. Discrimin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Ventas atadas. Licencias ata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mposición de pers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ambién se han cuestionado pagos posteriores a la licencias y retrocesiones de mejora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AA10-43ED-4B4F-BF73-E4EB769905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b7"/>
                </a:solidFill>
                <a:latin typeface="Arial Black"/>
              </a:rPr>
              <a:t>Prácticas Coordinad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ransacciones sobre licencias, licencias cruzadas y colusiones exclusorias y abus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ransacciones sobre licencias, licencias cruzadas, pérdida de independencia de las empresas y concentr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C444-443F-4AAB-9027-D19E01CFD1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9:19:04Z</dcterms:created>
  <dc:creator>Boris</dc:creator>
  <dc:description/>
  <dc:language>en-US</dc:language>
  <cp:lastModifiedBy>Claudio Magliona</cp:lastModifiedBy>
  <dcterms:modified xsi:type="dcterms:W3CDTF">2008-06-25T14:11:09Z</dcterms:modified>
  <cp:revision>52</cp:revision>
  <dc:subject/>
  <dc:title>Propiedad Industrial y Defensa de la Competencia</dc:title>
</cp:coreProperties>
</file>