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DE23-4EE0-4956-8209-CDAFB87E20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ar análisis del monopolio y su proceso de maximización de ingr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3A5-0F86-4A59-891F-44B65A7A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028-DA96-4CAF-AB6C-F51354AE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CB7-F311-49EB-9B5C-1A839947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8BE-E580-4DDF-BE61-BFB7B759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FC11-325A-4D63-94C7-A31C88C0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963A-09FE-4427-8CDF-EE3DC964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F274-00DA-4739-A029-7AD31D87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8A8C-9BAB-4F5A-BC14-10CB2703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5D40-BBD0-4F6B-B9C7-201D5F43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872A-251D-4FFC-B14E-F9F323B2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A924-2BEB-4D8E-B91C-D62DB8B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916-EA3C-4BB2-AC91-49E735D9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70F4-1635-4156-A0E1-894A897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9502-250C-4426-BC7A-56E07AE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587D-9389-45CA-9381-EDCEB06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BC5A-74AA-481A-8CA3-30342F4F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9DD9-0C60-47B5-AD16-6534C731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92F5-ED96-4657-8ABA-7FD95F87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61F3-4526-49B3-8123-EA274F37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6394-3325-4751-9D29-CEB337A0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D184-BAE8-4D0A-88B8-9EE02D8F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4A49-007F-4446-B818-2D6831F9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C7C-6EE9-489F-B5B3-9F9BE46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4FD0-D455-45AC-BE66-02C2BFC2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B117B-0CB9-4721-9B62-35434CF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4673-3E6B-4C0A-BCE2-6E9D165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099D-204B-44A4-9483-B227A797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B7A9-2614-4C4A-9C2C-D07CF1D8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E334-D8E5-4520-99AE-0538F6D6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3245-709D-48FC-8D3D-7C82FDD8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395-A07C-4F8A-9F2F-1E565E3A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101-36D6-4ED4-ABBE-46486B5D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4B8-0493-494B-9A46-2FCDA175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CD5-3F60-4EE9-83DE-1180982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9D8-8634-426E-A27D-0DE2ACB3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C07-B493-409A-87F1-5340A75A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855C-92FC-45C2-888A-C3387BCF0E1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FE70-4534-4FD1-AD67-D1D2F310655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EEE9-B5A0-4D58-9BB0-23E3E1B0DB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678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b7"/>
                </a:solidFill>
                <a:latin typeface="Arial Black"/>
              </a:rPr>
              <a:t>Propiedad Industrial y Defensa de la Competenc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onaldo Br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oris Sant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Restricciones Vertic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territor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sobre la producc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ijación de precios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tromisión en la gest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ranqu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gla: Si la explotación legítima directamente de la propiedad industrial permite iguales efectos, la restricción sería vál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56E-E65F-44E7-BD8F-06E1FF0DA0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Nuevas Tecnologí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las generales, proscripción de la exclusión y del abuso, derechos a contratar con competidores, a innovar y a compet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gulación de los contratos sobre transferencia de tecnolog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71D-453C-4B82-9ED9-15094D94DC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Cas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IMS Health contra NDC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ósforos chinos, Calvin Klein, Le Coq Sportive, Soprole – Da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450-1A65-4808-B903-E5B98D47C7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3500280"/>
            <a:ext cx="1008000" cy="863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3500280"/>
            <a:ext cx="396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¿Cuál es el Valor Social de una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14972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3141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365720"/>
            <a:ext cx="0" cy="107928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36572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08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573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social de la inno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B4B-85BB-4209-A1E4-0DDE359CAB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2997360"/>
            <a:ext cx="1224000" cy="1008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997360"/>
            <a:ext cx="108108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00536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78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ción de beneficios del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3645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mg 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465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érdida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4FE-B795-4769-9A25-1E2DF359EC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133720"/>
            <a:ext cx="2305080" cy="1871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133720"/>
            <a:ext cx="3889440" cy="3166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r el bienestar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2852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797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2123640" y="3500280"/>
            <a:ext cx="1295280" cy="2305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18920" y="400536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19280" y="3068640"/>
            <a:ext cx="403236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227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4869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Prod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0DE-18A2-44A2-8365-1D7F53C103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2997360"/>
            <a:ext cx="1081080" cy="36036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78136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5516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357336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941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501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55008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14172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465300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4292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3357720"/>
            <a:ext cx="35892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3357720"/>
            <a:ext cx="0" cy="208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3357720"/>
            <a:ext cx="108108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9280" y="3357720"/>
            <a:ext cx="144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4005360"/>
            <a:ext cx="41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4005360"/>
            <a:ext cx="1081080" cy="64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136-8528-4E9F-9B02-16402B6E05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26920" y="134136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367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a empresa en competencia a la Ber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314172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4365720"/>
            <a:ext cx="439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933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443700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 del Inno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E25-45F1-4A09-97AE-14CF416C91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La razón de ser de la propiedad industr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recho de propi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novación. Crecimiento y bienestar general. Innovaciones generan más y mejores bienes a menores precios. Pero suponen inversión en I+D, riesgosa: se posibilita si el inversionista tiene expectativa de recuperarla con rentas sobrenormales, monopó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llow (1957), crecimiento EEUU se explica por mejoras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chumpeter (1943), los monopolios pueden innovar, porque recuperarán su inversión en I+D con rentas sobrenormales </a:t>
            </a:r>
            <a:r>
              <a:rPr b="0" lang="es-MX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, aún sin la exclusividad existen incentivos a inno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cance. Derecho a excluir y a explo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363-AB12-41C9-8E7D-E80483CE61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b7"/>
                </a:solidFill>
                <a:latin typeface="Arial Black"/>
              </a:rPr>
              <a:t>La razón de ser de la defensa de la competenci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recho a emprender, derecho a competir, libertad de los ig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ienestar de los consumidores, eficiencia, </a:t>
            </a:r>
            <a:r>
              <a:rPr b="0" lang="es-MX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bienestar social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libre competencia, sin fallas de mercado, genera eficiencia productiva y asignativa, y así bienestar soc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ero los individuos repudian los monopolios sólo hasta que se convierten en uno, y resulta que la competencia tiende al Highlander: La entrada a la cancha es libre y la lucha es por el dinero de los consumidores, libres para decidir a quién y cuánto entregar. Las armas legales son la innovación y la eficiencia, que permite ofrecer más y mejores bienes a menores precios. Los competidores luchan a muerte. Los sobrevivientes adquieren poder de mercado con cada victoria. Este poder puede usarse para crear armas ilegales, con las cuales impedir el ingreso de nuevos competidores, eliminar a los actuales e imponer bienes y precios. O sea, para anular la libertad de los otros agentes. Esta libertad es la que debe ser proteg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nce. Prohibición de excluir y de explotar en forma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BC3-F14A-4760-931E-05E226FFE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oder de Mercado y Derechos Industrial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menos incentivos que una empresa en competencia para innovar.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Compárese el valor de la innovación para uno y otro (</a:t>
            </a:r>
            <a:r>
              <a:rPr b="0" lang="es-MX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para impedir la innovación ajena, pues genera competencia y empuja a la baja el precio de equilib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estratégicos para utilizar los derechos industriales con el fin de excluir competidores o imponer precios u otras condiciones abusivas. (monopolio amenazado por la entrada, Gilbert y Newbery 19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421-B86E-4F6F-BE43-90349556EB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Doctrina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inherencia. Son ilícitas las restricciones a la competencia que excedan del alcance del derecho de propiedad indus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ausencia de conflicto. Los derechos de propiedad industrial excluyen absolutamente la aplicación de la ley de defensa de la competencia, como todo derecho de propi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regla de la razón. Las restricciones que impone el propietario industrial pueden ser eficientes y hasta pro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aplicación de las reglas sobre restricciones vertic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4DA-9AC8-422B-996F-B03CB4866D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Solució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monopolización. La propiedad industrial otorga exclusividad sobre un invento, procedimiento o signo, no sobre un mercado (aunque podrían coincidir, si es aquel es la única forma de producir un bien sin sustitut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derecho a emprender. La propiedad industrial permite impedir el emprendimiento en relación al objeto de tal propiedad, pero no más allá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explotación. La propiedad industrial permite explotarla, pero no autoriza la explotación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real: Sólo en lo que lo toca al derecho a excluir del objeto amparado por propiedad industrial. El conflicto se resuelve en favor de la propiedad industr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aparente: Fuera de aquel ámbito, y aún dentro del mismo, en lo que toca a la explotación abusiva, no hay conflicto, la ley de propiedad industrial no es la aplicable, sino la ley de defensa de la competencia, que prohíbe la exclusión y la explotación abusiva. Así, podría infringir la ley de defensa de la competencia, la imposición, en un contrato de licencia, de contratar licencias de otros proveedores (exclusión), o la de contratar una licencia distinta de la requerida (venta atada)… pero la realidad es comple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D15-DFA2-4308-96A3-6FC2BA0014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Excluso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nopolización de mercados adquiriendo propiedad industrial. Derechos industriales genéricos o sin uso. Carrera de patentes. Patentamiento Defens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se materializan beneficios de invenciones. Demanda insatisfecha, pérdidas sociales. Agentes dispuestos a adquirir productos a precios de mercado no puedan hacerlo. Un caso dramático es el de los medicamentos, países pobres quedan privados de ell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obliga a competidores a emular innovación falsa, incrementando co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itigios por amplitud de patente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dquisición fraudulenta de propiedad industrial. Ejercicio del </a:t>
            </a:r>
            <a:r>
              <a:rPr b="0" i="1" lang="es-MX" sz="1600" spc="-1" strike="noStrike">
                <a:solidFill>
                  <a:srgbClr val="ffffff"/>
                </a:solidFill>
                <a:latin typeface="Arial"/>
              </a:rPr>
              <a:t>ius prohibendi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 otros propietarios legítim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Juicio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europea del agotamiento de lo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chilena sobre importaciones paralel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s de licencia. Cláusulas que restringen competir o innovar, o contratar con competidor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licencias son en general, deseables, porque posibilitan uso, difusión y socialización de la innovación (pago por ingeniería inversa o adopcion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restricciones son razonables, funcionales a la protección de los derechos industriales, pero no pueden ir más allá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Un criterio es no permitir más restricciones que las que derivarían de la explotación directa, sin licen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B4B-74D8-410E-9BA0-BCF68422A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Abusiv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alías y otras contraprestaciones abusivas. Discrim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ntas atadas. Licencias a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osición de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ambién se han cuestionado pagos posteriores a la licencias y retrocesiones de mejor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DEC-EF56-4989-9B27-04617E73EC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Coordinad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 y colusiones exclusorias y abus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, pérdida de independencia de las empresas y concen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E6C-66EB-4AE3-8832-B7AD475D09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9:19:04Z</dcterms:created>
  <dc:creator>Boris</dc:creator>
  <dc:description/>
  <dc:language>en-US</dc:language>
  <cp:lastModifiedBy>Claudio Magliona</cp:lastModifiedBy>
  <dcterms:modified xsi:type="dcterms:W3CDTF">2008-06-25T14:11:09Z</dcterms:modified>
  <cp:revision>52</cp:revision>
  <dc:subject/>
  <dc:title>Propiedad Industrial y Defensa de la Competencia</dc:title>
</cp:coreProperties>
</file>