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2297-A055-4094-B9E8-61815B8CE7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sertar análisis del monopolio y su proceso de maximización de ingres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227-2F1B-436C-94C2-6CB145BC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A400-CE96-4F1E-94B8-48D348DF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7C3-31F1-4678-9928-0EE24860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B38-2E9A-46CB-B47D-AABC2C39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BF9D-77A1-4587-84BF-E059F0B0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BCD8-E1AA-4C38-97B6-CCB8CA2B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8FAC-D7B4-4ACD-9599-60C2BD46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E60F-7A4D-4459-B87A-15A1E544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BD52-EEBB-49DA-AA66-F180C272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9563-7590-4042-B2DB-7160CA0A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9BFF-FA1D-4637-BEB0-4CFB3245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EB9-65BA-4E14-A5F5-9AD185B7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8427-26D9-4FEE-8A11-18A6A527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E1F5-E305-49E2-8C56-DEAA412F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1815-F49C-463B-96B3-EF31C06C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DF30-B3B8-4499-8B92-7982CA1D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BA51-43C2-4292-B608-2DEECE1C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7995E-898A-4AD4-8F42-9828ECD5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4CBB8-BF1E-4D86-94F8-CF28CE32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8CF36-7250-42DB-BFDC-A9B99F77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AF110-27D1-4D85-A26F-7558C93B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3FBB4-5E2E-487B-AFCF-24D82FDE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EF6-4841-4F38-8D99-15A7A92C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B8E28-AB81-40E8-A3E9-033FF761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E45E6-207B-49FC-85A7-5DB75FD6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699DD-A183-4970-B608-F21336E0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53E18-4670-48CB-96C2-FBF771FF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9D625-70A9-48EE-9EB7-420B5336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06CEA-C1BF-4654-8C13-04FF1D7C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BBCF4-B49D-44DA-8B90-47E2FCB9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892-EA71-468B-8D2B-A751A333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B8B3-45D9-4658-885A-DC96AEC2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216-793F-40B7-B30D-9E6187D6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0E8-B022-478D-B040-DB5B219F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67A-A0D1-4AF9-8A41-2B8F51DF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290-ADC3-4747-A5C4-9B9551BD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ECE2-D9E1-4B8F-B2D6-0DB581BB397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486C-073E-4DA8-9DC9-8ED88E39000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E36F-8E59-4821-8EDB-E1DC5A80E56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3678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b7"/>
                </a:solidFill>
                <a:latin typeface="Arial Black"/>
              </a:rPr>
              <a:t>Propiedad Industrial y Defensa de la Competenci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26560" y="386028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onaldo Bru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oris Sant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Restricciones Vertica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stricciones territor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stricciones sobre la producción del licenci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ijación de precios del licenci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tromisión en la gestión del licenci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ranqui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gla: Si la explotación legítima directamente de la propiedad industrial permite iguales efectos, la restricción sería vál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6C2-F0B4-4540-813B-330C653FE2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Nuevas Tecnologí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glas generales, proscripción de la exclusión y del abuso, derechos a contratar con competidores, a innovar y a compet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regulación de los contratos sobre transferencia de tecnologí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A13B-8ACB-4F8C-A080-100F526975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Cas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IMS Health contra NDC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Fósforos chinos, Calvin Klein, Le Coq Sportive, Soprole – Da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6B5-F98D-479E-9278-B1E65A3AF9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48000" y="3500280"/>
            <a:ext cx="1008000" cy="8636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3500280"/>
            <a:ext cx="1728720" cy="865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3500280"/>
            <a:ext cx="3960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3500280"/>
            <a:ext cx="0" cy="1873440"/>
          </a:xfrm>
          <a:prstGeom prst="line">
            <a:avLst/>
          </a:prstGeom>
          <a:ln w="1908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328464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5445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¿Cuál es el Valor Social de una innovació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414972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27640" y="314172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365720"/>
            <a:ext cx="0" cy="1079280"/>
          </a:xfrm>
          <a:prstGeom prst="line">
            <a:avLst/>
          </a:prstGeom>
          <a:ln w="1908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40360" y="5445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0364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9280" y="4365720"/>
            <a:ext cx="46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35640" y="450864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08360" y="3573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or social de la innov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F44-88D2-4B09-9F4E-0B445427AC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00360" y="2997360"/>
            <a:ext cx="1224000" cy="10080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2997360"/>
            <a:ext cx="1081080" cy="100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2133720"/>
            <a:ext cx="1873080" cy="331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4005360"/>
            <a:ext cx="46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2997360"/>
            <a:ext cx="0" cy="24476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2781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618920" y="2997360"/>
            <a:ext cx="10810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4000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aximización de beneficios del monopol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3860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80000" y="3645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mg = 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4005360"/>
            <a:ext cx="0" cy="1439640"/>
          </a:xfrm>
          <a:prstGeom prst="line">
            <a:avLst/>
          </a:prstGeom>
          <a:ln w="1908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0" y="465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Im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3141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érdida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24720" y="566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46A6-E6E2-4208-BC36-E0D5678C2C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133720"/>
            <a:ext cx="2305080" cy="18716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2133720"/>
            <a:ext cx="3889440" cy="3166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aximizar el bienestar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3860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24360" y="2852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24360" y="4005360"/>
            <a:ext cx="0" cy="1439640"/>
          </a:xfrm>
          <a:prstGeom prst="line">
            <a:avLst/>
          </a:prstGeom>
          <a:ln w="255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0836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64000" y="4797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man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2123640" y="3500280"/>
            <a:ext cx="1295280" cy="23050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618920" y="4005360"/>
            <a:ext cx="2305080" cy="0"/>
          </a:xfrm>
          <a:prstGeom prst="line">
            <a:avLst/>
          </a:prstGeom>
          <a:ln w="255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619280" y="3068640"/>
            <a:ext cx="4032360" cy="2232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68360" y="2276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edente del consumi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486900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edente del Prod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24720" y="566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05A-CFD2-451B-A565-44F6962F79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19280" y="2997360"/>
            <a:ext cx="1081080" cy="360360"/>
          </a:xfrm>
          <a:prstGeom prst="rect">
            <a:avLst/>
          </a:pr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278136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618920" y="2997360"/>
            <a:ext cx="10810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5516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eneficios de una innovación para un monopol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03640" y="3573360"/>
            <a:ext cx="792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4941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Im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50133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man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43280" y="55008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3141720"/>
            <a:ext cx="7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19280" y="4653000"/>
            <a:ext cx="46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51640" y="429264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00360" y="3357720"/>
            <a:ext cx="35892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3357720"/>
            <a:ext cx="0" cy="208728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19280" y="3357720"/>
            <a:ext cx="1081080" cy="64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360" y="2997360"/>
            <a:ext cx="0" cy="24476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619280" y="3357720"/>
            <a:ext cx="144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19280" y="4005360"/>
            <a:ext cx="417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2133720"/>
            <a:ext cx="1873080" cy="331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2349360"/>
            <a:ext cx="144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 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19280" y="4005360"/>
            <a:ext cx="1081080" cy="647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08000" y="40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989-404C-4767-87F8-3462CF6F91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26920" y="134136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19280" y="3500280"/>
            <a:ext cx="1728720" cy="865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19280" y="3500280"/>
            <a:ext cx="3673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48000" y="3500280"/>
            <a:ext cx="0" cy="1873440"/>
          </a:xfrm>
          <a:prstGeom prst="line">
            <a:avLst/>
          </a:prstGeom>
          <a:ln w="1908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328464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9280" y="5445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eneficios de una innovación para una empresa en competencia a la Ber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56000" y="3141720"/>
            <a:ext cx="792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0364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4365720"/>
            <a:ext cx="4392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932360" y="393372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19640" y="2349360"/>
            <a:ext cx="144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 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08000" y="443700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ta del Innov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24720" y="566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6D0-6FD8-4818-9B4D-4AEFF05044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La razón de ser de la propiedad industri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recho de propie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novación. Crecimiento y bienestar general. Innovaciones generan más y mejores bienes a menores precios. Pero suponen inversión en I+D, riesgosa: se posibilita si el inversionista tiene expectativa de recuperarla con rentas sobrenormales, monopól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llow (1957), crecimiento EEUU se explica por mejoras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chumpeter (1943), los monopolios pueden innovar, porque recuperarán su inversión en I+D con rentas sobrenormales </a:t>
            </a:r>
            <a:r>
              <a:rPr b="0" lang="es-MX" sz="20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grá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n embargo, aún sin la exclusividad existen incentivos a innov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cance. Derecho a excluir y a explot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B416-8F5A-4B0A-80A9-03A291F81D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b7"/>
                </a:solidFill>
                <a:latin typeface="Arial Black"/>
              </a:rPr>
              <a:t>La razón de ser de la defensa de la competenci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007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erecho a emprender, derecho a competir, libertad de los ig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ienestar de los consumidores, eficiencia, </a:t>
            </a:r>
            <a:r>
              <a:rPr b="0" lang="es-MX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bienestar social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La libre competencia, sin fallas de mercado, genera eficiencia productiva y asignativa, y así bienestar soci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ero los individuos repudian los monopolios sólo hasta que se convierten en uno, y resulta que la competencia tiende al Highlander: La entrada a la cancha es libre y la lucha es por el dinero de los consumidores, libres para decidir a quién y cuánto entregar. Las armas legales son la innovación y la eficiencia, que permite ofrecer más y mejores bienes a menores precios. Los competidores luchan a muerte. Los sobrevivientes adquieren poder de mercado con cada victoria. Este poder puede usarse para crear armas ilegales, con las cuales impedir el ingreso de nuevos competidores, eliminar a los actuales e imponer bienes y precios. O sea, para anular la libertad de los otros agentes. Esta libertad es la que debe ser proteg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nce. Prohibición de excluir y de explotar en forma abusiv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811C-C7D4-4CF6-B0CD-DFC4FA8524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oder de Mercado y Derechos Industriale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onopolista tiene menos incentivos que una empresa en competencia para innovar. 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Compárese el valor de la innovación para uno y otro (</a:t>
            </a:r>
            <a:r>
              <a:rPr b="0" lang="es-MX" sz="24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Gráficos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onopolista tiene incentivos para impedir la innovación ajena, pues genera competencia y empuja a la baja el precio de equilib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onopolista tiene incentivos estratégicos para utilizar los derechos industriales con el fin de excluir competidores o imponer precios u otras condiciones abusivas. (monopolio amenazado por la entrada, Gilbert y Newbery 198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774-BA35-4799-83C5-1AD0692F2B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El Conflicto</a:t>
            </a:r>
            <a:br>
              <a:rPr sz="4400"/>
            </a:br>
            <a:r>
              <a:rPr b="1" lang="es-MX" sz="2800" spc="-1" strike="noStrike">
                <a:solidFill>
                  <a:srgbClr val="ffffb7"/>
                </a:solidFill>
                <a:latin typeface="Arial Black"/>
              </a:rPr>
              <a:t>Doctrinas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octrina de la inherencia. Son ilícitas las restricciones a la competencia que excedan del alcance del derecho de propiedad industr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octrina de la ausencia de conflicto. Los derechos de propiedad industrial excluyen absolutamente la aplicación de la ley de defensa de la competencia, como todo derecho de propie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regla de la razón. Las restricciones que impone el propietario industrial pueden ser eficientes y hasta procompeti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aplicación de las reglas sobre restricciones vertic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0B3-9D24-485F-AD52-B1F70BE6D2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El Conflicto</a:t>
            </a:r>
            <a:br>
              <a:rPr sz="4400"/>
            </a:br>
            <a:r>
              <a:rPr b="1" lang="es-MX" sz="2800" spc="-1" strike="noStrike">
                <a:solidFill>
                  <a:srgbClr val="ffffb7"/>
                </a:solidFill>
                <a:latin typeface="Arial Black"/>
              </a:rPr>
              <a:t>Solución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piedad industrial y monopolización. La propiedad industrial otorga exclusividad sobre un invento, procedimiento o signo, no sobre un mercado (aunque podrían coincidir, si es aquel es la única forma de producir un bien sin sustitutos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piedad industrial y derecho a emprender. La propiedad industrial permite impedir el emprendimiento en relación al objeto de tal propiedad, pero no más allá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piedad industrial y explotación. La propiedad industrial permite explotarla, pero no autoriza la explotación abusiv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flicto real: Sólo en lo que lo toca al derecho a excluir del objeto amparado por propiedad industrial. El conflicto se resuelve en favor de la propiedad industri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flicto aparente: Fuera de aquel ámbito, y aún dentro del mismo, en lo que toca a la explotación abusiva, no hay conflicto, la ley de propiedad industrial no es la aplicable, sino la ley de defensa de la competencia, que prohíbe la exclusión y la explotación abusiva. Así, podría infringir la ley de defensa de la competencia, la imposición, en un contrato de licencia, de contratar licencias de otros proveedores (exclusión), o la de contratar una licencia distinta de la requerida (venta atada)… pero la realidad es comple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5F6-C74A-4D7B-AD87-A0ABBB5D1E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rácticas Exclusori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onopolización de mercados adquiriendo propiedad industrial. Derechos industriales genéricos o sin uso. Carrera de patentes. Patentamiento Defensiv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 se materializan beneficios de invenciones. Demanda insatisfecha, pérdidas sociales. Agentes dispuestos a adquirir productos a precios de mercado no puedan hacerlo. Un caso dramático es el de los medicamentos, países pobres quedan privados de ell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Se obliga a competidores a emular innovación falsa, incrementando co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Litigios por amplitud de patentes retardan y encarecen la 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dquisición fraudulenta de propiedad industrial. Ejercicio del </a:t>
            </a:r>
            <a:r>
              <a:rPr b="0" i="1" lang="es-MX" sz="1600" spc="-1" strike="noStrike">
                <a:solidFill>
                  <a:srgbClr val="ffffff"/>
                </a:solidFill>
                <a:latin typeface="Arial"/>
              </a:rPr>
              <a:t>ius prohibendi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ntra otros propietarios legítimo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Juicios retardan y encarecen la 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Doctrina europea del agotamiento de los derech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Doctrina chilena sobre importaciones paralel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ntratos de licencia. Cláusulas que restringen competir o innovar, o contratar con competidor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as licencias son en general, deseables, porque posibilitan uso, difusión y socialización de la innovación (pago por ingeniería inversa o adopcion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Las restricciones son razonables, funcionales a la protección de los derechos industriales, pero no pueden ir más allá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Un criterio es no permitir más restricciones que las que derivarían de la explotación directa, sin licenci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618-84D2-40D8-AFF3-7E7056FA63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rácticas Abusiv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galías y otras contraprestaciones abusivas. Discrimin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Ventas atadas. Licencias at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mposición de pers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ambién se han cuestionado pagos posteriores a la licencias y retrocesiones de mejora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86A2-B9F8-4D93-A0D4-A5946D05D8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rácticas Coordinad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ransacciones sobre licencias, licencias cruzadas y colusiones exclusorias y abus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ransacciones sobre licencias, licencias cruzadas, pérdida de independencia de las empresas y concentr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317-2F79-4703-81A5-84D9DBA48F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9:19:04Z</dcterms:created>
  <dc:creator>Boris</dc:creator>
  <dc:description/>
  <dc:language>en-US</dc:language>
  <cp:lastModifiedBy>Claudio Magliona</cp:lastModifiedBy>
  <dcterms:modified xsi:type="dcterms:W3CDTF">2008-06-25T14:11:09Z</dcterms:modified>
  <cp:revision>52</cp:revision>
  <dc:subject/>
  <dc:title>Propiedad Industrial y Defensa de la Competencia</dc:title>
</cp:coreProperties>
</file>