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83E-656E-4AC2-A1D8-524CDE50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C72-27AF-463B-9D14-A5199ED0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046-F532-404C-A916-20580C8F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B7A-DB7C-4DD4-A26F-18ACDF0C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37D1-5EDA-4952-B388-6DDB51F1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41F6-3BBC-4708-AAE2-2A8B60B7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335B-EC1B-45CF-AFC7-4A789A9B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41F6-E562-45A1-953F-8B1D37DE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95C9-8E33-47FC-A740-CBEC5875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C956-DFA0-46C0-A27C-4834D41C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1D94-C523-44D4-A58F-DD970B1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E74-4C9C-4B3F-8E5D-8888DB19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99A3-804C-420A-A533-648EC512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E0A3-59DA-4C95-BF82-72B75BF8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81B9-FF99-42D0-B20E-609E6E7D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DDB3-DE2A-4ECE-9E70-3230896B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50E8-515D-491E-9787-82186403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874-2FC7-4867-B306-A059928A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0D8-114A-46CF-BE02-B6DA6584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36C-E513-4E2E-9F9F-E427450F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F40-A8B3-4571-9663-AD2FD735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93C-AAB5-45AA-BE49-4D3A43F7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A8B-F13D-4A20-8D65-4C8FEB8B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2C3-DC9D-4A11-983E-B09CD8FA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3509-500B-459A-83BF-D43EFD569D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600D-2272-404D-8CD1-7FA44E3D1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5146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PATENTES DE INVENC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5877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odrigo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2438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de paten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419112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cho exclusivo que concede 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sivo y excl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Fundamentos del Sistema de Paten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desarrollo tecnológi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tección del derecho de propiedad sobre obras del intel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traprestación divulgación v/s “monopoli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entivo al financiamiento de la I+D+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atente de Inven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exclusivo y excluy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recho limitado temporal y territori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producto, uso y proced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905120"/>
            <a:ext cx="79246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ólo son patentables los inventos nuevos, que tengan nivel inventivo (no obvios) y aplicación industrial (útiles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0"/>
            <a:ext cx="9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Requisitos de  patentabilidad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907920"/>
            <a:ext cx="716292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dad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ortancia del s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ura Inventiva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cación Industrial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896000" cy="3141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6000" y="6515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© R. Co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mer requisito: 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quisito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arácter mund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uevo es aquello que no esta en el “estado del ar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“estado del arte” lo constituye todo lo que haya sido puesto a disposición de público de cualquier man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</a:rPr>
              <a:t>Reinhold Burger (1904). Termo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210204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Nove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ortancia de la confidencialidad y del secr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cepciones a la noved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vulgación Inocua (Artículo 4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ioridad Union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Prioridad P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Divulgación Inoc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42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afectan la novedad ni el nivel inventivo las divulgaciones efectuadas dentro de los doce meses antes de solicitud, s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hecha, autorizada o derivada de solicitud del post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busos y prácticas desle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962520" cy="3449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Arial"/>
              </a:rPr>
              <a:t>Priori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tivo: No existe patente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venio de la Unión de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34 Ley 19.0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de un año contado desde fecha de primera solic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fa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zo “combinable” con P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Segundo requisito: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Nivel Inventivo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Su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obviedad, desde el punto de vista de un experto en la ma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Tercer requisito: </a:t>
            </a: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"/>
              </a:rPr>
              <a:t>Aplicación Industri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 “atávic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érmino “Industrial” en su sentido más amp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dice ninguna relación con éxito comercial de inv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1523880"/>
            <a:ext cx="76201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s tipos de exclusiones legales: aquellos que no son considerados invenciones y aquellos que, siéndolos, no son patentables por indicarlo la le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438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tículo 37: No se consideran invenció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2362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Los descubrimientos, las teorías científicas y los métodos matemát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25146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Las plantas y los animales, excepto los microorganismos que cumplan las condiciones generales de patentabilid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98108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) Sistemas, métodos, principios o planes económicos, financieros, comerciales de simple verificación y fiscalización; y los referidos a las actividades puramente mentales o intelectuales o a materias de juego.  (Business Metho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4400" y="17524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Métodos de tratamiento quirúrgico o terapéutico del cuerpo o animal, así como métodos de diagnóstico aplicados al cuerpo humano o animal, salvo los productos destinados a poner en práctica uno de estos méto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990720"/>
            <a:ext cx="7239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 Nuevo uso de artículos, objetos o elementos conocidos y empleados en determinados fines y el cambio de forma, dimensiones, proporciones y materiales del objeto solicitado, a no ser que el nuevo uso resuelva un problema técnico sin solución previa equival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3619800" cy="5029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99072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) Parte de los seres vivos tal como se encuentran en la naturaleza, los procesos biológicos naturales, el material biológico existente en la naturaleza o que pueda ser aisl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228600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ículo 38 : No son patentables: (es decir, son invent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267080" y="2743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F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95280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5335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o no legal de inv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29528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invento es un objeto, herramienta, dispositivo o procedimiento ideado por el ingenio humano para facilitar el trabajo o la vida cotidiana, y que no existía anteriormente; a diferencia del descubrimiento, que existía, pero no era conocido.  Los inventos surgen rara vez de forma inesperada.  Suelen ser el resultado de conjuntar otras tecnologías vigentes de una nueva y única manera.  Pueden llevarse a cabo como respuesta a una necesidad específica humana, o como resultado del deseo del inventor de hacer una operación de modo más rápido, más eficaz o más llevadero; o bien por casualidad.  Un invento puede ser el resultado de una labor individual, pero asimismo de una labor de equ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ncepto legal de invento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962520"/>
            <a:ext cx="7010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. 31: Toda solución a u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 tecnico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e quehacer indust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5335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s de invento: productos, procedimientos y u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6510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95480" y="4952880"/>
            <a:ext cx="3657600" cy="154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6019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66"/>
                </a:solidFill>
                <a:latin typeface="Arial"/>
              </a:rPr>
              <a:t>Otras protecciones análogas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Variedades Vege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Conocimientos Tradicionales, Recursos Genético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Métodos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20:09:56Z</dcterms:created>
  <dc:creator>Danyel Vega</dc:creator>
  <dc:description/>
  <dc:language>en-US</dc:language>
  <cp:lastModifiedBy>Claudio Magliona</cp:lastModifiedBy>
  <cp:lastPrinted>2005-04-06T14:57:25Z</cp:lastPrinted>
  <dcterms:modified xsi:type="dcterms:W3CDTF">2008-06-12T13:52:43Z</dcterms:modified>
  <cp:revision>16</cp:revision>
  <dc:subject/>
  <dc:title>Sin título de diapositiva</dc:title>
</cp:coreProperties>
</file>