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media/image8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CCE34-D9D5-49F5-B9F6-B32274590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D59E2-9A81-462E-AC6B-3952A82FC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6FD3C-5B6D-4839-9224-499F6C4DD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D8993-E94F-4B1B-831E-EF3CF8FF5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B5713-D843-4279-8DE1-AD64480FB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6B4B5-0403-4877-8CE6-536A75AA4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2E38E-444F-48BA-BFA4-9CE7A388A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BC4DB-322C-4A62-AF14-CFB300588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A9729-8092-4AB4-8620-E8C0E7653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32997-910A-4F0E-B162-7B3973ADB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7863E-B953-459F-A42A-437CE5AB3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379CF-9864-400D-9B40-CF5E677DC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C0DA2-B2EA-4372-AC35-C862742F1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2ECEC-0B3C-4DE2-8257-F6864968D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E3214-1052-4BDC-8E34-ED3FEB008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386F5-BA41-4F06-8176-E2C9099C0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DD6DD-BDE3-4628-BFD9-906140327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C48B9-5BAD-4505-B03A-ADE620C71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D9AE2-C5E9-4E3E-956B-9F9D71DF7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0744F-D081-4D1A-9DF4-049CB4D64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255CB-FD11-4E2A-B3E1-BA79AF9F5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9A1F9-9C6A-447C-B7FF-E6DF1B22E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7F17C-811D-4B4B-8B39-89E5BF4C0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8C968-8998-48D3-86C8-6D6787616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9F8AF-81E2-4708-8914-C0E4C0C26D7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5D19C-9321-40CE-A323-D9EDEDE98F1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143000" y="2514600"/>
            <a:ext cx="7238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9900"/>
                </a:solidFill>
                <a:latin typeface="Arial"/>
              </a:rPr>
              <a:t>PATENTES DE INVENCION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601992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500720" y="587700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© Rodrigo Coop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219320" y="2438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Concepto de patente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57200" y="601992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219320" y="2438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Concepto de patente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209680" y="4191120"/>
            <a:ext cx="48769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recho exclusivo que concede el Est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clusivo y excluyen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601992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42920" y="76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66"/>
                </a:solidFill>
                <a:latin typeface="Arial"/>
              </a:rPr>
              <a:t>Fundamentos del Sistema de Patente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42920" y="2492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Incentivo al desarrollo tecnológico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Protección del derecho de propiedad sobre obras del intelect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Contraprestación divulgación v/s “monopolio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Incentivo al financiamiento de la I+D+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66"/>
                </a:solidFill>
                <a:latin typeface="Arial"/>
              </a:rPr>
              <a:t>Patente de Invenció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Derecho exclusivo y excluyen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Derecho limitado temporal y territorialmen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De producto, uso y procedimient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685800" y="1905120"/>
            <a:ext cx="7924680" cy="34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ólo son patentables los inventos nuevos, que tengan nivel inventivo (no obvios) y aplicación industrial (útiles)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57200" y="601992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95280" y="0"/>
            <a:ext cx="9601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Arial"/>
              </a:rPr>
              <a:t>Requisitos de  patentabilidad: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42920" y="907920"/>
            <a:ext cx="716292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vedad (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mportancia del secret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tura Inventiva (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plicación Industrial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57200" y="601992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124000" y="3357720"/>
            <a:ext cx="4896000" cy="314136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7236000" y="6515280"/>
            <a:ext cx="19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© R. Coop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66"/>
                </a:solidFill>
                <a:latin typeface="Arial"/>
              </a:rPr>
              <a:t>Primer requisito: Noveda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0429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Requisito objetiv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De carácter mundi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Nuevo es aquello que no esta en el “estado del arte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l “estado del arte” lo constituye todo lo que haya sido puesto a disposición de público de cualquier maner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42920" y="544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cc66"/>
                </a:solidFill>
                <a:latin typeface="Arial"/>
              </a:rPr>
              <a:t>Reinhold Burger (1904). Termo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35280" y="692280"/>
            <a:ext cx="2102040" cy="46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66"/>
                </a:solidFill>
                <a:latin typeface="Arial"/>
              </a:rPr>
              <a:t>Noveda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42920" y="2276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Importancia de la confidencialidad y del secret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Excepciones a la novedad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Divulgación Inocua (Artículo 42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Prioridad Unionis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(Prioridad PC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66"/>
                </a:solidFill>
                <a:latin typeface="Arial"/>
              </a:rPr>
              <a:t>Divulgación Inocua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042920" y="206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Artículo 42.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No afectan la novedad ni el nivel inventivo las divulgaciones efectuadas dentro de los doce meses antes de solicitud, si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Fue hecha, autorizada o derivada de solicitud del postulan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Abusos y prácticas deslea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514600" y="1523880"/>
            <a:ext cx="3962520" cy="344988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457200" y="601992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66"/>
                </a:solidFill>
                <a:latin typeface="Arial"/>
              </a:rPr>
              <a:t>Priorida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Motivo: No existe patente mundi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Convenio de la Unión de Par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Artículo 34 Ley 19.03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Plazo de un año contado desde fecha de primera solicitu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Plazo fat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Plazo “combinable” con P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66"/>
                </a:solidFill>
                <a:latin typeface="Arial"/>
              </a:rPr>
              <a:t>Segundo requisito:</a:t>
            </a:r>
            <a:br>
              <a:rPr sz="4000"/>
            </a:br>
            <a:r>
              <a:rPr b="1" lang="es-ES" sz="4000" spc="-1" strike="noStrike">
                <a:solidFill>
                  <a:srgbClr val="ffff66"/>
                </a:solidFill>
                <a:latin typeface="Arial"/>
              </a:rPr>
              <a:t>Nivel Inventivo</a:t>
            </a:r>
            <a:r>
              <a:rPr b="0" lang="es-ES" sz="40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71640" y="2349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Requisito Subjetiv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No obviedad, desde el punto de vista de un experto en la ma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66"/>
                </a:solidFill>
                <a:latin typeface="Arial"/>
              </a:rPr>
              <a:t>Tercer requisito: </a:t>
            </a:r>
            <a:br>
              <a:rPr sz="4000"/>
            </a:br>
            <a:r>
              <a:rPr b="1" lang="es-ES" sz="4000" spc="-1" strike="noStrike">
                <a:solidFill>
                  <a:srgbClr val="ffff66"/>
                </a:solidFill>
                <a:latin typeface="Arial"/>
              </a:rPr>
              <a:t>Aplicación Industrial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00000" y="2276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Requisito “atávico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Término “Industrial” en su sentido más ampli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No dice ninguna relación con éxito comercial de invent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838080" y="1523880"/>
            <a:ext cx="7620120" cy="40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os tipos de exclusiones legales: aquellos que no son considerados invenciones y aquellos que, siéndolos, no son patentables por indicarlo la ley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57200" y="601992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685800" y="2438280"/>
            <a:ext cx="8077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Artículo 37: No se consideran invención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57200" y="601992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609480" y="2362320"/>
            <a:ext cx="792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) Los descubrimientos, las teorías científicas y los métodos matemático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57200" y="601992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685800" y="2514600"/>
            <a:ext cx="7772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) Las plantas y los animales, excepto los microorganismos que cumplan las condiciones generales de patentabilidad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601992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762120" y="1981080"/>
            <a:ext cx="7696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c) Sistemas, métodos, principios o planes económicos, financieros, comerciales de simple verificación y fiscalización; y los referidos a las actividades puramente mentales o intelectuales o a materias de juego.  (Business Method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57200" y="601992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914400" y="1752480"/>
            <a:ext cx="75438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) Métodos de tratamiento quirúrgico o terapéutico del cuerpo o animal, así como métodos de diagnóstico aplicados al cuerpo humano o animal, salvo los productos destinados a poner en práctica uno de estos método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57200" y="601992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066680" y="990720"/>
            <a:ext cx="72392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) Nuevo uso de artículos, objetos o elementos conocidos y empleados en determinados fines y el cambio de forma, dimensiones, proporciones y materiales del objeto solicitado, a no ser que el nuevo uso resuelva un problema técnico sin solución previa equivalent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57200" y="601992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666880" y="838080"/>
            <a:ext cx="3619800" cy="50292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457200" y="601992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066680" y="990720"/>
            <a:ext cx="72392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) Parte de los seres vivos tal como se encuentran en la naturaleza, los procesos biológicos naturales, el material biológico existente en la naturaleza o que pueda ser aislad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57200" y="601992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447920" y="2286000"/>
            <a:ext cx="72388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rtículo 38 : No son patentables: (es decir, son inventos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57200" y="601992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267080" y="274320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Arial"/>
              </a:rPr>
              <a:t>FI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743200" y="990720"/>
            <a:ext cx="3952800" cy="510516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457200" y="601992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380880" y="53352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cepto no legal de inven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0880" y="1295280"/>
            <a:ext cx="82296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 invento es un objeto, herramienta, dispositivo o procedimiento ideado por el ingenio humano para facilitar el trabajo o la vida cotidiana, y que no existía anteriormente; a diferencia del descubrimiento, que existía, pero no era conocido.  Los inventos surgen rara vez de forma inesperada.  Suelen ser el resultado de conjuntar otras tecnologías vigentes de una nueva y única manera.  Pueden llevarse a cabo como respuesta a una necesidad específica humana, o como resultado del deseo del inventor de hacer una operación de modo más rápido, más eficaz o más llevadero; o bien por casualidad.  Un invento puede ser el resultado de una labor individual, pero asimismo de una labor de equip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533520" y="251460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Concepto legal de invento: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601992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533520" y="251460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Concepto legal de invento: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19320" y="3962520"/>
            <a:ext cx="70102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t. 31: Toda solución a u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blema tecnico qu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rigine quehacer industria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7200" y="601992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914400" y="533520"/>
            <a:ext cx="7467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ipos de invento: productos, procedimientos y us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295280" y="1905120"/>
            <a:ext cx="2971800" cy="27432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5105520" y="1905120"/>
            <a:ext cx="2651040" cy="27432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2895480" y="4952880"/>
            <a:ext cx="3657600" cy="15400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457200" y="601992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ffcc66"/>
                </a:solidFill>
                <a:latin typeface="Arial"/>
              </a:rPr>
              <a:t>Otras protecciones análogas</a:t>
            </a:r>
            <a:br>
              <a:rPr sz="4800"/>
            </a:br>
            <a:endParaRPr b="0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8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Arial"/>
              </a:rPr>
              <a:t>Variedades Vegetales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, Conocimientos Tradicionales, Recursos Genéticos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¿Métodos de negocio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2T20:09:56Z</dcterms:created>
  <dc:creator>Danyel Vega</dc:creator>
  <dc:description/>
  <dc:language>en-US</dc:language>
  <cp:lastModifiedBy>Claudio Magliona</cp:lastModifiedBy>
  <cp:lastPrinted>2005-04-06T14:57:25Z</cp:lastPrinted>
  <dcterms:modified xsi:type="dcterms:W3CDTF">2008-06-12T13:52:43Z</dcterms:modified>
  <cp:revision>16</cp:revision>
  <dc:subject/>
  <dc:title>Sin título de diapositiva</dc:title>
</cp:coreProperties>
</file>