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64C-9C88-4F9B-A801-07A82498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0E2-D3F2-4AA6-B5F1-48DED63F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E90-A9E8-48B6-BCA2-F46AB825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DB1-22D3-45A4-87EA-F969D0F2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3F0C-B87B-46FA-BBE5-A970015A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85B-9A80-401E-A1D5-BC0280D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E32E-1C51-4B01-8028-A69EC29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CA55-2779-4F58-BF6E-10878A2C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156E-29FE-4402-A196-E8DE223F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018A-2046-4043-96B9-5868658D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C124-0E4C-4943-B8D4-1DBC7B89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C7B-E6F2-4526-998C-FF5373F0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2072-3AE7-4765-9EDD-CD3F422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40C2-67FE-406A-8132-3060E3D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1923-9BB9-4FEE-93A0-D82B0F05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9DBF-AB82-4FDE-AD08-13B1C385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4697-53D9-4D7A-954B-B7F95921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D3F-5E00-4D02-9C91-918D02D2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009-22A2-414A-9FC3-54D40FED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534-644E-4944-8614-E242A99A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419-41DD-4ABF-B458-99F8DDEF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8AA-8140-416E-935D-B8305CE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550-4B39-4E76-9421-986E2B0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250-CE28-43CC-A1D4-36AC3C1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996-2EBB-4052-BF0E-F19B41FFD9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30EF-7081-4319-999E-E5EF7ABC8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5146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PATENTES DE INVENC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587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odrigo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19112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cho exclusivo que concede 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sivo y excl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Fundamentos del Sistema de Paten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desarrollo tecnológ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cción del derecho de propiedad sobre obras del intel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raprestación divulgación v/s “monopoli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financiamiento de la I+D+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atente de Inven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exclusivo y excluy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limitado temporal y territori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producto, uso y proced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05120"/>
            <a:ext cx="7924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ólo son patentables los inventos nuevos, que tengan nivel inventivo (no obvios) y aplicación industrial (útiles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0"/>
            <a:ext cx="9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Requisitos de  patentabilidad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07920"/>
            <a:ext cx="716292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dad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ortancia del s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ura Inventiva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cación Industria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896000" cy="31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6000" y="6515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.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mer requisito: 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quisit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arácter mun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evo es aquello que no esta en el “estado del ar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“estado del arte” lo constituye todo lo que haya sido puesto a disposición de público de cualquier ma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Reinhold Burger (1904). Termo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21020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ortancia de la confidencialidad y del sec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cepciones a la nove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ulgación Inocua (Artículo 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ioridad Unio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rioridad P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Divulgación Inoc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42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afectan la novedad ni el nivel inventivo las divulgaciones efectuadas dentro de los doce meses antes de solicitud, s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hecha, autorizada o derivada de solicitud del post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busos y prácticas desle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962520" cy="344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or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tivo: No existe patente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venio de la Unión de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34 Ley 19.0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de un año contado desde fecha de primera solic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fa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“combinable” con P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Segundo requisito: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Nivel Inventivo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Su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obviedad, desde el punto de vista de un experto en la ma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Tercer requisito: 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Aplicación Industri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“atávic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rmino “Industrial” en su sentido más amp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dice ninguna relación con éxito comercial de inv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1523880"/>
            <a:ext cx="76201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s tipos de exclusiones legales: aquellos que no son considerados invenciones y aquellos que, siéndolos, no son patentables por indicarlo la le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438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tículo 37: No se consideran inven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2362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Los descubrimientos, las teorías científicas y los métodos matemát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2514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Las plantas y los animales, excepto los microorganismos que cumplan las condiciones generales de patentabil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9810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) Sistemas, métodos, principios o planes económicos, financieros, comerciales de simple verificación y fiscalización; y los referidos a las actividades puramente mentales o intelectuales o a materias de juego.  (Business Metho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17524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étodos de tratamiento quirúrgico o terapéutico del cuerpo o animal, así como métodos de diagnóstico aplicados al cuerpo humano o animal, salvo los productos destinados a poner en práctica uno de estos méto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990720"/>
            <a:ext cx="7239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Nuevo uso de artículos, objetos o elementos conocidos y empleados en determinados fines y el cambio de forma, dimensiones, proporciones y materiales del objeto solicitado, a no ser que el nuevo uso resuelva un problema técnico sin solución previa equival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36198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9907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) Parte de los seres vivos tal como se encuentran en la naturaleza, los procesos biológicos naturales, el material biológico existente en la naturaleza o que pueda ser aisl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228600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ículo 38 : No son patentables: (es decir, son invent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67080" y="2743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95280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533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o no legal de in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952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invento es un objeto, herramienta, dispositivo o procedimiento ideado por el ingenio humano para facilitar el trabajo o la vida cotidiana, y que no existía anteriormente; a diferencia del descubrimiento, que existía, pero no era conocido.  Los inventos surgen rara vez de forma inesperada.  Suelen ser el resultado de conjuntar otras tecnologías vigentes de una nueva y única manera.  Pueden llevarse a cabo como respuesta a una necesidad específica humana, o como resultado del deseo del inventor de hacer una operación de modo más rápido, más eficaz o más llevadero; o bien por casualidad.  Un invento puede ser el resultado de una labor individual, pero asimismo de una labor de equ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9625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. 31: Toda solución a 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 tecnico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e quehacer indus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invento: productos, procedimientos y u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6510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95480" y="4952880"/>
            <a:ext cx="3657600" cy="154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66"/>
                </a:solidFill>
                <a:latin typeface="Arial"/>
              </a:rPr>
              <a:t>Otras protecciones análogas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Variedades Vege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Conocimientos Tradicionales, Recursos Genétic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Métodos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0:09:56Z</dcterms:created>
  <dc:creator>Danyel Vega</dc:creator>
  <dc:description/>
  <dc:language>en-US</dc:language>
  <cp:lastModifiedBy>Claudio Magliona</cp:lastModifiedBy>
  <cp:lastPrinted>2005-04-06T14:57:25Z</cp:lastPrinted>
  <dcterms:modified xsi:type="dcterms:W3CDTF">2008-06-12T13:52:43Z</dcterms:modified>
  <cp:revision>16</cp:revision>
  <dc:subject/>
  <dc:title>Sin título de diapositiva</dc:title>
</cp:coreProperties>
</file>