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15C-F05D-41F7-A281-38D1083B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A1C-0593-4487-9A17-399A8034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27F-F14C-4C78-AAD1-DF71EEF8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6EF-F1E2-4A75-AA09-CA551C6F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D459-21E1-4DBA-9948-6B6F16CC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812D-15FE-42E2-813F-F8AE5866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9AF9-F731-4093-97FE-038FAA1B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07FD-B668-497B-862A-23F12CA8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B895-B341-490C-BB57-2386E987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9F36-B9DE-4FFA-9CBA-28A7C2FE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C70C-36A7-49C7-8A75-26D63ED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463-EAE5-4DE4-B910-E78F9C2A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5CA5-1540-43C0-989C-1D04451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1C83-B865-4B85-8F7D-524C583F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E848-2F78-4911-814A-61EEF368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D929-1A65-4A50-A3CC-324425EA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7C92-CCCC-4B61-AD37-B7C74A87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996-98AE-4AC1-82B2-92C238C7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68A-119F-4074-8008-CC6DCC9C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48F-FACF-4E34-B0B9-7C7CBB6E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DBF-D458-4D68-9EF8-7096B21F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D8D-574E-40D0-AAA3-C14FF3AD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ABB-7988-42BD-A198-FDC1CE4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8E5-9A3A-46A9-82F3-3C1CCA4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ECB9-5C56-49BE-B27C-055EEB7D90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B2EB-5491-4075-8E87-761551841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5146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PATENTES DE INVENC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5877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odrigo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19112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cho exclusivo que concede 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sivo y excl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Fundamentos del Sistema de Paten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desarrollo tecnológi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tección del derecho de propiedad sobre obras del intel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traprestación divulgación v/s “monopoli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financiamiento de la I+D+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atente de Inven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exclusivo y excluy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limitado temporal y territori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producto, uso y proced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05120"/>
            <a:ext cx="79246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ólo son patentables los inventos nuevos, que tengan nivel inventivo (no obvios) y aplicación industrial (útiles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0"/>
            <a:ext cx="9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Requisitos de  patentabilidad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907920"/>
            <a:ext cx="716292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dad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ortancia del s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ura Inventiva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cación Industrial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896000" cy="3141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6000" y="6515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.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mer requisito: 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quisito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arácter mun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uevo es aquello que no esta en el “estado del ar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“estado del arte” lo constituye todo lo que haya sido puesto a disposición de público de cualquier man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</a:rPr>
              <a:t>Reinhold Burger (1904). Termo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210204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ortancia de la confidencialidad y del sec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cepciones a la noved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vulgación Inocua (Artículo 4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ioridad Union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Prioridad P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Divulgación Inoc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42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afectan la novedad ni el nivel inventivo las divulgaciones efectuadas dentro de los doce meses antes de solicitud, s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hecha, autorizada o derivada de solicitud del post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busos y prácticas desle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962520" cy="3449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or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tivo: No existe patente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venio de la Unión de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34 Ley 19.0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de un año contado desde fecha de primera solic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fa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“combinable” con P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Segundo requisito: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Nivel Inventivo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Su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obviedad, desde el punto de vista de un experto en la ma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Tercer requisito: 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Aplicación Industri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“atávic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érmino “Industrial” en su sentido más amp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dice ninguna relación con éxito comercial de inv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1523880"/>
            <a:ext cx="76201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s tipos de exclusiones legales: aquellos que no son considerados invenciones y aquellos que, siéndolos, no son patentables por indicarlo la le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438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tículo 37: No se consideran invenció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2362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Los descubrimientos, las teorías científicas y los métodos matemát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2514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Las plantas y los animales, excepto los microorganismos que cumplan las condiciones generales de patentabilid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9810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) Sistemas, métodos, principios o planes económicos, financieros, comerciales de simple verificación y fiscalización; y los referidos a las actividades puramente mentales o intelectuales o a materias de juego.  (Business Metho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4400" y="17524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Métodos de tratamiento quirúrgico o terapéutico del cuerpo o animal, así como métodos de diagnóstico aplicados al cuerpo humano o animal, salvo los productos destinados a poner en práctica uno de estos méto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990720"/>
            <a:ext cx="7239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Nuevo uso de artículos, objetos o elementos conocidos y empleados en determinados fines y el cambio de forma, dimensiones, proporciones y materiales del objeto solicitado, a no ser que el nuevo uso resuelva un problema técnico sin solución previa equival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3619800" cy="5029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9907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) Parte de los seres vivos tal como se encuentran en la naturaleza, los procesos biológicos naturales, el material biológico existente en la naturaleza o que pueda ser aisl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228600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ículo 38 : No son patentables: (es decir, son invent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67080" y="2743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95280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5335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o no legal de inv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2952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invento es un objeto, herramienta, dispositivo o procedimiento ideado por el ingenio humano para facilitar el trabajo o la vida cotidiana, y que no existía anteriormente; a diferencia del descubrimiento, que existía, pero no era conocido.  Los inventos surgen rara vez de forma inesperada.  Suelen ser el resultado de conjuntar otras tecnologías vigentes de una nueva y única manera.  Pueden llevarse a cabo como respuesta a una necesidad específica humana, o como resultado del deseo del inventor de hacer una operación de modo más rápido, más eficaz o más llevadero; o bien por casualidad.  Un invento puede ser el resultado de una labor individual, pero asimismo de una labor de equ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96252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. 31: Toda solución a u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 tecnico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e quehacer indust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s de invento: productos, procedimientos y u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6510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95480" y="4952880"/>
            <a:ext cx="3657600" cy="154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66"/>
                </a:solidFill>
                <a:latin typeface="Arial"/>
              </a:rPr>
              <a:t>Otras protecciones análogas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Variedades Vege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Conocimientos Tradicionales, Recursos Genético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Métodos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0:09:56Z</dcterms:created>
  <dc:creator>Danyel Vega</dc:creator>
  <dc:description/>
  <dc:language>en-US</dc:language>
  <cp:lastModifiedBy>Claudio Magliona</cp:lastModifiedBy>
  <cp:lastPrinted>2005-04-06T14:57:25Z</cp:lastPrinted>
  <dcterms:modified xsi:type="dcterms:W3CDTF">2008-06-12T13:52:43Z</dcterms:modified>
  <cp:revision>16</cp:revision>
  <dc:subject/>
  <dc:title>Sin título de diapositiva</dc:title>
</cp:coreProperties>
</file>