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6D35-83FC-428D-A3A4-D1C613C5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FE50-6515-4134-B666-0F8E186B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4B82-ACA1-4C42-9D21-0EC08AF6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CB1C-19A5-47B8-813C-BBB20875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6811-68A2-4FAB-BA2E-14256E74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D042-C4AC-4881-B9D8-2A4DB974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BAC8-6C33-4984-A96C-D938B1B8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1CE8-37EA-4F9C-B51A-4D5D2ED8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920C-9A0C-4A47-AD17-6BD42B29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9FB1-7232-4636-A0D4-4A1924E4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492F-DD0A-4910-85C7-851A21AB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5415-911C-4FF4-AA92-230264B4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F580-3BB2-4334-B3CC-D676C2E9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2E1A-682B-4396-A700-C55087B0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8547-0EEA-4598-8FD2-7D8B513B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7B6F-6232-4E95-818C-0613440F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8316-D900-4D27-8DE2-EB9542BA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3958-FAFE-40D6-809B-ACEA5AE3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B9E9-1220-4154-B871-C6A0807C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8D7C-F42C-4F30-9F3E-D2DC20F4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8F36-BA1A-4B71-B032-70208B23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424F-3157-46B4-8A5B-7FAFFBD7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E6EF-FEAB-4F5C-80B3-5124EB6B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5270-3318-4EA5-9F22-1DEE24C8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46FA-CC67-41D9-B54B-6A0F8FA903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C88D-99E4-4B45-B5FB-5FC1B6FB3A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251460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Arial"/>
              </a:rPr>
              <a:t>PATENTES DE INVENCIO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00720" y="5877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© Rodrigo Coo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19320" y="2438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ncepto de patent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19320" y="2438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ncepto de patent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4191120"/>
            <a:ext cx="4876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echo exclusivo que concede e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lusivo y excluy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66"/>
                </a:solidFill>
                <a:latin typeface="Arial"/>
              </a:rPr>
              <a:t>Fundamentos del Sistema de Patent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92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centivo al desarrollo tecnológic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tección del derecho de propiedad sobre obras del intelec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traprestación divulgación v/s “monopoli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centivo al financiamiento de la I+D+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Arial"/>
              </a:rPr>
              <a:t>Patente de Inven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recho exclusivo y excluy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recho limitado temporal y territorial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 producto, uso y procedi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905120"/>
            <a:ext cx="79246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ólo son patentables los inventos nuevos, que tengan nivel inventivo (no obvios) y aplicación industrial (útiles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95280" y="0"/>
            <a:ext cx="960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Requisitos de  patentabilidad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907920"/>
            <a:ext cx="716292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edad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mportancia del secr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ura Inventiva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licación Industrial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24000" y="3357720"/>
            <a:ext cx="4896000" cy="3141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6000" y="651528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© R. Coo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Arial"/>
              </a:rPr>
              <a:t>Primer requisito: Noved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quisito obje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carácter mund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uevo es aquello que no esta en el “estado del art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“estado del arte” lo constituye todo lo que haya sido puesto a disposición de público de cualquier man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920" y="544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</a:rPr>
              <a:t>Reinhold Burger (1904). Termo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35280" y="692280"/>
            <a:ext cx="2102040" cy="46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Arial"/>
              </a:rPr>
              <a:t>Noved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mportancia de la confidencialidad y del secre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cepciones a la noved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vulgación Inocua (Artículo 4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ioridad Union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(Prioridad PC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Arial"/>
              </a:rPr>
              <a:t>Divulgación Inocu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rtículo 42.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o afectan la novedad ni el nivel inventivo las divulgaciones efectuadas dentro de los doce meses antes de solicitud, si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ue hecha, autorizada o derivada de solicitud del post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busos y prácticas desle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3962520" cy="3449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Arial"/>
              </a:rPr>
              <a:t>Priorid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otivo: No existe patente mund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venio de la Unión de Pa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rtículo 34 Ley 19.0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lazo de un año contado desde fecha de primera solicit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lazo fa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lazo “combinable” con P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66"/>
                </a:solidFill>
                <a:latin typeface="Arial"/>
              </a:rPr>
              <a:t>Segundo requisito:</a:t>
            </a:r>
            <a:br>
              <a:rPr sz="4000"/>
            </a:br>
            <a:r>
              <a:rPr b="1" lang="es-ES" sz="4000" spc="-1" strike="noStrike">
                <a:solidFill>
                  <a:srgbClr val="ffff66"/>
                </a:solidFill>
                <a:latin typeface="Arial"/>
              </a:rPr>
              <a:t>Nivel Inventivo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quisito Subje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o obviedad, desde el punto de vista de un experto en la ma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66"/>
                </a:solidFill>
                <a:latin typeface="Arial"/>
              </a:rPr>
              <a:t>Tercer requisito: </a:t>
            </a:r>
            <a:br>
              <a:rPr sz="4000"/>
            </a:br>
            <a:r>
              <a:rPr b="1" lang="es-ES" sz="4000" spc="-1" strike="noStrike">
                <a:solidFill>
                  <a:srgbClr val="ffff66"/>
                </a:solidFill>
                <a:latin typeface="Arial"/>
              </a:rPr>
              <a:t>Aplicación Industria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000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quisito “atávic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érmino “Industrial” en su sentido más ampl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o dice ninguna relación con éxito comercial de inv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38080" y="1523880"/>
            <a:ext cx="762012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s tipos de exclusiones legales: aquellos que no son considerados invenciones y aquellos que, siéndolos, no son patentables por indicarlo la le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24382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rtículo 37: No se consideran invenció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23623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Los descubrimientos, las teorías científicas y los métodos matemátic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25146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Las plantas y los animales, excepto los microorganismos que cumplan las condiciones generales de patentabilid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62120" y="1981080"/>
            <a:ext cx="7696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) Sistemas, métodos, principios o planes económicos, financieros, comerciales de simple verificación y fiscalización; y los referidos a las actividades puramente mentales o intelectuales o a materias de juego.  (Business Method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14400" y="1752480"/>
            <a:ext cx="754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Métodos de tratamiento quirúrgico o terapéutico del cuerpo o animal, así como métodos de diagnóstico aplicados al cuerpo humano o animal, salvo los productos destinados a poner en práctica uno de estos méto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66680" y="990720"/>
            <a:ext cx="7239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) Nuevo uso de artículos, objetos o elementos conocidos y empleados en determinados fines y el cambio de forma, dimensiones, proporciones y materiales del objeto solicitado, a no ser que el nuevo uso resuelva un problema técnico sin solución previa equival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3619800" cy="5029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66680" y="990720"/>
            <a:ext cx="7239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) Parte de los seres vivos tal como se encuentran en la naturaleza, los procesos biológicos naturales, el material biológico existente en la naturaleza o que pueda ser aisl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2286000"/>
            <a:ext cx="7238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tículo 38 : No son patentables: (es decir, son inventos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267080" y="2743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F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3952800" cy="5105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5335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o no legal de inv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295280"/>
            <a:ext cx="822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 invento es un objeto, herramienta, dispositivo o procedimiento ideado por el ingenio humano para facilitar el trabajo o la vida cotidiana, y que no existía anteriormente; a diferencia del descubrimiento, que existía, pero no era conocido.  Los inventos surgen rara vez de forma inesperada.  Suelen ser el resultado de conjuntar otras tecnologías vigentes de una nueva y única manera.  Pueden llevarse a cabo como respuesta a una necesidad específica humana, o como resultado del deseo del inventor de hacer una operación de modo más rápido, más eficaz o más llevadero; o bien por casualidad.  Un invento puede ser el resultado de una labor individual, pero asimismo de una labor de equip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2514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ncepto legal de invento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2514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ncepto legal de invento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3962520"/>
            <a:ext cx="7010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. 31: Toda solución a u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 tecnico 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igine quehacer industr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5335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pos de invento: productos, procedimientos y u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2971800" cy="2743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2651040" cy="2743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895480" y="4952880"/>
            <a:ext cx="3657600" cy="1540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cc66"/>
                </a:solidFill>
                <a:latin typeface="Arial"/>
              </a:rPr>
              <a:t>Otras protecciones análogas</a:t>
            </a:r>
            <a:br>
              <a:rPr sz="4800"/>
            </a:b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Variedades Vegetal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Conocimientos Tradicionales, Recursos Genético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Métodos de negoci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20:09:56Z</dcterms:created>
  <dc:creator>Danyel Vega</dc:creator>
  <dc:description/>
  <dc:language>en-US</dc:language>
  <cp:lastModifiedBy>Claudio Magliona</cp:lastModifiedBy>
  <cp:lastPrinted>2005-04-06T14:57:25Z</cp:lastPrinted>
  <dcterms:modified xsi:type="dcterms:W3CDTF">2008-06-12T13:52:43Z</dcterms:modified>
  <cp:revision>16</cp:revision>
  <dc:subject/>
  <dc:title>Sin título de diapositiva</dc:title>
</cp:coreProperties>
</file>