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269-DFEF-4AFE-BBD5-F31276E6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9B6-CE86-4335-8F60-976BBCB0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BDE-A5E5-4EE1-84BD-97360FF9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A03-698E-40D1-A7ED-A63F0B08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AE6-94EE-4566-9365-28E57C8D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6BD-98C5-42A2-A03B-3CAB3AA2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9C1-0143-4774-9B37-8FB33997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BA3-98B8-4207-A872-964594EE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769-9B2B-48D5-B408-D47248EF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1FF-CA24-4C1E-A423-52ED4DD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0DF-519A-4E45-BA7B-FFC98FB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EFE-BB33-4BFE-8C33-B17FA4F0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BF79-4889-42B0-A0DA-D50B2DA6B72B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Arial Unicode MS"/>
              </a:rPr>
              <a:t>Curso 1</a:t>
            </a:r>
            <a:br>
              <a:rPr sz="3600"/>
            </a:br>
            <a:r>
              <a:rPr b="1" lang="es-ES" sz="3600" spc="-1" strike="noStrike">
                <a:solidFill>
                  <a:srgbClr val="cc3300"/>
                </a:solidFill>
                <a:latin typeface="Arial Unicode MS"/>
              </a:rPr>
              <a:t>Derechos fundamentales y 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Unicode MS"/>
              </a:rPr>
              <a:t>Lorena Donoso Aba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"/>
              </a:rPr>
              <a:t>Clase 2, 07 de abril d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86040" y="115920"/>
            <a:ext cx="62150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3300"/>
                </a:solidFill>
                <a:latin typeface="Abadi MT Condensed Light"/>
              </a:rPr>
              <a:t>Tratado por el que se establece una Constitución para Europa (13.10.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2960" y="1999800"/>
            <a:ext cx="7918560" cy="425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ARTÍCULO I-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Protección de datos de carácter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1. Toda persona tiene derecho a la protección de los datos de carácter personal que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conciern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2. La ley o ley marco europea establecerá la s normas sobre protección de las personas físicas respecto del tratamiento de datos de carácter personal por las instituciones, órganos y organismos de la Unión, así como por los Estados miembros en el ejercicio de las actividades comprendidas en el ámbito de aplicación del Derecho de la Unión, y sobre la libre circulación de estos datos. El respeto de dichas normas estará sometido al control de autoridades independ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2786040" y="214200"/>
            <a:ext cx="5916600" cy="4015080"/>
          </a:xfrm>
          <a:custGeom>
            <a:avLst/>
            <a:gdLst>
              <a:gd name="textAreaLeft" fmla="*/ 1424880 w 5916600"/>
              <a:gd name="textAreaRight" fmla="*/ 4491720 w 5916600"/>
              <a:gd name="textAreaTop" fmla="*/ 966960 h 4015080"/>
              <a:gd name="textAreaBottom" fmla="*/ 3048120 h 401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28" y="12311"/>
                </a:lnTo>
                <a:lnTo>
                  <a:pt x="786" y="14846"/>
                </a:lnTo>
                <a:lnTo>
                  <a:pt x="4160" y="15112"/>
                </a:lnTo>
                <a:lnTo>
                  <a:pt x="3163" y="18437"/>
                </a:lnTo>
                <a:lnTo>
                  <a:pt x="6373" y="17363"/>
                </a:lnTo>
                <a:lnTo>
                  <a:pt x="6580" y="20741"/>
                </a:lnTo>
                <a:lnTo>
                  <a:pt x="9154" y="18544"/>
                </a:lnTo>
                <a:lnTo>
                  <a:pt x="10800" y="21600"/>
                </a:lnTo>
                <a:lnTo>
                  <a:pt x="12311" y="18572"/>
                </a:lnTo>
                <a:lnTo>
                  <a:pt x="14846" y="20814"/>
                </a:lnTo>
                <a:lnTo>
                  <a:pt x="15112" y="17440"/>
                </a:lnTo>
                <a:lnTo>
                  <a:pt x="18437" y="18437"/>
                </a:lnTo>
                <a:lnTo>
                  <a:pt x="17363" y="15227"/>
                </a:lnTo>
                <a:lnTo>
                  <a:pt x="20741" y="15020"/>
                </a:lnTo>
                <a:lnTo>
                  <a:pt x="18544" y="12446"/>
                </a:lnTo>
                <a:lnTo>
                  <a:pt x="21600" y="10800"/>
                </a:lnTo>
                <a:lnTo>
                  <a:pt x="18572" y="9289"/>
                </a:lnTo>
                <a:lnTo>
                  <a:pt x="20814" y="6754"/>
                </a:lnTo>
                <a:lnTo>
                  <a:pt x="17440" y="6488"/>
                </a:lnTo>
                <a:lnTo>
                  <a:pt x="18437" y="3163"/>
                </a:lnTo>
                <a:lnTo>
                  <a:pt x="15227" y="4237"/>
                </a:lnTo>
                <a:lnTo>
                  <a:pt x="15020" y="859"/>
                </a:lnTo>
                <a:lnTo>
                  <a:pt x="12446" y="3056"/>
                </a:lnTo>
                <a:lnTo>
                  <a:pt x="10800" y="0"/>
                </a:lnTo>
                <a:lnTo>
                  <a:pt x="9289" y="3028"/>
                </a:lnTo>
                <a:lnTo>
                  <a:pt x="6754" y="786"/>
                </a:lnTo>
                <a:lnTo>
                  <a:pt x="6488" y="4160"/>
                </a:lnTo>
                <a:lnTo>
                  <a:pt x="3163" y="3163"/>
                </a:lnTo>
                <a:lnTo>
                  <a:pt x="4237" y="6373"/>
                </a:lnTo>
                <a:lnTo>
                  <a:pt x="859" y="6580"/>
                </a:lnTo>
                <a:lnTo>
                  <a:pt x="3056" y="9154"/>
                </a:lnTo>
                <a:lnTo>
                  <a:pt x="0" y="1080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929040" y="1214280"/>
            <a:ext cx="363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BernhardMod BT"/>
              </a:rPr>
              <a:t>el control que el sujeto puede ejercer respecto del conocimiento que de su persona tengan los terce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152280"/>
            <a:ext cx="2819520" cy="2210040"/>
          </a:xfrm>
          <a:prstGeom prst="wedgeEllipseCallout">
            <a:avLst>
              <a:gd name="adj1" fmla="val 9120"/>
              <a:gd name="adj2" fmla="val 185921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915840"/>
            <a:ext cx="23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</a:rPr>
              <a:t>Autodeterminación in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084720" y="4114800"/>
            <a:ext cx="2664000" cy="1981080"/>
          </a:xfrm>
          <a:prstGeom prst="wedgeEllipseCallout">
            <a:avLst>
              <a:gd name="adj1" fmla="val -154291"/>
              <a:gd name="adj2" fmla="val 34055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300720" y="4724280"/>
            <a:ext cx="22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</a:rPr>
              <a:t>Libertad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00000" y="5410080"/>
            <a:ext cx="23036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oudy Stout"/>
              </a:rPr>
              <a:t>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Es una garantía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Inherente a todo ser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con independencia de su 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No es absol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Reconoce limi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Libertad de Ex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Legítimo derecho a “sa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Voluntad de l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Consagrada a nivel supraco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Tratados Internacionales: Derechos Humanos, Derechos del ni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Naturaleza jurí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788000" y="692280"/>
            <a:ext cx="3124080" cy="2057400"/>
          </a:xfrm>
          <a:prstGeom prst="cloudCallout">
            <a:avLst>
              <a:gd name="adj1" fmla="val -119967"/>
              <a:gd name="adj2" fmla="val 193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148360" y="1268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364000" y="3141720"/>
            <a:ext cx="3353040" cy="1981080"/>
          </a:xfrm>
          <a:prstGeom prst="cloudCallout">
            <a:avLst>
              <a:gd name="adj1" fmla="val -124666"/>
              <a:gd name="adj2" fmla="val 5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724360" y="3716280"/>
            <a:ext cx="28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Su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 flipH="1">
            <a:off x="467640" y="1341360"/>
            <a:ext cx="3382920" cy="2160720"/>
          </a:xfrm>
          <a:prstGeom prst="cloudCallout">
            <a:avLst>
              <a:gd name="adj1" fmla="val -12273"/>
              <a:gd name="adj2" fmla="val 1275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042920" y="177336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espacial 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14240" y="5643720"/>
            <a:ext cx="5181840" cy="82512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99"/>
                </a:solidFill>
                <a:latin typeface="Times New Roman"/>
              </a:rPr>
              <a:t>Límites al Der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609480"/>
            <a:ext cx="554508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921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cc3300"/>
                </a:solidFill>
                <a:latin typeface="Arial"/>
              </a:rPr>
              <a:t>Su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57080" indent="-18252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cc3300"/>
                </a:solidFill>
                <a:latin typeface="Arial"/>
              </a:rPr>
              <a:t>Cualidades personales: Persona Pública- Persona Priv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Arial"/>
              </a:rPr>
              <a:t>Public offi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Arial"/>
              </a:rPr>
              <a:t>Public Figure</a:t>
            </a:r>
            <a:r>
              <a:rPr b="0" lang="es-ES_tradnl" sz="2400" spc="-1" strike="noStrike">
                <a:solidFill>
                  <a:srgbClr val="cc3300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685800" y="3809880"/>
            <a:ext cx="7958160" cy="3048120"/>
          </a:xfrm>
          <a:prstGeom prst="cloudCallout">
            <a:avLst>
              <a:gd name="adj1" fmla="val -39402"/>
              <a:gd name="adj2" fmla="val -110416"/>
            </a:avLst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14680" y="4643280"/>
            <a:ext cx="58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2268"/>
                </a:solidFill>
                <a:latin typeface="BernhardMod BT"/>
              </a:rPr>
              <a:t>“</a:t>
            </a:r>
            <a:r>
              <a:rPr b="1" lang="es-ES_tradnl" sz="2400" spc="-1" strike="noStrike">
                <a:solidFill>
                  <a:srgbClr val="222268"/>
                </a:solidFill>
                <a:latin typeface="BernhardMod BT"/>
              </a:rPr>
              <a:t>persona pública” o “persona privada”: conceptos  indeterminados o indeterminables a pr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685800" y="1066680"/>
            <a:ext cx="4038480" cy="419112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14240" y="192888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 Unicode MS"/>
              </a:rPr>
              <a:t>Público: todo aquello que realizo en espacios de uso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724280" y="990720"/>
            <a:ext cx="4114800" cy="426708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952880" y="1752480"/>
            <a:ext cx="358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Unicode MS"/>
              </a:rPr>
              <a:t>Privado: todo aquello que realizo en espacios de uso exclusivo (permanente o transitorio</a:t>
            </a:r>
            <a:r>
              <a:rPr b="0" lang="es-ES_tradnl" sz="28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Text Box 6"/>
          <p:cNvGrpSpPr/>
          <p:nvPr/>
        </p:nvGrpSpPr>
        <p:grpSpPr>
          <a:xfrm>
            <a:off x="109440" y="5194440"/>
            <a:ext cx="5662800" cy="846000"/>
            <a:chOff x="109440" y="5194440"/>
            <a:chExt cx="5662800" cy="846000"/>
          </a:xfrm>
        </p:grpSpPr>
        <p:pic>
          <p:nvPicPr>
            <p:cNvPr id="104" name="Text Box 6" descr=""/>
            <p:cNvPicPr/>
            <p:nvPr/>
          </p:nvPicPr>
          <p:blipFill>
            <a:blip r:embed="rId1"/>
            <a:stretch/>
          </p:blipFill>
          <p:spPr>
            <a:xfrm>
              <a:off x="109440" y="5194440"/>
              <a:ext cx="566280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28600" y="5257800"/>
              <a:ext cx="548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Calibri"/>
                </a:rPr>
                <a:t>Problema: hay acciones netamente íntimas que pudieran realizarse fuera de la c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7"/>
          <p:cNvSpPr/>
          <p:nvPr/>
        </p:nvSpPr>
        <p:spPr>
          <a:xfrm>
            <a:off x="4716360" y="189000"/>
            <a:ext cx="39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Criterio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276720" y="189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Criterio obje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57160" y="1857240"/>
            <a:ext cx="7056360" cy="409572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En sentido posi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Qué esferas de la persona son las protegid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é conductas son las protegidas y cuales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uáles son los espacios proteg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Qué tipo de persona es el que puede ser sujeto del derec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ien es el sujeto activo de la protección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ien puede invocar los derechos que se derivan de la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700360" y="228600"/>
            <a:ext cx="62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onvenio para la protección de las personas con respecto al tratamiento automatizado de datos de carácter personal. Consejo de Europa, 28.01.1981 y presentado para su ratificación en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00080" y="2571840"/>
            <a:ext cx="7238880" cy="338580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Art. 1. "Objeto y Fin: El fin del presente convenio es garantizar, en el territorio de cada parte, a cualquier persona física sean cuales fueren su nacionalidad o su residencia, el respeto de sus derechos y libertades fundamentales, concretamente su derecho a la vida privada, con respecto al tratamiento automatizado de los datos de carácter personal correspondientes a dicha persona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Bienes Jurídicos comprom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1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Libre circulación de los dato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Para eliminar los obstáculos a la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circulación de datos personal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el nivel de protección de los derechos y libertades de las personas, por lo que se refiere al tratamiento de dichos datos, debe ser equivalente en todos los Estados miembros (</a:t>
            </a: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irectiva 46/95, Euro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Respeto a los Derechos Fundamentales de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onsiderando que las legislaciones nacionales relativas al tratamiento de datos personales tienen por objeto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garantizar el respeto de los derechos y libertades fundamental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particularmente del derecho al respeto de la vida privada reconocido en el artículo 8 del Convenio Europeo para la Protección de los Derechos Humanos y de las Libertades Fundamentales, así como en los principios generales del Derech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ign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60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rtículo 15 Directiva europea 46/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Decisiones individuales automati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1. Los Estados miembros reconocerán a las personas el derecho a no verse sometidas a una decisión con efectos jurídicos sobre ellas o que les afecte de manera significativa, que se base únicamente en un tratamiento automatizado de datos destinado a evaluar determinados aspectos de su personalidad, como su rendimiento laboral, crédito, fiabilidad, conducta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2. Los Estados miembros permitirán, sin perjuicio de lo dispuesto en los demás artículos de la presente Directiva, que una persona pueda verse sometida a una de las decisiones contempladas en el apartado 1 cuando dicha decisió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) se haya adoptado en el marco de la celebración o ejecución de un contrato, siempre que la petición de celebración o ejecución del contrato presentada por el interesado se haya satisfecho o que existan medidas apropiadas, como la posibilidad de defender su punto de vista, para la salvaguardia de su interés legítimo;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b) esté autorizada por una ley que establezca medidas que garanticen el interés legítimo del interes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286000" y="2349360"/>
            <a:ext cx="603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Datos Persona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Autodeterminación Informativa y libertad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Concepto de Da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irectiva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a) «datos personales»: </a:t>
            </a:r>
            <a:r>
              <a:rPr b="0" lang="es-CL" sz="2400" spc="-1" strike="noStrike" u="sng">
                <a:solidFill>
                  <a:srgbClr val="cc3300"/>
                </a:solidFill>
                <a:uFillTx/>
                <a:latin typeface="Arial Unicode MS"/>
              </a:rPr>
              <a:t>toda información</a:t>
            </a: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 sobre una persona física identificada o identificable (el «interesado»); se considerará identificable toda persona cuya identidad pueda determinarse, directa o indirectamente, en particular mediante un número de identificación o uno o varios elementos específicos, característicos de su identidad física, fisiológica, psíquica, económica, cultural o so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atos personales en Ley Chi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2479320"/>
            <a:ext cx="82296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atos de carácter personal o datos personales, los relativos a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cualquier información</a:t>
            </a: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 concerniente a personas naturales, identificadas o identificables.</a:t>
            </a:r>
            <a:r>
              <a:rPr b="1" lang="es-CL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Tipos de da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0643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de carácter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especialmente prote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personales que revelen el origen racial o étnico, las opiniones políticas, las convicciones religiosas o filosóficas, la pertenencia a sindicatos, así como el tratamiento de los datos relativos a la salud o a la sexua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sensi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Aquellos datos personales que se refieren a las características físicas o morales de las personas o a hechos o circunstancias de su vida privada o intimidad, tales como los hábitos personales, el origen racial, las ideologías y opiniones políticas, las creencias o convicciones religiosas, los estados de salud físicos o psíquicos y la vida sex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640" y="304920"/>
            <a:ext cx="6143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Unicode MS"/>
              </a:rPr>
              <a:t>Concepto de Tratamiento de Dato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15480" cy="50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Art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c) por "tratamiento automatizado" se entiende las operaciones que a continuación se indican efectuadas en su totalidad o en parte con ayuda de procedimientos automatiz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Registr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aplicación a estos datos de operaciones lógicas aritmé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modificació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borrad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extracción de datos del fic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Difusió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alibri"/>
              </a:rPr>
              <a:t>S/e Art. 3 c) opción de los estados para extender su aplicación a tratamiento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Concepto en la ley 196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7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Art. 2.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b) "tratamiento de datos personales”: cualquier operación o conjunto de operaciones, efectuadas o no, mediante procedimientos automatizados, y aplicadas a datos personal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371600" y="335268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Recog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Reg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nserv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Elaboración o modif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Extra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nsul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Util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292720" y="3213000"/>
            <a:ext cx="3143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municación por 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Difu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ualquier otra forma que facilite el acceso a los mism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tejo o interconexión, Bloque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Supresión o destrucción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464832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Principios relativos al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8036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alidad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a) Se obtendrán y trata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leal y legítimamente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b) Se registrarán para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finalidades determinada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y legítimas, y no se utilizarán de una forma incompatible con dichas fina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c) Se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adecuados, pertinentes y no excesivo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en relación con las finalidades para las cuales se hayan registr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d) Se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exacto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y si fuera necesario puestos al dí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e) Se conservarán bajo una forma que permita la identificación de las personas concernidas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durante un período de tiempo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que no exceda del necesario para las finalidades para las cuales se hayan regi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Seguridad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Medidas apropiadas para evitar: destrucción o pérdida, accesos o difusión no autor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25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Todo conjunto estructurado de datos personales, accesibles con arreglo a criterios determinados, ya sea centralizado, descentralizado o repartido de forma funcional o geográf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Fases manuales quedan bajo la directiva en la medida que respondan  al concepto de fic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347640" y="304920"/>
            <a:ext cx="5567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Concepto de Fichero de Datos Personales en Euro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17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Registro o banc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el conjunto organizado de datos de carácter personal, sea automatizado o no y cualquiera sea la forma o modalidad de su creación u organización, que permita relacionar los datos entre sí, así como realizar todo tipo de tratamiento de datos.</a:t>
            </a:r>
            <a:r>
              <a:rPr b="1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9280" y="274680"/>
            <a:ext cx="5267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 Unicode MS"/>
              </a:rPr>
              <a:t>Operaciones del tratamiento de dato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852280"/>
            <a:ext cx="7210440" cy="284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Almacenamiento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conservación o custodia de datos en un registro o banco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Comunicación o transmis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r a conocer de cualquier forma los datos de carácter personal a personas distintas del titular, sean determinadas o indeterminadas.</a:t>
            </a: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85840" y="4071960"/>
            <a:ext cx="8429400" cy="255420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Right to be al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Concepción priv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Se construye la argumentación a partir del derecho de propiedad (prope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285920" y="1071720"/>
            <a:ext cx="7451640" cy="2209680"/>
          </a:xfrm>
          <a:prstGeom prst="cloudCallout">
            <a:avLst>
              <a:gd name="adj1" fmla="val -26907"/>
              <a:gd name="adj2" fmla="val 73851"/>
            </a:avLst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8892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071800" y="142884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1890-1891</a:t>
            </a: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  <a:ea typeface="Raavi"/>
              </a:rPr>
              <a:t> : Brandeis and War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“</a:t>
            </a: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The right of privacy” Harvard Law Review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499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Procedimiento de disociac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todo tratamiento de datos personales de manera que la información que se obtenga no pueda asociarse a persona determinada o determi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Modificación de datos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, todo cambio en el contenido de los datos almacenados en registros o bancos de datos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147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Han de ser modificados cuando sean erróneos, inexactos, equívocos o in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13916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Bloqueo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suspensión temporal de cualquier operación de tratamiento de los datos almac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Eliminación o cancelac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destrucción de datos almacenados en registros o bancos de datos, cualquiera fuere el procedimiento empleado para 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os datos personales deberán ser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eliminados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o cancelados cuando su almacenamiento carezca de fundamento legal o cuando hayan cadu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Se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bloquearán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 los datos personales cuya exactitud no pueda ser establecida o cuya vigencia sea dudosa y respecto de los cuales no corresponda la cance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El responsable del banco de datos personales procederá a la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eliminación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, modificación o bloqueo de los datos, en su caso, sin necesidad de requerimiento del tit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Manifestaciones de los principios del tratamiento de datos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Condiciones de 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uando la ley auto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uando medie autorización del titular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l tratamiento de los datos personales sólo puede efectuarse cuando esta ley u otras disposiciones legales lo autoricen o el titular consienta expresamente en ello.</a:t>
            </a:r>
            <a:r>
              <a:rPr b="0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onsentimiento inform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Por esc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x 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Revo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Excepciones al consent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No requiere autorización el tratamient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l tipo de dato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Datos personales que provengan o que se recolecten de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fuentes accesibles al público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Cuando sean de carácter económico, financiero, bancario o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Se contengan e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listados relativos a una categoría de persona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que se limiten a indicar antecedentes tales como la pertenencia del individuo a ese grupo, su profesión o actividad, sus títulos educativos, dirección o fecha de nacimiento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 la fi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Sea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necesarios para comunicaciones comerciale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de respuesta directa o comercialización o venta directa de bienes o serv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l sujeto que trata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tratamiento de datos personales que realice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personas jurídicas privada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para el uso exclusivo suyo, de sus asociados y de las entidades a que están afiliadas, con fines estadísticos, de tarificación u otros de beneficio general de aquél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Tratamiento de datos que realiza el Estado en el ámbito de su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Tahoma"/>
              </a:rPr>
              <a:t>Calidad de los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28600" y="2666880"/>
            <a:ext cx="6248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Eliminación de datos cadu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Eliminación de datos que estén fuera de su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Bloqueo de datos dud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Modificación de datos inexactos, equívocos, incomp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553080" y="3352680"/>
            <a:ext cx="2362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ahoma"/>
              </a:rPr>
              <a:t>Sin necesidad de requerimiento del tit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90720" y="5029200"/>
            <a:ext cx="7619760" cy="17038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Tahoma"/>
              </a:rPr>
              <a:t>Dato Caduco es el que ha perdido ac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manda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el cumplimiento de una con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la expiración del plazo establecido para su 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el cambio de hechos o circunstancias que consi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9907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Tahoma"/>
              </a:rPr>
              <a:t>Calidad de los datos: </a:t>
            </a:r>
            <a:r>
              <a:rPr b="0" lang="es-ES_tradnl" sz="2400" spc="-1" strike="noStrike">
                <a:solidFill>
                  <a:srgbClr val="cc3300"/>
                </a:solidFill>
                <a:latin typeface="Tahoma"/>
              </a:rPr>
              <a:t>En todo caso la información debe ser exacta, actualizada y responder con veracidad a la situación real del titular d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Tahoma"/>
              </a:rPr>
              <a:t>Casos de datos “problemátic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atos que son objeto de un lit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atos referidos a sanciones penales y administ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21.- Los organismos públicos que sometan a tratamiento datos personales relativos a condenas por delitos, infracciones administrativas o faltas disciplinarias, no podrán comunicarlos una vez prescrita la acción penal o administrativa, o cumplida o prescrita la sanción o l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xceptúase los casos en que esa información les sea solicitada por los tribunales de Justicia u otros organismos públicos dentro del ámbito de su competencia, quienes deberán guardar respecto de ella la debida reserva o secreto y, en todo caso, les será aplicable lo dispuesto en los artículos 5º, 7°, 11 y 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Fi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9°.- Los datos personales deben utilizarse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sólo para los fin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para los cuales hubieren sido recolectados, salvo que provengan o se hayan recolectado de fuentes accesibles al público. En todo caso, la información debe ser exacta, actualizada y responder con veracidad a la situación real del titular de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0" y="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45720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Calibri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Derecho a ser dejado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Frente a los mass media (medios de comunicación de ma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057400" y="220968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57400" y="2666880"/>
            <a:ext cx="3200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Vulneraciones a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Violaciones a la confianza (Breach of conf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Violaciones al derecho de autor (copyrigh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famación (defa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357880" y="3857760"/>
            <a:ext cx="3504960" cy="266688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57880" y="4286160"/>
            <a:ext cx="304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Calibri"/>
              </a:rPr>
              <a:t>Reparación:</a:t>
            </a:r>
            <a:r>
              <a:rPr b="1" i="1" lang="es-ES_tradnl" sz="1800" spc="-1" strike="noStrike">
                <a:solidFill>
                  <a:srgbClr val="9933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9966"/>
                </a:solidFill>
                <a:latin typeface="Calibri"/>
              </a:rPr>
              <a:t>El mal causado debe ser objeto de una avaluación pecuniaria a efectos de su indem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AutoShape 8"/>
          <p:cNvCxnSpPr/>
          <p:nvPr/>
        </p:nvCxnSpPr>
        <p:spPr>
          <a:xfrm>
            <a:off x="5643720" y="2928960"/>
            <a:ext cx="1219680" cy="91512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AutoShape 9"/>
          <p:cNvCxnSpPr/>
          <p:nvPr/>
        </p:nvCxnSpPr>
        <p:spPr>
          <a:xfrm flipH="1" rot="16200000">
            <a:off x="1119960" y="3237480"/>
            <a:ext cx="884880" cy="83880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Text Box 10"/>
          <p:cNvSpPr/>
          <p:nvPr/>
        </p:nvSpPr>
        <p:spPr>
          <a:xfrm>
            <a:off x="4429080" y="214200"/>
            <a:ext cx="4395960" cy="161856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80"/>
                </a:solidFill>
                <a:latin typeface="Times New Roman"/>
              </a:rPr>
              <a:t>Intimidad es algo más que ser dejado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80"/>
                </a:solidFill>
                <a:latin typeface="Times New Roman"/>
              </a:rPr>
              <a:t>Medios tecnológicos generan nuevas formas de agresión (algo más que los medios de comunicaciones de ma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Sec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0028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7°.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Las personas que trabajan en el tratamiento de datos personales, tanto en organismos públicos como privados, están obligadas a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guardar secreto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sobre los mismos, cuando provengan o hayan sido recolectados de fuentes no accesibles al público, como asimismo sobre los demás datos y antecedentes relacionados con el banco de datos, obligación que no cesa por haber terminado sus actividades en ese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Fuente accesible al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8002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Fuentes accesibles al público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los registros o recopilaciones de datos personales, públicos o privados, de acceso no restringido o reservado a los solicitantes</a:t>
            </a:r>
            <a:r>
              <a:rPr b="0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1.- El responsable de los registros o bases donde se almacenen datos personales con posterioridad a su recolecció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deberá cuidar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de ellos con la debida diligencia, haciéndose responsable de los d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Artículo 5º.- El responsable del registro o banco de datos personales podrá establecer un procedimiento automatizado de transmisión, siempre que se cautelen los derechos de los titulares y la transmisión guarde relación con las tareas y finalidades de los organismos particip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Frente a un requerimiento de datos personales mediante una red electrónica, deberá dejarse constancia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a) La individualización del requiren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b) El motivo y el propósito del requerimiento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c) El tipo de datos que se transm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La admisibilidad del requerimiento será evaluada por el responsable del banco de datos que lo recibe, pero la responsabilidad por dicha petición será de quien la hag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El receptor sólo puede utilizar los datos personales para los fines que motivaron la transmi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No se aplicará este artículo cuando se trate de datos personales accesibles al público en gen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Esta disposición tampoco es aplicable cuando se transmiten datos personales a organizaciones internacionales en cumplimiento de lo dispuesto en los tratados y convenios vig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s del titular de datos personales (art. 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canc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Bloqu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Cond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Gra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la información, modificación o eliminación de los datos serán absolutamente gratuitas, debiendo proporcionarse, además, a solicitud del titular, copia del registro alterado en la parte pertinente. Si se efectuasen nuevas modificaciones o eliminaciones de datos, el titular podrá, asimismo, obtener sin costo copia del registro actualizado, siempre que haya transcurrido a lo menos seis meses desde la precedente oportunidad en que hizo uso de este derecho. El derecho a obtener copia gratuita sólo podrá ejercerse person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Ubic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rtículo 14.- Si los datos personales están en un banco de datos al cual tienen acceso diversos organismos, el titular puede requerir información a cualquiera de e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Limit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3.- El derecho de las personas a la información, modificación, cancelación o bloqueo de sus datos personales no puede ser limitado por medio de ningún acto o conv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5.- No obstante lo dispuesto en este Título, no podrá solicitarse información, modificación, cancelación o bloqueo de datos personales cuando ello impida o entorpezca el debido cumplimiento de las funciones fiscalizadoras del organismo público requerido, o afecte la reserva o secreto establecidos en disposiciones legales o reglamentarias, la seguridad de la Nación o el interés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Tampoco podrá pedirse la modificación, cancelación o bloqueo de datos personales almacenados por mandato legal, fuera de los casos contemplados en la ley resp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533520" y="5562720"/>
            <a:ext cx="4952880" cy="1066680"/>
          </a:xfrm>
          <a:prstGeom prst="foldedCorner">
            <a:avLst>
              <a:gd name="adj" fmla="val 12500"/>
            </a:avLst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b2c1b"/>
                </a:solidFill>
                <a:latin typeface="Calibri"/>
                <a:ea typeface="Raavi"/>
              </a:rPr>
              <a:t> </a:t>
            </a:r>
            <a:r>
              <a:rPr b="1" i="1" lang="es-ES_tradnl" sz="2800" spc="-1" strike="noStrike">
                <a:solidFill>
                  <a:srgbClr val="ab2c1b"/>
                </a:solidFill>
                <a:latin typeface="Calibri"/>
                <a:ea typeface="Raavi"/>
              </a:rPr>
              <a:t>Ensayo de William Pro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alibri"/>
                <a:ea typeface="Raavi"/>
              </a:rPr>
              <a:t>Publicado en California Law Review.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403280" y="1371600"/>
            <a:ext cx="7740720" cy="4114800"/>
          </a:xfrm>
          <a:prstGeom prst="cloudCallout">
            <a:avLst>
              <a:gd name="adj1" fmla="val -46962"/>
              <a:gd name="adj2" fmla="val 50541"/>
            </a:avLst>
          </a:prstGeom>
          <a:solidFill>
            <a:srgbClr val="fceef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133720" y="182880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alibri"/>
              </a:rPr>
              <a:t>Identifica cuatro situaciones violato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Intrusión en la soledad de la vida de una persona o en sus asuntos priv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Divulgación de hechos embarazosos que afectan a la pers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Publicidad que podría desprestigiar a la persona frente a la opinión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Apropiación (con ventaja para la otra parte) del nombre o aspecto físico del querell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80880" y="1143000"/>
            <a:ext cx="3733920" cy="1371600"/>
          </a:xfrm>
          <a:custGeom>
            <a:avLst/>
            <a:gdLst>
              <a:gd name="textAreaLeft" fmla="*/ 852480 w 3733920"/>
              <a:gd name="textAreaRight" fmla="*/ 2881440 w 37339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15238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Parker: "A Definition of Privacy" (19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613400" y="1219320"/>
            <a:ext cx="3352680" cy="1523880"/>
          </a:xfrm>
          <a:custGeom>
            <a:avLst/>
            <a:gdLst>
              <a:gd name="textAreaLeft" fmla="*/ 765360 w 3352680"/>
              <a:gd name="textAreaRight" fmla="*/ 2587320 w 335268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148360" y="1600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Fried:“An Anatomi of Values” (197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914400" y="2971800"/>
            <a:ext cx="32004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Control sobre cuando y quien puede percibir distintos aspectos de nuestra person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Control en general de la información que nos conci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0" y="2362320"/>
            <a:ext cx="1066680" cy="30477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33160 h 3047760"/>
              <a:gd name="textAreaBottom" fmla="*/ 220968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00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51280" y="2743200"/>
            <a:ext cx="4114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Control sobre la información que nos concierne”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La Protección se restringe a la percepción u observación que ejercen los terceros sobre nuestra persona (se ejercita directamente sobre nuestra persona y no sobre papeles u otros objetos relativos a é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7885080" y="2209680"/>
            <a:ext cx="1066680" cy="35053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613440 h 3505320"/>
              <a:gd name="textAreaBottom" fmla="*/ 2541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000160" y="357120"/>
            <a:ext cx="6782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badi MT Condensed Light"/>
              </a:rPr>
              <a:t>Tribunal Constitucional Alem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badi MT Condensed Light"/>
              </a:rPr>
              <a:t>sentencia de 15 de diciembre de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1844640"/>
            <a:ext cx="7981920" cy="45370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...el derecho general de la personalidad... abarca... la facultad del individuo, derivada de la autodeterminación, de decidir básicamente por sí mismo cuando y dentro de qué límites procede revelar situaciones referentes a la propia vida...: la libre eclosión de la personalidad presuponen las condiciones modernas de elaboración de datos la protección del individuo contra la recogida, el almacenamiento, la utilización y la transmisión ilimitada de los datos que le conciernen” </a:t>
            </a:r>
            <a:r>
              <a:rPr b="0" lang="es-CL" sz="2000" spc="-1" strike="noStrike">
                <a:solidFill>
                  <a:srgbClr val="cc3300"/>
                </a:solidFill>
                <a:latin typeface="Abadi MT Condensed Light"/>
              </a:rPr>
              <a:t>y qu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... las limitaciones de este derecho a la autodeterminación informativa sólo son admisibles en el marco de un interés general superior y necesitan un fundamento legal basado en la Constitución”</a:t>
            </a:r>
            <a:r>
              <a:rPr b="0" lang="es-CL" sz="2000" spc="-1" strike="noStrike">
                <a:solidFill>
                  <a:srgbClr val="cc3300"/>
                </a:solidFill>
                <a:latin typeface="Abadi MT Condensed Ligh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362320" y="404640"/>
            <a:ext cx="6781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Tribunal Constitucional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sentencia 124/1998, de 15 de junio d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38080" y="2590920"/>
            <a:ext cx="7772400" cy="26668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... un específico instrumento de protección de los derechos del ciudadano frente al uso torticero de la tecnología informática... un derecho fundamental autónomo a controlar el flujo de informaciones que conciernen a cada persona..., pertenezcan o no al ámbito más estricto de la intimidad, para así preservar el pleno ejercicio de sus derech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556000" y="142920"/>
            <a:ext cx="61196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Carta de Derechos Fundament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de la Unión Europea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55640" y="2492280"/>
            <a:ext cx="7765920" cy="379116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... la Unión reconoce los derechos, libertades y principios enunciados a contin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Artículo 8. Protección de los bienes de carácter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1. Toda persona tiene derecho a la protección de los datos de carácter personal que la conciern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2. Estos datos se tratarán de modo leal, para fines concretos y sobre la base del consentimiento de la persona afectada o en virtud de otro fundamento legítimo previsto por la ley. Toda persona tiene derecho a acceder a los datos recogidos que la conciernan y a su rect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3. El respeto de estas normas quedará sujeto al control de una autoridad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0:36:26Z</dcterms:created>
  <dc:creator>Facultad de Derecho</dc:creator>
  <dc:description/>
  <dc:language>en-US</dc:language>
  <cp:lastModifiedBy>creusser</cp:lastModifiedBy>
  <dcterms:modified xsi:type="dcterms:W3CDTF">2008-04-10T01:34:47Z</dcterms:modified>
  <cp:revision>12</cp:revision>
  <dc:subject/>
  <dc:title>Diapositiva 1</dc:title>
</cp:coreProperties>
</file>