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8275-876B-434C-9BF7-C240EFF7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035E-C3A5-4BB8-9B9E-500E65ED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1297-1CC3-4CAD-832D-FCA42E7F0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121D-9407-427A-9BAC-2DE38714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4D78-5DF8-4BE8-A557-AE9A6774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525D-BBA2-4123-AF0E-8E931FDA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BF78-8A92-41D2-BA6D-23FC280A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1890-09DB-42CE-B0C4-E407419F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F032-8452-44D2-BD23-4D58AF5F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B95A-39CD-490B-B99A-F166C8E1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382B-431F-4EDA-A5A9-4B61F9A8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7B43-E361-45EF-A47D-5CDFCE3F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846C-9752-4070-9BBC-DEF27A4275C1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3300"/>
                </a:solidFill>
                <a:latin typeface="Arial Unicode MS"/>
              </a:rPr>
              <a:t>Curso 1</a:t>
            </a:r>
            <a:br>
              <a:rPr sz="3600"/>
            </a:br>
            <a:r>
              <a:rPr b="1" lang="es-ES" sz="3600" spc="-1" strike="noStrike">
                <a:solidFill>
                  <a:srgbClr val="cc3300"/>
                </a:solidFill>
                <a:latin typeface="Arial Unicode MS"/>
              </a:rPr>
              <a:t>Derechos fundamentales y 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8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3300"/>
                </a:solidFill>
                <a:latin typeface="Arial Unicode MS"/>
              </a:rPr>
              <a:t>Lorena Donoso Abar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3300"/>
                </a:solidFill>
                <a:latin typeface="Arial"/>
              </a:rPr>
              <a:t>Clase 2, 07 de abril de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86040" y="115920"/>
            <a:ext cx="621504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3300"/>
                </a:solidFill>
                <a:latin typeface="Abadi MT Condensed Light"/>
              </a:rPr>
              <a:t>Tratado por el que se establece una Constitución para Europa (13.10.20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42960" y="1999800"/>
            <a:ext cx="7918560" cy="425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cc3300"/>
                </a:solidFill>
                <a:latin typeface="Abadi MT Condensed Light"/>
              </a:rPr>
              <a:t>ARTÍCULO I-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cc3300"/>
                </a:solidFill>
                <a:latin typeface="Abadi MT Condensed Light"/>
              </a:rPr>
              <a:t>Protección de datos de carácter 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cc3300"/>
                </a:solidFill>
                <a:latin typeface="Abadi MT Condensed Light"/>
              </a:rPr>
              <a:t>1. Toda persona tiene derecho a la protección de los datos de carácter personal que 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cc3300"/>
                </a:solidFill>
                <a:latin typeface="Abadi MT Condensed Light"/>
              </a:rPr>
              <a:t>conciern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cc3300"/>
                </a:solidFill>
                <a:latin typeface="Abadi MT Condensed Light"/>
              </a:rPr>
              <a:t>2. La ley o ley marco europea establecerá la s normas sobre protección de las personas físicas respecto del tratamiento de datos de carácter personal por las instituciones, órganos y organismos de la Unión, así como por los Estados miembros en el ejercicio de las actividades comprendidas en el ámbito de aplicación del Derecho de la Unión, y sobre la libre circulación de estos datos. El respeto de dichas normas estará sometido al control de autoridades independi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/>
          <p:cNvSpPr/>
          <p:nvPr/>
        </p:nvSpPr>
        <p:spPr>
          <a:xfrm>
            <a:off x="2786040" y="214200"/>
            <a:ext cx="5916600" cy="4015080"/>
          </a:xfrm>
          <a:custGeom>
            <a:avLst/>
            <a:gdLst>
              <a:gd name="textAreaLeft" fmla="*/ 1424880 w 5916600"/>
              <a:gd name="textAreaRight" fmla="*/ 4491720 w 5916600"/>
              <a:gd name="textAreaTop" fmla="*/ 966960 h 4015080"/>
              <a:gd name="textAreaBottom" fmla="*/ 3048120 h 4015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28" y="12311"/>
                </a:lnTo>
                <a:lnTo>
                  <a:pt x="786" y="14846"/>
                </a:lnTo>
                <a:lnTo>
                  <a:pt x="4160" y="15112"/>
                </a:lnTo>
                <a:lnTo>
                  <a:pt x="3163" y="18437"/>
                </a:lnTo>
                <a:lnTo>
                  <a:pt x="6373" y="17363"/>
                </a:lnTo>
                <a:lnTo>
                  <a:pt x="6580" y="20741"/>
                </a:lnTo>
                <a:lnTo>
                  <a:pt x="9154" y="18544"/>
                </a:lnTo>
                <a:lnTo>
                  <a:pt x="10800" y="21600"/>
                </a:lnTo>
                <a:lnTo>
                  <a:pt x="12311" y="18572"/>
                </a:lnTo>
                <a:lnTo>
                  <a:pt x="14846" y="20814"/>
                </a:lnTo>
                <a:lnTo>
                  <a:pt x="15112" y="17440"/>
                </a:lnTo>
                <a:lnTo>
                  <a:pt x="18437" y="18437"/>
                </a:lnTo>
                <a:lnTo>
                  <a:pt x="17363" y="15227"/>
                </a:lnTo>
                <a:lnTo>
                  <a:pt x="20741" y="15020"/>
                </a:lnTo>
                <a:lnTo>
                  <a:pt x="18544" y="12446"/>
                </a:lnTo>
                <a:lnTo>
                  <a:pt x="21600" y="10800"/>
                </a:lnTo>
                <a:lnTo>
                  <a:pt x="18572" y="9289"/>
                </a:lnTo>
                <a:lnTo>
                  <a:pt x="20814" y="6754"/>
                </a:lnTo>
                <a:lnTo>
                  <a:pt x="17440" y="6488"/>
                </a:lnTo>
                <a:lnTo>
                  <a:pt x="18437" y="3163"/>
                </a:lnTo>
                <a:lnTo>
                  <a:pt x="15227" y="4237"/>
                </a:lnTo>
                <a:lnTo>
                  <a:pt x="15020" y="859"/>
                </a:lnTo>
                <a:lnTo>
                  <a:pt x="12446" y="3056"/>
                </a:lnTo>
                <a:lnTo>
                  <a:pt x="10800" y="0"/>
                </a:lnTo>
                <a:lnTo>
                  <a:pt x="9289" y="3028"/>
                </a:lnTo>
                <a:lnTo>
                  <a:pt x="6754" y="786"/>
                </a:lnTo>
                <a:lnTo>
                  <a:pt x="6488" y="4160"/>
                </a:lnTo>
                <a:lnTo>
                  <a:pt x="3163" y="3163"/>
                </a:lnTo>
                <a:lnTo>
                  <a:pt x="4237" y="6373"/>
                </a:lnTo>
                <a:lnTo>
                  <a:pt x="859" y="6580"/>
                </a:lnTo>
                <a:lnTo>
                  <a:pt x="3056" y="9154"/>
                </a:lnTo>
                <a:lnTo>
                  <a:pt x="0" y="1080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3929040" y="1214280"/>
            <a:ext cx="363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BernhardMod BT"/>
              </a:rPr>
              <a:t>el control que el sujeto puede ejercer respecto del conocimiento que de su persona tengan los tercer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0" y="152280"/>
            <a:ext cx="2819520" cy="2210040"/>
          </a:xfrm>
          <a:prstGeom prst="wedgeEllipseCallout">
            <a:avLst>
              <a:gd name="adj1" fmla="val 9120"/>
              <a:gd name="adj2" fmla="val 185921"/>
            </a:avLst>
          </a:prstGeom>
          <a:gradFill rotWithShape="0">
            <a:gsLst>
              <a:gs pos="0">
                <a:srgbClr val="cc99ff"/>
              </a:gs>
              <a:gs pos="50000">
                <a:srgbClr val="ffffcc"/>
              </a:gs>
              <a:gs pos="100000">
                <a:srgbClr val="cc99ff"/>
              </a:gs>
            </a:gsLst>
            <a:lin ang="27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28600" y="915840"/>
            <a:ext cx="23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Tahoma"/>
              </a:rPr>
              <a:t>Autodeterminación inform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6084720" y="4114800"/>
            <a:ext cx="2664000" cy="1981080"/>
          </a:xfrm>
          <a:prstGeom prst="wedgeEllipseCallout">
            <a:avLst>
              <a:gd name="adj1" fmla="val -154291"/>
              <a:gd name="adj2" fmla="val 34055"/>
            </a:avLst>
          </a:prstGeom>
          <a:gradFill rotWithShape="0">
            <a:gsLst>
              <a:gs pos="0">
                <a:srgbClr val="cc99ff"/>
              </a:gs>
              <a:gs pos="50000">
                <a:srgbClr val="ffffcc"/>
              </a:gs>
              <a:gs pos="100000">
                <a:srgbClr val="cc99ff"/>
              </a:gs>
            </a:gsLst>
            <a:lin ang="27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6300720" y="4724280"/>
            <a:ext cx="226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Tahoma"/>
              </a:rPr>
              <a:t>Libertad Infor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900000" y="5410080"/>
            <a:ext cx="2303640" cy="459720"/>
          </a:xfrm>
          <a:prstGeom prst="rect">
            <a:avLst/>
          </a:prstGeom>
          <a:solidFill>
            <a:srgbClr val="ffffcc"/>
          </a:solidFill>
          <a:ln w="7632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oudy Stou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oudy Stout"/>
              </a:rPr>
              <a:t>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marL="81000" indent="-81000">
              <a:lnSpc>
                <a:spcPct val="90000"/>
              </a:lnSpc>
              <a:buClr>
                <a:srgbClr val="cc33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3300"/>
                </a:solidFill>
                <a:latin typeface="Abadi MT Condensed Light"/>
              </a:rPr>
              <a:t>Es una garantía indiv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79560">
              <a:lnSpc>
                <a:spcPct val="90000"/>
              </a:lnSpc>
              <a:buClr>
                <a:srgbClr val="cc3300"/>
              </a:buClr>
              <a:buFont typeface="Abadi MT Condensed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3300"/>
                </a:solidFill>
                <a:latin typeface="Abadi MT Condensed Light"/>
              </a:rPr>
              <a:t>Inherente a todo ser hum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79560">
              <a:lnSpc>
                <a:spcPct val="90000"/>
              </a:lnSpc>
              <a:buClr>
                <a:srgbClr val="cc3300"/>
              </a:buClr>
              <a:buFont typeface="Abadi MT Condensed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3300"/>
                </a:solidFill>
                <a:latin typeface="Abadi MT Condensed Light"/>
              </a:rPr>
              <a:t>con independencia de su e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90000"/>
              </a:lnSpc>
              <a:buClr>
                <a:srgbClr val="cc33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3300"/>
                </a:solidFill>
                <a:latin typeface="Abadi MT Condensed Light"/>
              </a:rPr>
              <a:t>No es absol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79560">
              <a:lnSpc>
                <a:spcPct val="90000"/>
              </a:lnSpc>
              <a:buClr>
                <a:srgbClr val="cc3300"/>
              </a:buClr>
              <a:buFont typeface="Abadi MT Condensed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3300"/>
                </a:solidFill>
                <a:latin typeface="Abadi MT Condensed Light"/>
              </a:rPr>
              <a:t>Reconoce limit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66000" indent="-160560">
              <a:lnSpc>
                <a:spcPct val="90000"/>
              </a:lnSpc>
              <a:buClr>
                <a:srgbClr val="cc33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3300"/>
                </a:solidFill>
                <a:latin typeface="Abadi MT Condensed Light"/>
              </a:rPr>
              <a:t>Libertad de Expre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66000" indent="-160560">
              <a:lnSpc>
                <a:spcPct val="90000"/>
              </a:lnSpc>
              <a:buClr>
                <a:srgbClr val="cc33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3300"/>
                </a:solidFill>
                <a:latin typeface="Abadi MT Condensed Light"/>
              </a:rPr>
              <a:t>Legítimo derecho a “sab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66000" indent="-160560">
              <a:lnSpc>
                <a:spcPct val="90000"/>
              </a:lnSpc>
              <a:buClr>
                <a:srgbClr val="cc33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3300"/>
                </a:solidFill>
                <a:latin typeface="Abadi MT Condensed Light"/>
              </a:rPr>
              <a:t>Voluntad de la pers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>
              <a:lnSpc>
                <a:spcPct val="90000"/>
              </a:lnSpc>
              <a:buClr>
                <a:srgbClr val="cc3300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3300"/>
                </a:solidFill>
                <a:latin typeface="Abadi MT Condensed Light"/>
              </a:rPr>
              <a:t>Consagrada a nivel supraconstitu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79560">
              <a:lnSpc>
                <a:spcPct val="90000"/>
              </a:lnSpc>
              <a:buClr>
                <a:srgbClr val="cc3300"/>
              </a:buClr>
              <a:buFont typeface="Abadi MT Condensed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3300"/>
                </a:solidFill>
                <a:latin typeface="Abadi MT Condensed Light"/>
              </a:rPr>
              <a:t>Tratados Internacionales: Derechos Humanos, Derechos del ni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440" y="380880"/>
            <a:ext cx="792468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Arial Unicode MS"/>
              </a:rPr>
              <a:t>Naturaleza juríd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4788000" y="692280"/>
            <a:ext cx="3124080" cy="2057400"/>
          </a:xfrm>
          <a:prstGeom prst="cloudCallout">
            <a:avLst>
              <a:gd name="adj1" fmla="val -119967"/>
              <a:gd name="adj2" fmla="val 19313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5148360" y="12682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Criterio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5364000" y="3141720"/>
            <a:ext cx="3353040" cy="1981080"/>
          </a:xfrm>
          <a:prstGeom prst="cloudCallout">
            <a:avLst>
              <a:gd name="adj1" fmla="val -124666"/>
              <a:gd name="adj2" fmla="val 5520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5724360" y="3716280"/>
            <a:ext cx="281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ahoma"/>
              </a:rPr>
              <a:t>Criterio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3300"/>
                </a:solidFill>
                <a:latin typeface="Tahoma"/>
              </a:rPr>
              <a:t>Su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 flipH="1">
            <a:off x="467640" y="1341360"/>
            <a:ext cx="3382920" cy="2160720"/>
          </a:xfrm>
          <a:prstGeom prst="cloudCallout">
            <a:avLst>
              <a:gd name="adj1" fmla="val -12273"/>
              <a:gd name="adj2" fmla="val 12758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042920" y="177336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ahoma"/>
              </a:rPr>
              <a:t>Criterio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Tahoma"/>
              </a:rPr>
              <a:t>espacial o terr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714240" y="5643720"/>
            <a:ext cx="5181840" cy="825120"/>
          </a:xfrm>
          <a:prstGeom prst="rect">
            <a:avLst/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ffff99"/>
                </a:solidFill>
                <a:latin typeface="Times New Roman"/>
              </a:rPr>
              <a:t>Límites al Derech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58920" y="609480"/>
            <a:ext cx="5545080" cy="28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-9216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es-ES_tradnl" sz="3200" spc="-1" strike="noStrike">
                <a:solidFill>
                  <a:srgbClr val="cc3300"/>
                </a:solidFill>
                <a:latin typeface="Arial"/>
              </a:rPr>
              <a:t>Subjetiv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57080" indent="-18252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cc3300"/>
                </a:solidFill>
                <a:latin typeface="Arial"/>
              </a:rPr>
              <a:t>Cualidades personales: Persona Pública- Persona Priva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c3300"/>
                </a:solidFill>
                <a:latin typeface="Arial"/>
              </a:rPr>
              <a:t>Public offic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c3300"/>
                </a:solidFill>
                <a:latin typeface="Arial"/>
              </a:rPr>
              <a:t>Public Figure</a:t>
            </a:r>
            <a:r>
              <a:rPr b="0" lang="es-ES_tradnl" sz="2400" spc="-1" strike="noStrike">
                <a:solidFill>
                  <a:srgbClr val="cc3300"/>
                </a:solidFill>
                <a:latin typeface="BernhardMod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"/>
          <p:cNvSpPr/>
          <p:nvPr/>
        </p:nvSpPr>
        <p:spPr>
          <a:xfrm>
            <a:off x="685800" y="3809880"/>
            <a:ext cx="7958160" cy="3048120"/>
          </a:xfrm>
          <a:prstGeom prst="cloudCallout">
            <a:avLst>
              <a:gd name="adj1" fmla="val -39402"/>
              <a:gd name="adj2" fmla="val -110416"/>
            </a:avLst>
          </a:prstGeom>
          <a:gradFill rotWithShape="0">
            <a:gsLst>
              <a:gs pos="0">
                <a:srgbClr val="bbe0e3"/>
              </a:gs>
              <a:gs pos="100000">
                <a:srgbClr val="cc99ff"/>
              </a:gs>
            </a:gsLst>
            <a:lin ang="2700000"/>
          </a:gra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714680" y="4643280"/>
            <a:ext cx="588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22268"/>
                </a:solidFill>
                <a:latin typeface="BernhardMod BT"/>
              </a:rPr>
              <a:t>“</a:t>
            </a:r>
            <a:r>
              <a:rPr b="1" lang="es-ES_tradnl" sz="2400" spc="-1" strike="noStrike">
                <a:solidFill>
                  <a:srgbClr val="222268"/>
                </a:solidFill>
                <a:latin typeface="BernhardMod BT"/>
              </a:rPr>
              <a:t>persona pública” o “persona privada”: conceptos  indeterminados o indeterminables a pri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"/>
          <p:cNvSpPr/>
          <p:nvPr/>
        </p:nvSpPr>
        <p:spPr>
          <a:xfrm>
            <a:off x="685800" y="1066680"/>
            <a:ext cx="4038480" cy="4191120"/>
          </a:xfrm>
          <a:prstGeom prst="flowChartPunched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714240" y="1928880"/>
            <a:ext cx="3200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 Unicode MS"/>
              </a:rPr>
              <a:t>Público: todo aquello que realizo en espacios de uso púb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4724280" y="990720"/>
            <a:ext cx="4114800" cy="4267080"/>
          </a:xfrm>
          <a:prstGeom prst="flowChartPunched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952880" y="1752480"/>
            <a:ext cx="3581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Arial Unicode MS"/>
              </a:rPr>
              <a:t>Privado: todo aquello que realizo en espacios de uso exclusivo (permanente o transitorio</a:t>
            </a:r>
            <a:r>
              <a:rPr b="0" lang="es-ES_tradnl" sz="2800" spc="-1" strike="noStrike">
                <a:solidFill>
                  <a:srgbClr val="cc33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Text Box 6"/>
          <p:cNvGrpSpPr/>
          <p:nvPr/>
        </p:nvGrpSpPr>
        <p:grpSpPr>
          <a:xfrm>
            <a:off x="109440" y="5194440"/>
            <a:ext cx="5662800" cy="846000"/>
            <a:chOff x="109440" y="5194440"/>
            <a:chExt cx="5662800" cy="846000"/>
          </a:xfrm>
        </p:grpSpPr>
        <p:pic>
          <p:nvPicPr>
            <p:cNvPr id="104" name="Text Box 6" descr=""/>
            <p:cNvPicPr/>
            <p:nvPr/>
          </p:nvPicPr>
          <p:blipFill>
            <a:blip r:embed="rId1"/>
            <a:stretch/>
          </p:blipFill>
          <p:spPr>
            <a:xfrm>
              <a:off x="109440" y="5194440"/>
              <a:ext cx="5662800" cy="84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28600" y="5257800"/>
              <a:ext cx="5486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ff66"/>
                  </a:solidFill>
                  <a:latin typeface="Calibri"/>
                </a:rPr>
                <a:t>Problema: hay acciones netamente íntimas que pudieran realizarse fuera de la c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ectangle 7"/>
          <p:cNvSpPr/>
          <p:nvPr/>
        </p:nvSpPr>
        <p:spPr>
          <a:xfrm>
            <a:off x="4716360" y="189000"/>
            <a:ext cx="398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Arial Unicode MS"/>
              </a:rPr>
              <a:t>Criterio espa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276720" y="1890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Arial Unicode MS"/>
              </a:rPr>
              <a:t> </a:t>
            </a:r>
            <a:r>
              <a:rPr b="1" lang="es-ES_tradnl" sz="3200" spc="-1" strike="noStrike">
                <a:solidFill>
                  <a:srgbClr val="cc3300"/>
                </a:solidFill>
                <a:latin typeface="Arial Unicode MS"/>
              </a:rPr>
              <a:t>Criterio obje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857160" y="1857240"/>
            <a:ext cx="7056360" cy="4095720"/>
          </a:xfrm>
          <a:prstGeom prst="rect">
            <a:avLst/>
          </a:pr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Arial Unicode MS"/>
              </a:rPr>
              <a:t>En sentido positiv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Arial Unicode MS"/>
              </a:rPr>
              <a:t>Qué esferas de la persona son las protegid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 Unicode MS"/>
              </a:rPr>
              <a:t>Qué conductas son las protegidas y cuales 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 Unicode MS"/>
              </a:rPr>
              <a:t>Cuáles son los espacios proteg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Arial Unicode MS"/>
              </a:rPr>
              <a:t>Qué tipo de persona es el que puede ser sujeto del derech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 Unicode MS"/>
              </a:rPr>
              <a:t>Quien es el sujeto activo de la protección constitu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 Unicode MS"/>
              </a:rPr>
              <a:t>Quien puede invocar los derechos que se derivan de la garant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700360" y="228600"/>
            <a:ext cx="6215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 Unicode MS"/>
              </a:rPr>
              <a:t>Convenio para la protección de las personas con respecto al tratamiento automatizado de datos de carácter personal. Consejo de Europa, 28.01.1981 y presentado para su ratificación en 198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000080" y="2571840"/>
            <a:ext cx="7238880" cy="3385800"/>
          </a:xfrm>
          <a:prstGeom prst="rect">
            <a:avLst/>
          </a:pr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Art. 1. "Objeto y Fin: El fin del presente convenio es garantizar, en el territorio de cada parte, a cualquier persona física sean cuales fueren su nacionalidad o su residencia, el respeto de sus derechos y libertades fundamentales, concretamente su derecho a la vida privada, con respecto al tratamiento automatizado de los datos de carácter personal correspondientes a dicha persona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 Unicode MS"/>
              </a:rPr>
              <a:t>Bienes Jurídicos compromet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136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Libre circulación de los datos pers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Para eliminar los obstáculos a la </a:t>
            </a:r>
            <a:r>
              <a:rPr b="0" lang="es-ES" sz="2000" spc="-1" strike="noStrike" u="sng">
                <a:solidFill>
                  <a:srgbClr val="cc3300"/>
                </a:solidFill>
                <a:uFillTx/>
                <a:latin typeface="Arial Unicode MS"/>
              </a:rPr>
              <a:t>circulación de datos personales</a:t>
            </a: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, el nivel de protección de los derechos y libertades de las personas, por lo que se refiere al tratamiento de dichos datos, debe ser equivalente en todos los Estados miembros (</a:t>
            </a:r>
            <a:r>
              <a:rPr b="0" lang="es-ES_tradnl" sz="2000" spc="-1" strike="noStrike">
                <a:solidFill>
                  <a:srgbClr val="cc3300"/>
                </a:solidFill>
                <a:latin typeface="Arial Unicode MS"/>
              </a:rPr>
              <a:t>Directiva 46/95, Europ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Arial Unicode MS"/>
              </a:rPr>
              <a:t>Respeto a los Derechos Fundamentales de las Perso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Considerando que las legislaciones nacionales relativas al tratamiento de datos personales tienen por objeto </a:t>
            </a:r>
            <a:r>
              <a:rPr b="0" lang="es-ES" sz="2000" spc="-1" strike="noStrike" u="sng">
                <a:solidFill>
                  <a:srgbClr val="cc3300"/>
                </a:solidFill>
                <a:uFillTx/>
                <a:latin typeface="Arial Unicode MS"/>
              </a:rPr>
              <a:t>garantizar el respeto de los derechos y libertades fundamentales</a:t>
            </a: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, particularmente del derecho al respeto de la vida privada reconocido en el artículo 8 del Convenio Europeo para la Protección de los Derechos Humanos y de las Libertades Fundamentales, así como en los principios generales del Derecho comuni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 Unicode MS"/>
              </a:rPr>
              <a:t>Dignidad hu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60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 Unicode MS"/>
              </a:rPr>
              <a:t>Artículo 15 Directiva europea 46/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 Unicode MS"/>
              </a:rPr>
              <a:t>Decisiones individuales automatiz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 Unicode MS"/>
              </a:rPr>
              <a:t>1. Los Estados miembros reconocerán a las personas el derecho a no verse sometidas a una decisión con efectos jurídicos sobre ellas o que les afecte de manera significativa, que se base únicamente en un tratamiento automatizado de datos destinado a evaluar determinados aspectos de su personalidad, como su rendimiento laboral, crédito, fiabilidad, conducta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 Unicode MS"/>
              </a:rPr>
              <a:t>2. Los Estados miembros permitirán, sin perjuicio de lo dispuesto en los demás artículos de la presente Directiva, que una persona pueda verse sometida a una de las decisiones contempladas en el apartado 1 cuando dicha decisió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 Unicode MS"/>
              </a:rPr>
              <a:t>a) se haya adoptado en el marco de la celebración o ejecución de un contrato, siempre que la petición de celebración o ejecución del contrato presentada por el interesado se haya satisfecho o que existan medidas apropiadas, como la posibilidad de defender su punto de vista, para la salvaguardia de su interés legítimo;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 Unicode MS"/>
              </a:rPr>
              <a:t>b) esté autorizada por una ley que establezca medidas que garanticen el interés legítimo del interes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2286000" y="2349360"/>
            <a:ext cx="603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Arial Unicode MS"/>
              </a:rPr>
              <a:t>Datos Personal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Arial Unicode MS"/>
              </a:rPr>
              <a:t>Autodeterminación Informativa y libertad inform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 Unicode MS"/>
              </a:rPr>
              <a:t>Concepto de Datos Pers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Directiva Europ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3300"/>
                </a:solidFill>
                <a:latin typeface="Arial Unicode MS"/>
              </a:rPr>
              <a:t>a) «datos personales»: </a:t>
            </a:r>
            <a:r>
              <a:rPr b="0" lang="es-CL" sz="2400" spc="-1" strike="noStrike" u="sng">
                <a:solidFill>
                  <a:srgbClr val="cc3300"/>
                </a:solidFill>
                <a:uFillTx/>
                <a:latin typeface="Arial Unicode MS"/>
              </a:rPr>
              <a:t>toda información</a:t>
            </a:r>
            <a:r>
              <a:rPr b="0" lang="es-CL" sz="2400" spc="-1" strike="noStrike">
                <a:solidFill>
                  <a:srgbClr val="cc3300"/>
                </a:solidFill>
                <a:latin typeface="Arial Unicode MS"/>
              </a:rPr>
              <a:t> sobre una persona física identificada o identificable (el «interesado»); se considerará identificable toda persona cuya identidad pueda determinarse, directa o indirectamente, en particular mediante un número de identificación o uno o varios elementos específicos, característicos de su identidad física, fisiológica, psíquica, económica, cultural o socia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 Unicode MS"/>
              </a:rPr>
              <a:t>Datos personales en Ley Chil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760" y="2479320"/>
            <a:ext cx="8229600" cy="13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 Unicode MS"/>
              </a:rPr>
              <a:t>Datos de carácter personal o datos personales, los relativos a </a:t>
            </a:r>
            <a:r>
              <a:rPr b="1" lang="es-ES" sz="2400" spc="-1" strike="noStrike" u="sng">
                <a:solidFill>
                  <a:srgbClr val="cc3300"/>
                </a:solidFill>
                <a:uFillTx/>
                <a:latin typeface="Arial Unicode MS"/>
              </a:rPr>
              <a:t>cualquier información</a:t>
            </a:r>
            <a:r>
              <a:rPr b="1" lang="es-ES" sz="2400" spc="-1" strike="noStrike">
                <a:solidFill>
                  <a:srgbClr val="cc3300"/>
                </a:solidFill>
                <a:latin typeface="Arial Unicode MS"/>
              </a:rPr>
              <a:t> concerniente a personas naturales, identificadas o identificables.</a:t>
            </a:r>
            <a:r>
              <a:rPr b="1" lang="es-CL" sz="2400" spc="-1" strike="noStrike">
                <a:solidFill>
                  <a:srgbClr val="cc33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 Unicode MS"/>
              </a:rPr>
              <a:t>Tipos de datos pers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806436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Datos Públ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 </a:t>
            </a: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Datos de carácter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Datos especialmente proteg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 </a:t>
            </a: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Datos personales que revelen el origen racial o étnico, las opiniones políticas, las convicciones religiosas o filosóficas, la pertenencia a sindicatos, así como el tratamiento de los datos relativos a la salud o a la sexual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Datos sensi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	</a:t>
            </a: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Aquellos datos personales que se refieren a las características físicas o morales de las personas o a hechos o circunstancias de su vida privada o intimidad, tales como los hábitos personales, el origen racial, las ideologías y opiniones políticas, las creencias o convicciones religiosas, los estados de salud físicos o psíquicos y la vida sex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71640" y="304920"/>
            <a:ext cx="61437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Arial Unicode MS"/>
              </a:rPr>
              <a:t>Concepto de Tratamiento de Datos Pers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15480" cy="50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Calibri"/>
              </a:rPr>
              <a:t>Art.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Calibri"/>
              </a:rPr>
              <a:t>c) por "tratamiento automatizado" se entiende las operaciones que a continuación se indican efectuadas en su totalidad o en parte con ayuda de procedimientos automatizad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Calibri"/>
              </a:rPr>
              <a:t>Registro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Calibri"/>
              </a:rPr>
              <a:t>aplicación a estos datos de operaciones lógicas aritmé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Calibri"/>
              </a:rPr>
              <a:t>modificación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Calibri"/>
              </a:rPr>
              <a:t>borrado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Calibri"/>
              </a:rPr>
              <a:t>extracción de datos del fich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Calibri"/>
              </a:rPr>
              <a:t>Difusión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Calibri"/>
              </a:rPr>
              <a:t>S/e Art. 3 c) opción de los estados para extender su aplicación a tratamiento m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Arial Unicode MS"/>
              </a:rPr>
              <a:t>Concepto en la ley 196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7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 Unicode MS"/>
              </a:rPr>
              <a:t>Art. 2.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 Unicode MS"/>
              </a:rPr>
              <a:t>b) "tratamiento de datos personales”: cualquier operación o conjunto de operaciones, efectuadas o no, mediante procedimientos automatizados, y aplicadas a datos personales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371600" y="3352680"/>
            <a:ext cx="312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3300"/>
                </a:solidFill>
                <a:latin typeface="Arial Narrow"/>
              </a:rPr>
              <a:t>Recogi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3300"/>
                </a:solidFill>
                <a:latin typeface="Arial Narrow"/>
              </a:rPr>
              <a:t>Regist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3300"/>
                </a:solidFill>
                <a:latin typeface="Arial Narrow"/>
              </a:rPr>
              <a:t>Organiz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3300"/>
                </a:solidFill>
                <a:latin typeface="Arial Narrow"/>
              </a:rPr>
              <a:t>Conserv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3300"/>
                </a:solidFill>
                <a:latin typeface="Arial Narrow"/>
              </a:rPr>
              <a:t>Elaboración o modific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3300"/>
                </a:solidFill>
                <a:latin typeface="Arial Narrow"/>
              </a:rPr>
              <a:t>Extrac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3300"/>
                </a:solidFill>
                <a:latin typeface="Arial Narrow"/>
              </a:rPr>
              <a:t>Consul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3300"/>
                </a:solidFill>
                <a:latin typeface="Arial Narrow"/>
              </a:rPr>
              <a:t>Utiliz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292720" y="3213000"/>
            <a:ext cx="31431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3300"/>
                </a:solidFill>
                <a:latin typeface="Arial Narrow"/>
              </a:rPr>
              <a:t>comunicación por transmis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3300"/>
                </a:solidFill>
                <a:latin typeface="Arial Narrow"/>
              </a:rPr>
              <a:t>Difus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3300"/>
                </a:solidFill>
                <a:latin typeface="Arial Narrow"/>
              </a:rPr>
              <a:t>Cualquier otra forma que facilite el acceso a los mism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3300"/>
                </a:solidFill>
                <a:latin typeface="Arial Narrow"/>
              </a:rPr>
              <a:t>Cotejo o interconexión, Bloque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cc3300"/>
                </a:solidFill>
                <a:latin typeface="Arial Narrow"/>
              </a:rPr>
              <a:t>Supresión o destrucción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4648320" y="32767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Arial Unicode MS"/>
              </a:rPr>
              <a:t>Principios relativos al trat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280360" cy="57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 Unicode MS"/>
              </a:rPr>
              <a:t>Calidad de los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a) Se obtendrán y tratarán 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 Unicode MS"/>
              </a:rPr>
              <a:t>leal y legítimamente</a:t>
            </a: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b) Se registrarán para 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 Unicode MS"/>
              </a:rPr>
              <a:t>finalidades determinadas</a:t>
            </a: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 y legítimas, y no se utilizarán de una forma incompatible con dichas finalidad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c) Serán 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 Unicode MS"/>
              </a:rPr>
              <a:t>adecuados, pertinentes y no excesivos</a:t>
            </a: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 en relación con las finalidades para las cuales se hayan registra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d) Serán 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 Unicode MS"/>
              </a:rPr>
              <a:t>exactos</a:t>
            </a: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 y si fuera necesario puestos al dí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e) Se conservarán bajo una forma que permita la identificación de las personas concernidas 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 Unicode MS"/>
              </a:rPr>
              <a:t>durante un período de tiempo</a:t>
            </a: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 que no exceda del necesario para las finalidades para las cuales se hayan regist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 Unicode MS"/>
              </a:rPr>
              <a:t>Seguridad de los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rial Unicode MS"/>
              </a:rPr>
              <a:t>Medidas apropiadas para evitar: destrucción o pérdida, accesos o difusión no autoriz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09480" y="2514600"/>
            <a:ext cx="7772400" cy="25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Todo conjunto estructurado de datos personales, accesibles con arreglo a criterios determinados, ya sea centralizado, descentralizado o repartido de forma funcional o geográfic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Fases manuales quedan bajo la directiva en la medida que respondan  al concepto de fich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3347640" y="304920"/>
            <a:ext cx="556740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Arial Unicode MS"/>
              </a:rPr>
              <a:t>Concepto de Fichero de Datos Personales en Europ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229600" cy="17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Registro o banco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 </a:t>
            </a: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el conjunto organizado de datos de carácter personal, sea automatizado o no y cualquiera sea la forma o modalidad de su creación u organización, que permita relacionar los datos entre sí, así como realizar todo tipo de tratamiento de datos.</a:t>
            </a:r>
            <a:r>
              <a:rPr b="1" lang="es-CL" sz="2000" spc="-1" strike="noStrike">
                <a:solidFill>
                  <a:srgbClr val="cc33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19280" y="274680"/>
            <a:ext cx="5267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3300"/>
                </a:solidFill>
                <a:latin typeface="Arial Unicode MS"/>
              </a:rPr>
              <a:t>Operaciones del tratamiento de datos pers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99640" y="2852280"/>
            <a:ext cx="7210440" cy="284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 Unicode MS"/>
              </a:rPr>
              <a:t>Almacenamiento de datos, </a:t>
            </a: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la conservación o custodia de datos en un registro o banco de d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 Unicode MS"/>
              </a:rPr>
              <a:t>Comunicación o transmisión de datos, </a:t>
            </a: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dar a conocer de cualquier forma los datos de carácter personal a personas distintas del titular, sean determinadas o indeterminadas.</a:t>
            </a:r>
            <a:r>
              <a:rPr b="0" lang="es-CL" sz="2400" spc="-1" strike="noStrike">
                <a:solidFill>
                  <a:srgbClr val="cc33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Arial Unicode MS"/>
              </a:rPr>
              <a:t>Origen de la Prot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285840" y="4071960"/>
            <a:ext cx="8429400" cy="2554200"/>
          </a:xfrm>
          <a:prstGeom prst="rect">
            <a:avLst/>
          </a:pr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Abadi MT Condensed Light"/>
              </a:rPr>
              <a:t>“</a:t>
            </a:r>
            <a:r>
              <a:rPr b="0" lang="es-ES_tradnl" sz="2000" spc="-1" strike="noStrike">
                <a:solidFill>
                  <a:srgbClr val="cc3300"/>
                </a:solidFill>
                <a:latin typeface="Abadi MT Condensed Light"/>
              </a:rPr>
              <a:t>Right to be alon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Abadi MT Condensed Light"/>
              </a:rPr>
              <a:t>Concepción privat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Abadi MT Condensed Light"/>
              </a:rPr>
              <a:t>Se construye la argumentación a partir del derecho de propiedad (proper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1285920" y="1071720"/>
            <a:ext cx="7451640" cy="2209680"/>
          </a:xfrm>
          <a:prstGeom prst="cloudCallout">
            <a:avLst>
              <a:gd name="adj1" fmla="val -26907"/>
              <a:gd name="adj2" fmla="val 73851"/>
            </a:avLst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88928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2071800" y="1428840"/>
            <a:ext cx="647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993300"/>
                </a:solidFill>
                <a:latin typeface="Times New Roman"/>
                <a:ea typeface="Raavi"/>
              </a:rPr>
              <a:t>1890-1891</a:t>
            </a:r>
            <a:r>
              <a:rPr b="1" i="1" lang="es-ES_tradnl" sz="2800" spc="-1" strike="noStrike">
                <a:solidFill>
                  <a:srgbClr val="cc3300"/>
                </a:solidFill>
                <a:latin typeface="Times New Roman"/>
                <a:ea typeface="Raavi"/>
              </a:rPr>
              <a:t> : Brandeis and War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993300"/>
                </a:solidFill>
                <a:latin typeface="Times New Roman"/>
                <a:ea typeface="Raavi"/>
              </a:rPr>
              <a:t>“</a:t>
            </a:r>
            <a:r>
              <a:rPr b="1" i="1" lang="es-ES_tradnl" sz="2800" spc="-1" strike="noStrike">
                <a:solidFill>
                  <a:srgbClr val="993300"/>
                </a:solidFill>
                <a:latin typeface="Times New Roman"/>
                <a:ea typeface="Raavi"/>
              </a:rPr>
              <a:t>The right of privacy” Harvard Law Review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6920" y="2491920"/>
            <a:ext cx="749952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 Unicode MS"/>
              </a:rPr>
              <a:t>Procedimiento de disociación de datos, </a:t>
            </a: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todo tratamiento de datos personales de manera que la información que se obtenga no pueda asociarse a persona determinada o determin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 Unicode MS"/>
              </a:rPr>
              <a:t>Modificación de datos</a:t>
            </a: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, todo cambio en el contenido de los datos almacenados en registros o bancos de datos.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2349360"/>
            <a:ext cx="814716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Han de ser modificados cuando sean erróneos, inexactos, equívocos o incompl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99640" y="2421000"/>
            <a:ext cx="7139160" cy="29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 Unicode MS"/>
              </a:rPr>
              <a:t>Bloqueo de datos, </a:t>
            </a: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la suspensión temporal de cualquier operación de tratamiento de los datos almace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 Unicode MS"/>
              </a:rPr>
              <a:t>Eliminación o cancelación de datos, </a:t>
            </a: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la destrucción de datos almacenados en registros o bancos de datos, cualquiera fuere el procedimiento empleado para e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Los datos personales deberán ser </a:t>
            </a:r>
            <a:r>
              <a:rPr b="1" lang="es-ES" sz="2400" spc="-1" strike="noStrike" u="sng">
                <a:solidFill>
                  <a:srgbClr val="cc3300"/>
                </a:solidFill>
                <a:uFillTx/>
                <a:latin typeface="Arial Unicode MS"/>
              </a:rPr>
              <a:t>eliminados </a:t>
            </a: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o cancelados cuando su almacenamiento carezca de fundamento legal o cuando hayan cadu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Se </a:t>
            </a:r>
            <a:r>
              <a:rPr b="1" lang="es-ES" sz="2400" spc="-1" strike="noStrike" u="sng">
                <a:solidFill>
                  <a:srgbClr val="cc3300"/>
                </a:solidFill>
                <a:uFillTx/>
                <a:latin typeface="Arial Unicode MS"/>
              </a:rPr>
              <a:t>bloquearán</a:t>
            </a: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 los datos personales cuya exactitud no pueda ser establecida o cuya vigencia sea dudosa y respecto de los cuales no corresponda la cance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El responsable del banco de datos personales procederá a la </a:t>
            </a:r>
            <a:r>
              <a:rPr b="1" lang="es-ES" sz="2400" spc="-1" strike="noStrike" u="sng">
                <a:solidFill>
                  <a:srgbClr val="cc3300"/>
                </a:solidFill>
                <a:uFillTx/>
                <a:latin typeface="Arial Unicode MS"/>
              </a:rPr>
              <a:t>eliminación</a:t>
            </a: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, modificación o bloqueo de los datos, en su caso, sin necesidad de requerimiento del tit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Arial Unicode MS"/>
              </a:rPr>
              <a:t>Manifestaciones de los principios del tratamiento de datos en la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3300"/>
                </a:solidFill>
                <a:latin typeface="Arial Unicode MS"/>
              </a:rPr>
              <a:t>Condiciones de lic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Cuando la ley auto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Cuando medie autorización del titular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El tratamiento de los datos personales sólo puede efectuarse cuando esta ley u otras disposiciones legales lo autoricen o el titular consienta expresamente en ello.</a:t>
            </a:r>
            <a:r>
              <a:rPr b="0" lang="es-CL" sz="2000" spc="-1" strike="noStrike">
                <a:solidFill>
                  <a:srgbClr val="cc33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Consentimiento inform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Por escr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Ex 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Revo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Arial Unicode MS"/>
              </a:rPr>
              <a:t>Excepciones al consent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No requiere autorización el tratamiento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3300"/>
                </a:solidFill>
                <a:latin typeface="Arial Unicode MS"/>
              </a:rPr>
              <a:t>En razón del tipo de dato</a:t>
            </a:r>
            <a:r>
              <a:rPr b="0" lang="es-ES" sz="1400" spc="-1" strike="noStrike">
                <a:solidFill>
                  <a:srgbClr val="cc33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3300"/>
                </a:solidFill>
                <a:latin typeface="Arial Unicode MS"/>
              </a:rPr>
              <a:t>Datos personales que provengan o que se recolecten de </a:t>
            </a:r>
            <a:r>
              <a:rPr b="1" lang="es-ES" sz="1400" spc="-1" strike="noStrike" u="sng">
                <a:solidFill>
                  <a:srgbClr val="cc3300"/>
                </a:solidFill>
                <a:uFillTx/>
                <a:latin typeface="Arial Unicode MS"/>
              </a:rPr>
              <a:t>fuentes accesibles al público</a:t>
            </a:r>
            <a:r>
              <a:rPr b="0" lang="es-ES" sz="1400" spc="-1" strike="noStrike">
                <a:solidFill>
                  <a:srgbClr val="cc3300"/>
                </a:solidFill>
                <a:latin typeface="Arial Unicode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3300"/>
                </a:solidFill>
                <a:latin typeface="Arial Unicode MS"/>
              </a:rPr>
              <a:t>Cuando sean de carácter económico, financiero, bancario o comer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3300"/>
                </a:solidFill>
                <a:latin typeface="Arial Unicode MS"/>
              </a:rPr>
              <a:t>Se contengan en </a:t>
            </a:r>
            <a:r>
              <a:rPr b="1" lang="es-ES" sz="1400" spc="-1" strike="noStrike" u="sng">
                <a:solidFill>
                  <a:srgbClr val="cc3300"/>
                </a:solidFill>
                <a:uFillTx/>
                <a:latin typeface="Arial Unicode MS"/>
              </a:rPr>
              <a:t>listados relativos a una categoría de personas</a:t>
            </a:r>
            <a:r>
              <a:rPr b="0" lang="es-ES" sz="1400" spc="-1" strike="noStrike">
                <a:solidFill>
                  <a:srgbClr val="cc3300"/>
                </a:solidFill>
                <a:latin typeface="Arial Unicode MS"/>
              </a:rPr>
              <a:t> que se limiten a indicar antecedentes tales como la pertenencia del individuo a ese grupo, su profesión o actividad, sus títulos educativos, dirección o fecha de nacimiento,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3300"/>
                </a:solidFill>
                <a:latin typeface="Arial Unicode MS"/>
              </a:rPr>
              <a:t>En razón de la fin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3300"/>
                </a:solidFill>
                <a:latin typeface="Arial Unicode MS"/>
              </a:rPr>
              <a:t>Sean </a:t>
            </a:r>
            <a:r>
              <a:rPr b="1" lang="es-ES" sz="1400" spc="-1" strike="noStrike" u="sng">
                <a:solidFill>
                  <a:srgbClr val="cc3300"/>
                </a:solidFill>
                <a:uFillTx/>
                <a:latin typeface="Arial Unicode MS"/>
              </a:rPr>
              <a:t>necesarios para comunicaciones comerciales</a:t>
            </a:r>
            <a:r>
              <a:rPr b="0" lang="es-ES" sz="1400" spc="-1" strike="noStrike">
                <a:solidFill>
                  <a:srgbClr val="cc3300"/>
                </a:solidFill>
                <a:latin typeface="Arial Unicode MS"/>
              </a:rPr>
              <a:t> de respuesta directa o comercialización o venta directa de bienes o servici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3300"/>
                </a:solidFill>
                <a:latin typeface="Arial Unicode MS"/>
              </a:rPr>
              <a:t>En razón del sujeto que trata da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3300"/>
                </a:solidFill>
                <a:latin typeface="Arial Unicode MS"/>
              </a:rPr>
              <a:t>tratamiento de datos personales que realicen </a:t>
            </a:r>
            <a:r>
              <a:rPr b="1" lang="es-ES" sz="1400" spc="-1" strike="noStrike" u="sng">
                <a:solidFill>
                  <a:srgbClr val="cc3300"/>
                </a:solidFill>
                <a:uFillTx/>
                <a:latin typeface="Arial Unicode MS"/>
              </a:rPr>
              <a:t>personas jurídicas privadas</a:t>
            </a:r>
            <a:r>
              <a:rPr b="0" lang="es-ES" sz="1400" spc="-1" strike="noStrike">
                <a:solidFill>
                  <a:srgbClr val="cc3300"/>
                </a:solidFill>
                <a:latin typeface="Arial Unicode MS"/>
              </a:rPr>
              <a:t> para el uso exclusivo suyo, de sus asociados y de las entidades a que están afiliadas, con fines estadísticos, de tarificación u otros de beneficio general de aquéll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3300"/>
                </a:solidFill>
                <a:latin typeface="Arial Unicode MS"/>
              </a:rPr>
              <a:t>Tratamiento de datos que realiza el Estado en el ámbito de su compet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00000"/>
                </a:solidFill>
                <a:latin typeface="Tahoma"/>
              </a:rPr>
              <a:t>Calidad de los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228600" y="2666880"/>
            <a:ext cx="62485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82760" indent="-200160">
              <a:lnSpc>
                <a:spcPct val="110000"/>
              </a:lnSpc>
              <a:buClr>
                <a:srgbClr val="cc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Tahoma"/>
              </a:rPr>
              <a:t>Eliminación de datos cadu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00160">
              <a:lnSpc>
                <a:spcPct val="110000"/>
              </a:lnSpc>
              <a:buClr>
                <a:srgbClr val="cc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Tahoma"/>
              </a:rPr>
              <a:t>Eliminación de datos que estén fuera de su compe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00160">
              <a:lnSpc>
                <a:spcPct val="110000"/>
              </a:lnSpc>
              <a:buClr>
                <a:srgbClr val="cc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Tahoma"/>
              </a:rPr>
              <a:t>Bloqueo de datos dudo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00160">
              <a:lnSpc>
                <a:spcPct val="110000"/>
              </a:lnSpc>
              <a:buClr>
                <a:srgbClr val="cc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Tahoma"/>
              </a:rPr>
              <a:t>Modificación de datos inexactos, equívocos, incompl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6553080" y="3352680"/>
            <a:ext cx="2362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5120" indent="-19512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Tahoma"/>
              </a:rPr>
              <a:t>Sin necesidad de requerimiento del tit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990720" y="5029200"/>
            <a:ext cx="7619760" cy="1703880"/>
          </a:xfrm>
          <a:prstGeom prst="rect">
            <a:avLst/>
          </a:pr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00"/>
                </a:solidFill>
                <a:latin typeface="Tahoma"/>
              </a:rPr>
              <a:t>Dato Caduco es el que ha perdido actu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50000"/>
              </a:lnSpc>
              <a:spcBef>
                <a:spcPts val="125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Por mandato de la 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50000"/>
              </a:lnSpc>
              <a:spcBef>
                <a:spcPts val="125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Por el cumplimiento de una cond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50000"/>
              </a:lnSpc>
              <a:spcBef>
                <a:spcPts val="125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Por la expiración del plazo establecido para su vig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50000"/>
              </a:lnSpc>
              <a:spcBef>
                <a:spcPts val="125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ahoma"/>
              </a:rPr>
              <a:t>Por el cambio de hechos o circunstancias que consig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990720" y="13716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0000"/>
                </a:solidFill>
                <a:latin typeface="Tahoma"/>
              </a:rPr>
              <a:t>Calidad de los datos: </a:t>
            </a:r>
            <a:r>
              <a:rPr b="0" lang="es-ES_tradnl" sz="2400" spc="-1" strike="noStrike">
                <a:solidFill>
                  <a:srgbClr val="cc3300"/>
                </a:solidFill>
                <a:latin typeface="Tahoma"/>
              </a:rPr>
              <a:t>En todo caso la información debe ser exacta, actualizada y responder con veracidad a la situación real del titular de los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00000"/>
                </a:solidFill>
                <a:latin typeface="Tahoma"/>
              </a:rPr>
              <a:t>Casos de datos “problemático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Arial Unicode MS"/>
              </a:rPr>
              <a:t>Datos que son objeto de un litig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Arial Unicode MS"/>
              </a:rPr>
              <a:t>Datos referidos a sanciones penales y administr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Artículo 21.- Los organismos públicos que sometan a tratamiento datos personales relativos a condenas por delitos, infracciones administrativas o faltas disciplinarias, no podrán comunicarlos una vez prescrita la acción penal o administrativa, o cumplida o prescrita la sanción o la p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Exceptúase los casos en que esa información les sea solicitada por los tribunales de Justicia u otros organismos públicos dentro del ámbito de su competencia, quienes deberán guardar respecto de ella la debida reserva o secreto y, en todo caso, les será aplicable lo dispuesto en los artículos 5º, 7°, 11 y 1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Arial Unicode MS"/>
              </a:rPr>
              <a:t>Fin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Artículo 9°.- Los datos personales deben utilizarse 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 Unicode MS"/>
              </a:rPr>
              <a:t>sólo para los fines</a:t>
            </a: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 para los cuales hubieren sido recolectados, salvo que provengan o se hayan recolectado de fuentes accesibles al público. En todo caso, la información debe ser exacta, actualizada y responder con veracidad a la situación real del titular de los d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2"/>
          <p:cNvSpPr/>
          <p:nvPr/>
        </p:nvSpPr>
        <p:spPr>
          <a:xfrm>
            <a:off x="0" y="0"/>
            <a:ext cx="3657600" cy="3200400"/>
          </a:xfrm>
          <a:prstGeom prst="flowChartMultidocument">
            <a:avLst/>
          </a:prstGeom>
          <a:solidFill>
            <a:srgbClr val="ffffcc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0" y="457200"/>
            <a:ext cx="2971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3300"/>
                </a:solidFill>
                <a:latin typeface="Calibri"/>
              </a:rPr>
              <a:t>Alc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3300"/>
                </a:solidFill>
                <a:latin typeface="Calibri"/>
              </a:rPr>
              <a:t>Derecho a ser dejado s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3300"/>
                </a:solidFill>
                <a:latin typeface="Calibri"/>
              </a:rPr>
              <a:t>Frente a los mass media (medios de comunicación de mas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057400" y="2209680"/>
            <a:ext cx="3657600" cy="3200400"/>
          </a:xfrm>
          <a:prstGeom prst="flowChartMultidocument">
            <a:avLst/>
          </a:prstGeom>
          <a:solidFill>
            <a:srgbClr val="ffffcc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057400" y="2666880"/>
            <a:ext cx="3200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993300"/>
                </a:solidFill>
                <a:latin typeface="Calibri"/>
              </a:rPr>
              <a:t>Vulneraciones al 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Violaciones a la confianza (Breach of confid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Violaciones al derecho de autor (copyrigh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Calibri"/>
              </a:rPr>
              <a:t>Difamación (defam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357880" y="3857760"/>
            <a:ext cx="3504960" cy="2666880"/>
          </a:xfrm>
          <a:prstGeom prst="flowChartMultidocument">
            <a:avLst/>
          </a:prstGeom>
          <a:solidFill>
            <a:srgbClr val="ffffcc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57880" y="4286160"/>
            <a:ext cx="3047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3300"/>
                </a:solidFill>
                <a:latin typeface="Calibri"/>
              </a:rPr>
              <a:t>Reparación:</a:t>
            </a:r>
            <a:r>
              <a:rPr b="1" i="1" lang="es-ES_tradnl" sz="1800" spc="-1" strike="noStrike">
                <a:solidFill>
                  <a:srgbClr val="9933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339966"/>
                </a:solidFill>
                <a:latin typeface="Calibri"/>
              </a:rPr>
              <a:t>El mal causado debe ser objeto de una avaluación pecuniaria a efectos de su indem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AutoShape 8"/>
          <p:cNvCxnSpPr/>
          <p:nvPr/>
        </p:nvCxnSpPr>
        <p:spPr>
          <a:xfrm>
            <a:off x="5643720" y="2928960"/>
            <a:ext cx="1219680" cy="915120"/>
          </a:xfrm>
          <a:prstGeom prst="bentConnector2">
            <a:avLst/>
          </a:prstGeom>
          <a:ln w="76320">
            <a:solidFill>
              <a:srgbClr val="99ff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" name="AutoShape 9"/>
          <p:cNvCxnSpPr/>
          <p:nvPr/>
        </p:nvCxnSpPr>
        <p:spPr>
          <a:xfrm flipH="1" rot="16200000">
            <a:off x="1119960" y="3237480"/>
            <a:ext cx="884880" cy="838800"/>
          </a:xfrm>
          <a:prstGeom prst="bentConnector2">
            <a:avLst/>
          </a:prstGeom>
          <a:ln w="76320">
            <a:solidFill>
              <a:srgbClr val="99ff6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7" name="Text Box 10"/>
          <p:cNvSpPr/>
          <p:nvPr/>
        </p:nvSpPr>
        <p:spPr>
          <a:xfrm>
            <a:off x="4429080" y="214200"/>
            <a:ext cx="4395960" cy="1618560"/>
          </a:xfrm>
          <a:prstGeom prst="rect">
            <a:avLst/>
          </a:prstGeom>
          <a:solidFill>
            <a:srgbClr val="ffffcc"/>
          </a:solidFill>
          <a:ln w="7632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80"/>
                </a:solidFill>
                <a:latin typeface="Times New Roman"/>
              </a:rPr>
              <a:t>Intimidad es algo más que ser dejado s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800080"/>
                </a:solidFill>
                <a:latin typeface="Times New Roman"/>
              </a:rPr>
              <a:t>Medios tecnológicos generan nuevas formas de agresión (algo más que los medios de comunicaciones de mas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Arial Unicode MS"/>
              </a:rPr>
              <a:t>Secr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002800" cy="26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Artículo 7°.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Las personas que trabajan en el tratamiento de datos personales, tanto en organismos públicos como privados, están obligadas a 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 Unicode MS"/>
              </a:rPr>
              <a:t>guardar secreto</a:t>
            </a: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 sobre los mismos, cuando provengan o hayan sido recolectados de fuentes no accesibles al público, como asimismo sobre los demás datos y antecedentes relacionados con el banco de datos, obligación que no cesa por haber terminado sus actividades en ese ca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Arial Unicode MS"/>
              </a:rPr>
              <a:t>Fuente accesible al públ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0920" y="2707920"/>
            <a:ext cx="800244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 Unicode MS"/>
              </a:rPr>
              <a:t>Fuentes accesibles al público</a:t>
            </a: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, los registros o recopilaciones de datos personales, públicos o privados, de acceso no restringido o reservado a los solicitantes</a:t>
            </a:r>
            <a:r>
              <a:rPr b="0" lang="es-CL" sz="2000" spc="-1" strike="noStrike">
                <a:solidFill>
                  <a:srgbClr val="cc33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Arial Unicode MS"/>
              </a:rPr>
              <a:t>Segur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821844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Artículo 11.- El responsable de los registros o bases donde se almacenen datos personales con posterioridad a su recolección </a:t>
            </a: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 Unicode MS"/>
              </a:rPr>
              <a:t>deberá cuidar</a:t>
            </a: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 de ellos con la debida diligencia, haciéndose responsable de los dañ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3300"/>
                </a:solidFill>
                <a:latin typeface="Arial Unicode MS"/>
              </a:rPr>
              <a:t>Artículo 5º.- El responsable del registro o banco de datos personales podrá establecer un procedimiento automatizado de transmisión, siempre que se cautelen los derechos de los titulares y la transmisión guarde relación con las tareas y finalidades de los organismos participa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3300"/>
                </a:solidFill>
                <a:latin typeface="Arial Unicode MS"/>
              </a:rPr>
              <a:t>Frente a un requerimiento de datos personales mediante una red electrónica, deberá dejarse constancia 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3300"/>
                </a:solidFill>
                <a:latin typeface="Arial Unicode MS"/>
              </a:rPr>
              <a:t>a) La individualización del requiren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3300"/>
                </a:solidFill>
                <a:latin typeface="Arial Unicode MS"/>
              </a:rPr>
              <a:t>b) El motivo y el propósito del requerimiento,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876"/>
              </a:spcBef>
              <a:buClr>
                <a:srgbClr val="cc33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3300"/>
                </a:solidFill>
                <a:latin typeface="Arial Unicode MS"/>
              </a:rPr>
              <a:t>c) El tipo de datos que se transmi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3300"/>
                </a:solidFill>
                <a:latin typeface="Arial Unicode MS"/>
              </a:rPr>
              <a:t>La admisibilidad del requerimiento será evaluada por el responsable del banco de datos que lo recibe, pero la responsabilidad por dicha petición será de quien la hag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3300"/>
                </a:solidFill>
                <a:latin typeface="Arial Unicode MS"/>
              </a:rPr>
              <a:t>El receptor sólo puede utilizar los datos personales para los fines que motivaron la transmis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3300"/>
                </a:solidFill>
                <a:latin typeface="Arial Unicode MS"/>
              </a:rPr>
              <a:t>No se aplicará este artículo cuando se trate de datos personales accesibles al público en gener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3300"/>
                </a:solidFill>
                <a:latin typeface="Arial Unicode MS"/>
              </a:rPr>
              <a:t>Esta disposición tampoco es aplicable cuando se transmiten datos personales a organizaciones internacionales en cumplimiento de lo dispuesto en los tratados y convenios vige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Arial Unicode MS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Derechos del titular de datos personales (art. 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Derecho de ac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Derecho de cance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Derecho de Bloqu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Arial Unicode MS"/>
              </a:rPr>
              <a:t>Condi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 Unicode MS"/>
              </a:rPr>
              <a:t>Gra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 Unicode MS"/>
              </a:rPr>
              <a:t>la información, modificación o eliminación de los datos serán absolutamente gratuitas, debiendo proporcionarse, además, a solicitud del titular, copia del registro alterado en la parte pertinente. Si se efectuasen nuevas modificaciones o eliminaciones de datos, el titular podrá, asimismo, obtener sin costo copia del registro actualizado, siempre que haya transcurrido a lo menos seis meses desde la precedente oportunidad en que hizo uso de este derecho. El derecho a obtener copia gratuita sólo podrá ejercerse personal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 Unicode MS"/>
              </a:rPr>
              <a:t>Ubic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25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 Unicode MS"/>
              </a:rPr>
              <a:t>Artículo 14.- Si los datos personales están en un banco de datos al cual tienen acceso diversos organismos, el titular puede requerir información a cualquiera de el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Arial Unicode MS"/>
              </a:rPr>
              <a:t>Limit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Artículo 13.- El derecho de las personas a la información, modificación, cancelación o bloqueo de sus datos personales no puede ser limitado por medio de ningún acto o conven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Artículo 15.- No obstante lo dispuesto en este Título, no podrá solicitarse información, modificación, cancelación o bloqueo de datos personales cuando ello impida o entorpezca el debido cumplimiento de las funciones fiscalizadoras del organismo público requerido, o afecte la reserva o secreto establecidos en disposiciones legales o reglamentarias, la seguridad de la Nación o el interés n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c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3300"/>
                </a:solidFill>
                <a:latin typeface="Arial Unicode MS"/>
              </a:rPr>
              <a:t>Tampoco podrá pedirse la modificación, cancelación o bloqueo de datos personales almacenados por mandato legal, fuera de los casos contemplados en la ley respec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Arial Unicode MS"/>
              </a:rPr>
              <a:t>Origen de la Protección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533520" y="5562720"/>
            <a:ext cx="4952880" cy="1066680"/>
          </a:xfrm>
          <a:prstGeom prst="foldedCorner">
            <a:avLst>
              <a:gd name="adj" fmla="val 12500"/>
            </a:avLst>
          </a:pr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ab2c1b"/>
                </a:solidFill>
                <a:latin typeface="Calibri"/>
                <a:ea typeface="Raavi"/>
              </a:rPr>
              <a:t> </a:t>
            </a:r>
            <a:r>
              <a:rPr b="1" i="1" lang="es-ES_tradnl" sz="2800" spc="-1" strike="noStrike">
                <a:solidFill>
                  <a:srgbClr val="ab2c1b"/>
                </a:solidFill>
                <a:latin typeface="Calibri"/>
                <a:ea typeface="Raavi"/>
              </a:rPr>
              <a:t>Ensayo de William Pros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alibri"/>
                <a:ea typeface="Raavi"/>
              </a:rPr>
              <a:t>Publicado en California Law Review. 19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1403280" y="1371600"/>
            <a:ext cx="7740720" cy="4114800"/>
          </a:xfrm>
          <a:prstGeom prst="cloudCallout">
            <a:avLst>
              <a:gd name="adj1" fmla="val -46962"/>
              <a:gd name="adj2" fmla="val 50541"/>
            </a:avLst>
          </a:prstGeom>
          <a:solidFill>
            <a:srgbClr val="fceef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133720" y="1828800"/>
            <a:ext cx="6400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alibri"/>
              </a:rPr>
              <a:t>Identifica cuatro situaciones violatori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>
              <a:lnSpc>
                <a:spcPct val="100000"/>
              </a:lnSpc>
              <a:buClr>
                <a:srgbClr val="ff3300"/>
              </a:buClr>
              <a:buFont typeface="Davi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33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993300"/>
                </a:solidFill>
                <a:latin typeface="Calibri"/>
              </a:rPr>
              <a:t>Intrusión en la soledad de la vida de una persona o en sus asuntos priv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>
              <a:lnSpc>
                <a:spcPct val="100000"/>
              </a:lnSpc>
              <a:buClr>
                <a:srgbClr val="ff3300"/>
              </a:buClr>
              <a:buFont typeface="Davi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3300"/>
                </a:solidFill>
                <a:latin typeface="Calibri"/>
              </a:rPr>
              <a:t> </a:t>
            </a:r>
            <a:r>
              <a:rPr b="1" lang="es-ES_tradnl" sz="2000" spc="-1" strike="noStrike">
                <a:solidFill>
                  <a:srgbClr val="993300"/>
                </a:solidFill>
                <a:latin typeface="Calibri"/>
              </a:rPr>
              <a:t>Divulgación de hechos embarazosos que afectan a la perso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>
              <a:lnSpc>
                <a:spcPct val="100000"/>
              </a:lnSpc>
              <a:buClr>
                <a:srgbClr val="ff3300"/>
              </a:buClr>
              <a:buFont typeface="Davi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3300"/>
                </a:solidFill>
                <a:latin typeface="Calibri"/>
              </a:rPr>
              <a:t>  </a:t>
            </a:r>
            <a:r>
              <a:rPr b="1" lang="es-ES_tradnl" sz="2000" spc="-1" strike="noStrike">
                <a:solidFill>
                  <a:srgbClr val="993300"/>
                </a:solidFill>
                <a:latin typeface="Calibri"/>
              </a:rPr>
              <a:t>Publicidad que podría desprestigiar a la persona frente a la opinión púb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80880">
              <a:lnSpc>
                <a:spcPct val="100000"/>
              </a:lnSpc>
              <a:buClr>
                <a:srgbClr val="ff3300"/>
              </a:buClr>
              <a:buFont typeface="David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3300"/>
                </a:solidFill>
                <a:latin typeface="Calibri"/>
              </a:rPr>
              <a:t>Apropiación (con ventaja para la otra parte) del nombre o aspecto físico del querell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Arial Unicode MS"/>
              </a:rPr>
              <a:t>Origen de la Protección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380880" y="1143000"/>
            <a:ext cx="3733920" cy="1371600"/>
          </a:xfrm>
          <a:custGeom>
            <a:avLst/>
            <a:gdLst>
              <a:gd name="textAreaLeft" fmla="*/ 852480 w 3733920"/>
              <a:gd name="textAreaRight" fmla="*/ 2881440 w 3733920"/>
              <a:gd name="textAreaTop" fmla="*/ 313200 h 1371600"/>
              <a:gd name="textAreaBottom" fmla="*/ 1058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914400" y="15238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333300"/>
                </a:solidFill>
                <a:latin typeface="Times New Roman"/>
              </a:rPr>
              <a:t>Parker: "A Definition of Privacy" (197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4613400" y="1219320"/>
            <a:ext cx="3352680" cy="1523880"/>
          </a:xfrm>
          <a:custGeom>
            <a:avLst/>
            <a:gdLst>
              <a:gd name="textAreaLeft" fmla="*/ 765360 w 3352680"/>
              <a:gd name="textAreaRight" fmla="*/ 2587320 w 335268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5148360" y="16002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333300"/>
                </a:solidFill>
                <a:latin typeface="Times New Roman"/>
              </a:rPr>
              <a:t>Fried:“An Anatomi of Values” (197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914400" y="2971800"/>
            <a:ext cx="32004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i="1" lang="es-ES_tradnl" sz="2000" spc="-1" strike="noStrike">
                <a:solidFill>
                  <a:srgbClr val="cc3300"/>
                </a:solidFill>
                <a:latin typeface="Arial"/>
              </a:rPr>
              <a:t>Control sobre cuando y quien puede percibir distintos aspectos de nuestra persona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cc3300"/>
                </a:solidFill>
                <a:latin typeface="Arial"/>
              </a:rPr>
              <a:t>Control en general de la información que nos concie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0" y="2362320"/>
            <a:ext cx="1066680" cy="304776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533160 h 3047760"/>
              <a:gd name="textAreaBottom" fmla="*/ 220968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50000">
                <a:srgbClr val="ffff00"/>
              </a:gs>
              <a:gs pos="100000">
                <a:srgbClr val="ffc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3851280" y="2743200"/>
            <a:ext cx="411480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8000"/>
                </a:solidFill>
                <a:latin typeface="Arial"/>
              </a:rPr>
              <a:t>”</a:t>
            </a:r>
            <a:r>
              <a:rPr b="1" i="1" lang="es-ES_tradnl" sz="2000" spc="-1" strike="noStrike">
                <a:solidFill>
                  <a:srgbClr val="008000"/>
                </a:solidFill>
                <a:latin typeface="Arial"/>
              </a:rPr>
              <a:t>Control sobre la información que nos concierne”</a:t>
            </a: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s-ES_tradnl" sz="2000" spc="-1" strike="noStrike">
                <a:solidFill>
                  <a:srgbClr val="008000"/>
                </a:solidFill>
                <a:latin typeface="Arial"/>
              </a:rPr>
              <a:t>La Protección se restringe a la percepción u observación que ejercen los terceros sobre nuestra persona (se ejercita directamente sobre nuestra persona y no sobre papeles u otros objetos relativos a és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"/>
          <p:cNvSpPr/>
          <p:nvPr/>
        </p:nvSpPr>
        <p:spPr>
          <a:xfrm>
            <a:off x="7885080" y="2209680"/>
            <a:ext cx="1066680" cy="350532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613440 h 3505320"/>
              <a:gd name="textAreaBottom" fmla="*/ 2541600 h 350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66ff33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2000160" y="357120"/>
            <a:ext cx="67820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3300"/>
                </a:solidFill>
                <a:latin typeface="Abadi MT Condensed Light"/>
              </a:rPr>
              <a:t>Tribunal Constitucional Alem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Abadi MT Condensed Light"/>
              </a:rPr>
              <a:t>sentencia de 15 de diciembre de 19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838080" y="1844640"/>
            <a:ext cx="7981920" cy="4537080"/>
          </a:xfrm>
          <a:prstGeom prst="rect">
            <a:avLst/>
          </a:pr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cc3300"/>
                </a:solidFill>
                <a:latin typeface="Abadi MT Condensed Light"/>
              </a:rPr>
              <a:t>“</a:t>
            </a:r>
            <a:r>
              <a:rPr b="0" i="1" lang="es-CL" sz="2000" spc="-1" strike="noStrike">
                <a:solidFill>
                  <a:srgbClr val="cc3300"/>
                </a:solidFill>
                <a:latin typeface="Abadi MT Condensed Light"/>
              </a:rPr>
              <a:t>...el derecho general de la personalidad... abarca... la facultad del individuo, derivada de la autodeterminación, de decidir básicamente por sí mismo cuando y dentro de qué límites procede revelar situaciones referentes a la propia vida...: la libre eclosión de la personalidad presuponen las condiciones modernas de elaboración de datos la protección del individuo contra la recogida, el almacenamiento, la utilización y la transmisión ilimitada de los datos que le conciernen” </a:t>
            </a:r>
            <a:r>
              <a:rPr b="0" lang="es-CL" sz="2000" spc="-1" strike="noStrike">
                <a:solidFill>
                  <a:srgbClr val="cc3300"/>
                </a:solidFill>
                <a:latin typeface="Abadi MT Condensed Light"/>
              </a:rPr>
              <a:t>y qu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cc3300"/>
                </a:solidFill>
                <a:latin typeface="Abadi MT Condensed Light"/>
              </a:rPr>
              <a:t>“</a:t>
            </a:r>
            <a:r>
              <a:rPr b="0" i="1" lang="es-CL" sz="2000" spc="-1" strike="noStrike">
                <a:solidFill>
                  <a:srgbClr val="cc3300"/>
                </a:solidFill>
                <a:latin typeface="Abadi MT Condensed Light"/>
              </a:rPr>
              <a:t>... las limitaciones de este derecho a la autodeterminación informativa sólo son admisibles en el marco de un interés general superior y necesitan un fundamento legal basado en la Constitución”</a:t>
            </a:r>
            <a:r>
              <a:rPr b="0" lang="es-CL" sz="2000" spc="-1" strike="noStrike">
                <a:solidFill>
                  <a:srgbClr val="cc3300"/>
                </a:solidFill>
                <a:latin typeface="Abadi MT Condensed Light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2362320" y="404640"/>
            <a:ext cx="67816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3300"/>
                </a:solidFill>
                <a:latin typeface="Abadi MT Condensed Light"/>
              </a:rPr>
              <a:t>Tribunal Constitucional de Españ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Abadi MT Condensed Light"/>
              </a:rPr>
              <a:t>sentencia 124/1998, de 15 de junio de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838080" y="2590920"/>
            <a:ext cx="7772400" cy="2666880"/>
          </a:xfrm>
          <a:prstGeom prst="rect">
            <a:avLst/>
          </a:pr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cc3300"/>
                </a:solidFill>
                <a:latin typeface="Abadi MT Condensed Light"/>
              </a:rPr>
              <a:t>“</a:t>
            </a:r>
            <a:r>
              <a:rPr b="0" i="1" lang="es-ES" sz="2000" spc="-1" strike="noStrike">
                <a:solidFill>
                  <a:srgbClr val="cc3300"/>
                </a:solidFill>
                <a:latin typeface="Abadi MT Condensed Light"/>
              </a:rPr>
              <a:t>... un específico instrumento de protección de los derechos del ciudadano frente al uso torticero de la tecnología informática... un derecho fundamental autónomo a controlar el flujo de informaciones que conciernen a cada persona..., pertenezcan o no al ámbito más estricto de la intimidad, para así preservar el pleno ejercicio de sus derecho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2556000" y="142920"/>
            <a:ext cx="611964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3300"/>
                </a:solidFill>
                <a:latin typeface="Abadi MT Condensed Light"/>
              </a:rPr>
              <a:t>Carta de Derechos Fundamenta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3300"/>
                </a:solidFill>
                <a:latin typeface="Abadi MT Condensed Light"/>
              </a:rPr>
              <a:t>de la Unión Europea (2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55640" y="2492280"/>
            <a:ext cx="7765920" cy="3791160"/>
          </a:xfrm>
          <a:prstGeom prst="rect">
            <a:avLst/>
          </a:pr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cc3300"/>
                </a:solidFill>
                <a:latin typeface="Abadi MT Condensed Light"/>
              </a:rPr>
              <a:t>“</a:t>
            </a:r>
            <a:r>
              <a:rPr b="0" i="1" lang="es-ES" sz="2000" spc="-1" strike="noStrike">
                <a:solidFill>
                  <a:srgbClr val="cc3300"/>
                </a:solidFill>
                <a:latin typeface="Abadi MT Condensed Light"/>
              </a:rPr>
              <a:t>... la Unión reconoce los derechos, libertades y principios enunciados a continu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cc3300"/>
                </a:solidFill>
                <a:latin typeface="Abadi MT Condensed Light"/>
              </a:rPr>
              <a:t>Artículo 8. Protección de los bienes de carácter 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cc3300"/>
                </a:solidFill>
                <a:latin typeface="Abadi MT Condensed Light"/>
              </a:rPr>
              <a:t>1. Toda persona tiene derecho a la protección de los datos de carácter personal que la conciern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cc3300"/>
                </a:solidFill>
                <a:latin typeface="Abadi MT Condensed Light"/>
              </a:rPr>
              <a:t>2. Estos datos se tratarán de modo leal, para fines concretos y sobre la base del consentimiento de la persona afectada o en virtud de otro fundamento legítimo previsto por la ley. Toda persona tiene derecho a acceder a los datos recogidos que la conciernan y a su rectif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cc3300"/>
                </a:solidFill>
                <a:latin typeface="Abadi MT Condensed Light"/>
              </a:rPr>
              <a:t>3. El respeto de estas normas quedará sujeto al control de una autoridad independ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" dur="1" fill="hold"/>
                                  <p:tgtEl>
                                    <p:spTgt spid="7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20:36:26Z</dcterms:created>
  <dc:creator>Facultad de Derecho</dc:creator>
  <dc:description/>
  <dc:language>en-US</dc:language>
  <cp:lastModifiedBy>creusser</cp:lastModifiedBy>
  <dcterms:modified xsi:type="dcterms:W3CDTF">2008-04-10T01:34:47Z</dcterms:modified>
  <cp:revision>12</cp:revision>
  <dc:subject/>
  <dc:title>Diapositiva 1</dc:title>
</cp:coreProperties>
</file>