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ITC Officina Serif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A5FA-D03F-4EA4-A423-620A87A5FF28}" type="slidenum">
              <a:rPr b="0" lang="es-ES_tradnl" sz="1200" spc="-1" strike="noStrike">
                <a:solidFill>
                  <a:srgbClr val="000000"/>
                </a:solidFill>
                <a:latin typeface="ITC Officina Serif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FBC0-B963-437B-9DD6-087E50861059}" type="slidenum">
              <a:rPr b="0" lang="es-ES_tradnl" sz="1200" spc="-1" strike="noStrike">
                <a:solidFill>
                  <a:srgbClr val="000000"/>
                </a:solidFill>
                <a:latin typeface="ITC Officina Serif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9E50-4177-4577-B998-39A7A2DC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FC76-24E4-4239-8791-D54E45D6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5ABA-212A-43D9-8D13-68BEC979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36C1-CC3B-4E23-9F5E-29A5B64E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9ABA-3239-4132-9CDD-F5CB5A35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6380-D400-400E-A894-D19C9AF7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E88D-B0F4-4E07-9962-1EBFD8D6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23EA-D050-4A80-86AC-C5F32DAD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11D0-731A-46A8-93EB-E26FB8BA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B0D8-47A4-45D5-80D3-8F68661B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FE08-CE15-463D-948A-660259AE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8F48-F935-46D0-932C-B6C8C199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82FE-6FCC-4441-8DB3-7B538FC1C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7/Eug&#232;ne_Delacroix_-_La_libert&#233;_guidant_le_peupl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447920" y="2143080"/>
            <a:ext cx="701028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ntique Olive"/>
              </a:rPr>
              <a:t>Derecho de la Informática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ntique Olive"/>
              </a:rPr>
              <a:t>Material de apoyo Nº 1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ntique Olive"/>
              </a:rPr>
              <a:t>Clases 02 y 07 de abril de 2008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214280" y="5072040"/>
            <a:ext cx="7010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ntique Olive"/>
              </a:rPr>
              <a:t>Lorena Donoso Abarca</a:t>
            </a:r>
            <a:endParaRPr b="0" lang="en-US" sz="1800" spc="-1" strike="noStrike">
              <a:solidFill>
                <a:srgbClr val="000000"/>
              </a:solidFill>
              <a:latin typeface="ITC Officina Serif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ntique Olive"/>
              </a:rPr>
              <a:t>Marzo 2008</a:t>
            </a:r>
            <a:endParaRPr b="0" lang="en-US" sz="1800" spc="-1" strike="noStrike">
              <a:solidFill>
                <a:srgbClr val="000000"/>
              </a:solidFill>
              <a:latin typeface="ITC Officina Serif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ntique Olive"/>
              </a:rPr>
              <a:t>ldonoso@uchile.cl</a:t>
            </a:r>
            <a:endParaRPr b="0" lang="en-US" sz="18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57120" y="1856880"/>
            <a:ext cx="8382240" cy="449604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Igualdad ante la 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01d0e"/>
                </a:solidFill>
                <a:latin typeface="Candara"/>
              </a:rPr>
              <a:t>Ante la ley. 19 Nº2; En el ejercicio de los derechos 19 Nº3; En el trato económico 19 Nº22 (Ch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b050"/>
                </a:solidFill>
                <a:latin typeface="Candara"/>
              </a:rPr>
              <a:t>Igualdad en el acceso a los servicios de la sociedad de la inform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Servicio y Acceso Universal</a:t>
            </a: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: en el aprendizaje, el trabajo y la vida cotidiana (</a:t>
            </a: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concepto dinámico y evolutiv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El acceso a servicios y a aplicaciones avanzados a través de puntos públicos de acceso como bibliotecas, escuelas, y otros lugares de reunión social podría ser lo más aproximado al servicios univer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Factores clave: disponibilidad, continuidad, precio, accesibilidad y conocimi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Para lograr los objetivos de igualdad y eficac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Calidad de la 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Sin diferencias de sexo, ni de condición geográfica o discapac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990720" y="2286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Libertad e igualdad como ejes basales de los derechos fundamentales en la S.I.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28440" y="2143080"/>
            <a:ext cx="7429320" cy="457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Libertad en la 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 expr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 Información (informar/ser informad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 mov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 Pens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 reun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 asoc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La libertad guiando al pueblo, Delacroix (18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Imagen:Eugène Delacroix - La liberté guidant le peupl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00680" y="3000240"/>
            <a:ext cx="406872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Derecho de las Tecnologías de la Información y las Comunicac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recho de las Tecnologías de la Información y las Comun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01d0e"/>
                </a:solidFill>
                <a:latin typeface="Candara"/>
              </a:rPr>
              <a:t>Conjunto de normas y principios que regulan las acciones, procesos, productos y relaciones jurídicas surgidas en torno a la confluencia entre en derecho de las telecomunicaciones y la informática (Telemátic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Derechos Fundamentales afectados por las tecnolog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En su formulación / consag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En su funcionamiento práct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Creaciones en la era tecno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Nuevas ob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Nuevas formas de crear-modificar ob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Nuevos soportes a las ob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Relaciones contractuales que se ven afectadas por el uso de tecnolog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Formación del consent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Ejecución de los contr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Delitos  en la era tecno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Medios comisivos que incorporan tecnolog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Nuevos del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Nuevos bienes jurídicos protegido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3810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recho Nue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recho en 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Enfoque multidiscipli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Su sustantividad y autonomía de esta área se sustenta en la existencia de un objeto delimitado, constituido por las tecnologías de tratamiento de la información y las comunica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Objeto Inmediato: Las Tecnologías de la Información y las Comun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Objeto Mediato: La información que es objeto del tratamiento automat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22860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Principios rectores de la regulación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357200" y="1714680"/>
            <a:ext cx="6400800" cy="380988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Libertad de prestación de servicios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Libre competencia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Neutralidad tecnológica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Compatibilidad internacional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Equivalencia de los soportes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No alteración de las categorías del ordenamiento jurídico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Mínima intervención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Libre circulación de la información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1680" y="1428480"/>
            <a:ext cx="807696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andara"/>
              </a:rPr>
              <a:t>conjunto de técnicas destinadas al tratamiento lógico y automático de la información, de acuerdo a los métodos de las ciencias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5"/>
          <p:cNvSpPr/>
          <p:nvPr/>
        </p:nvSpPr>
        <p:spPr>
          <a:xfrm>
            <a:off x="914400" y="990720"/>
            <a:ext cx="8229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42960" y="3143160"/>
            <a:ext cx="8105760" cy="32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andara"/>
              </a:rPr>
              <a:t>almacenar y ordenar,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Monotype Sorts" charset="2"/>
              <a:buChar char="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Candara"/>
              </a:rPr>
              <a:t>según un tratamiento lógico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Monotype Sorts" charset="2"/>
              <a:buChar char="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Candara"/>
              </a:rPr>
              <a:t>con criterio científico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andara"/>
              </a:rPr>
              <a:t>todos los datos necesarios para la resolución de un problema.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143000" indent="-228600"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Datos de Voz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143000" indent="-228600"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Datos de Texto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143000" indent="-228600"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Datos de Imagen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048120" y="152280"/>
            <a:ext cx="5486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Concepto de Informática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857160" y="1371600"/>
            <a:ext cx="7677360" cy="444816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Tecnologías de la Información y las Comunicaciones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máquinas de cálculo automático, aplicadas al almacenamiento, procesamiento  y  transmisión de la información.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Conectadas en redes forma plataformas de tratamiento e intercambio de datos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Digitalización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ndara"/>
              </a:rPr>
              <a:t>Integración de redes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ndara"/>
              </a:rPr>
              <a:t>Terminales multipropósito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685800" y="45720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¿QUE SON LAS TIC?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62120" y="1295280"/>
            <a:ext cx="8001000" cy="500544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I. Información como eje central de las sociedades en general y de la economía en particular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II. Convergencia y Digitalización: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Lo que antes se diferenciaba por los distintos soportes hoy converge en 0 y 1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III. Desmaterialización aparente: 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Sistemas de contratación on line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Eliminación de Fronteras y Límites Difusos: 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Transnacionalización (conflictos de legislación y de jurisdicción)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Convergencia de medios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Flujos de Información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Contexto: La Sociedad de la Información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458200" cy="485748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V. Globaliz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VI. Nuevo Orden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nuevos marginados, los analfabetos 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Nuevos conceptos de organización social, tales como las redes de colaboración o coalisiones colabora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Servicios de información al servicio de una ciudadanía mas informada (empoderad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VII. </a:t>
            </a:r>
            <a:r>
              <a:rPr b="1" lang="es-ES" sz="2000" spc="-1" strike="noStrike">
                <a:solidFill>
                  <a:srgbClr val="3333cc"/>
                </a:solidFill>
                <a:latin typeface="Candara"/>
              </a:rPr>
              <a:t>Valorización de los sistemas produ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Valorización de los servicios por sobre la producción de bie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Servicios de información en el eje cent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533520" y="1828800"/>
            <a:ext cx="8229600" cy="447372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1. Crisis del Estado como unidad sociopolítica de Gobierno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Sociedad virtual paralela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Revelación al sistema normado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Castigos aplicados por la comunidad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2. Identidades culturales particulares en jaque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3. Redes como símbolos de Estado poderoso.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4. Nuevos grupos de presión o interés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cyberliberties, freedom, empresas de telecomunicaciones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80880" y="304920"/>
            <a:ext cx="84582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Aspectos Políticos Relevantes de la Sociedad de  la Información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Sociedad de la Información y relaciones labora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84836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andara"/>
              </a:rPr>
              <a:t>Sistemas de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Sistemas de producción flexi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Globalización de los mercados y de la produ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Convergencia de industrias tradicionalmente sepa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Mercado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La T.I.C., están en permanente transformación y evolución (el concepto de longlife learning, se reproduce nuevament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685800" y="1828800"/>
            <a:ext cx="8001000" cy="3581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Masificación y capacidad de proceso de las máquinas ha provocado un salto cualitativo, una revolución en los sistemas de producción.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Producción en serie/ producción “a pedido”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Mantención de stocks /desarrollo de canales eficaces de venta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Atención especializada “en tienda” / servicio on line 24/7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Sociedad de la Información ---&gt; Gestión de la Información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920" y="228600"/>
            <a:ext cx="8305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TICs  y Sistemas de Producción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13840" y="1357200"/>
            <a:ext cx="8572680" cy="514368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La Sociedad de la información necesita una mayor fuerza laboral con conocimientos y habilidades en T.I.C.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01d0e"/>
                </a:solidFill>
                <a:latin typeface="Candara"/>
              </a:rPr>
              <a:t>Libertad de trabaj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Capacidades para encontrar trabaj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Planteamientos polític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educación, formación, acceso al emple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Vinculación de la educación a las necesidades producti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La mantención del empleo en la 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Riesgos de inadaptación tecnológica y Políticas de  (des) vincu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Los derechos fundamentales del trabajador en el entorno lab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Herramientas de vigilancia en el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Protección de la salud en el ámbito laboral, Derecho a vivir en un ambiente libre de contaminación, seguridad en el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Trabajo flexible y derechos laborales o previs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Diálogo social y funcionamiento empresa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Derecho a sindicaliza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14200" y="0"/>
            <a:ext cx="8643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de501"/>
                </a:solidFill>
                <a:latin typeface="Adobe Garamond Pro Bold"/>
              </a:rPr>
              <a:t>Vivir y trabajar en la sociedad de la información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7:59:34Z</dcterms:created>
  <dc:creator>Facultad de Derecho</dc:creator>
  <dc:description/>
  <dc:language>en-US</dc:language>
  <cp:lastModifiedBy>creusser</cp:lastModifiedBy>
  <dcterms:modified xsi:type="dcterms:W3CDTF">2008-04-10T01:34:07Z</dcterms:modified>
  <cp:revision>60</cp:revision>
  <dc:subject/>
  <dc:title>Contratos de mantención o mantenimiento</dc:title>
</cp:coreProperties>
</file>