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ITC Officina Serif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C851-C27C-4402-B7B1-D42D53560659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3C36-5731-42DD-B10D-534AAB971C4F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B49-5460-4F85-9E25-9FC52ADF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AD4-3C66-4393-8487-5CE1749A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89B-3566-4765-8949-337B2A15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825-978F-4D25-80E6-99FEB39D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BD6-2B0F-408E-A172-64245115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5DF-52CC-4DC4-B470-70C6A152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820-6CDD-4DA8-8105-931BAC2D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2FC-09EE-4268-BA26-2E97F3F6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E4A-D624-4CEF-B90F-B43282A4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2BD-72AA-446E-B6D5-098D3441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085-AAE6-4D89-879A-17DC6494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984-DDB7-400A-AF94-FCE8CE1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F1E-A211-4010-BDE1-52215030A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Eug&#232;ne_Delacroix_-_La_libert&#233;_guidant_le_peupl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7920" y="2143080"/>
            <a:ext cx="7010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Derecho de la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Material de apoyo Nº 1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Clases 02 y 07 de abril de 2008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14280" y="507204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orena Donoso Abarca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Marzo 2008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donoso@uchile.cl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838224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Igualdad ante la 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01d0e"/>
                </a:solidFill>
                <a:latin typeface="Candara"/>
              </a:rPr>
              <a:t>Ante la ley. 19 Nº2; En el ejercicio de los derechos 19 Nº3; En el trato económico 19 Nº22 (Ch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b050"/>
                </a:solidFill>
                <a:latin typeface="Candara"/>
              </a:rPr>
              <a:t>Igualdad en el acceso a los servicios de la sociedad de la inform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ervicio y Acceso Universal</a:t>
            </a: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: en el aprendizaje, el trabajo y la vida cotidiana (</a:t>
            </a: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oncepto dinámico y evolu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actores clave: disponibilidad, continuidad, precio, accesibilidad y conoc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Para lograr los objetivos de igualdad y efica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alidad de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in diferencias de sexo, ni de condición geográfica o dis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Libertad e igualdad como ejes basales de los derechos fundamentales en la S.I.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28440" y="2143080"/>
            <a:ext cx="742932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ex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Información (informar/ser inform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reun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as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libertad guiando al pueblo, Delacroix (18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Imagen:Eugène Delacroix - La liberté guidant le peup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3000240"/>
            <a:ext cx="4068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Derecho de las Tecnologías de la Información y las Comunic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de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Conjunto de normas y principios que regulan las acciones, procesos, productos y relaciones jurídicas surgidas en torno a la confluencia entre en derecho de las telecomunicaciones y la informática (Telemát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s Fundamentales afectados por las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ormulación / consa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uncionamiento prác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reaciones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formas de crear-modificar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soportes a l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Relaciones contractuales que se ven afectadas por el uso de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ormación del consent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jecución de los contr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litos 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Medios comisivos que incorporan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del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bienes jurídicos protegid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3810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Nue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en 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nfoque multidiscipli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u sustantividad y autonomía de esta área se sustenta en la existencia de un objeto delimitado, constituido por las tecnologías de tratamiento de la información y las comunic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Inmediato: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Mediato: La información que es objeto del tratamiento automat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Principios rectores de la regul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357200" y="1714680"/>
            <a:ext cx="6400800" cy="380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de prestación de servicio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ompetenci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eutralidad tecnológic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Compatibilidad internacional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quivalencia de los soporte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o alteración de las categorías del ordenamiento jurídico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Mínima interven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irculación de la informa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680" y="1428480"/>
            <a:ext cx="807696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conjunto de técnicas destinadas al tratamiento lógico y automático de la información, de acuerdo a los métodos de las cienci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914400" y="99072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2960" y="3143160"/>
            <a:ext cx="8105760" cy="32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almacenar y ordenar,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según un tratamiento lóg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con criterio científ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todos los datos necesarios para la resolución de un problema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Voz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Tex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Image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8120" y="15228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cepto de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7160" y="1371600"/>
            <a:ext cx="7677360" cy="444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Tecnologías de la Información y las 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áquinas de cálculo automático, aplicadas al almacenamiento, procesamiento  y  transmisión de la informa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Conectadas en redes forma plataformas de tratamiento e intercambio de dat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Digitaliz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Integración de red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Terminales multipropósi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5800" y="45720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¿QUE SON LAS TIC?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295280"/>
            <a:ext cx="8001000" cy="500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. Información como eje central de las sociedades en general y de la economía en particular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. Convergencia y Digitalización: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Lo que antes se diferenciaba por los distintos soportes hoy converge en 0 y 1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I. Desmaterialización aparente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istemas de contratación on lin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Eliminación de Fronteras y Límites Difusos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Transnacionalización (conflictos de legislación y de jurisdicción)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onvergencia de medi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Flujos de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texto: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85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. Global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. Nuevo Orde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al servicio de una ciudadanía mas informada (empoder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I. </a:t>
            </a: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Valorización de los sistema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1828800"/>
            <a:ext cx="8229600" cy="447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1. Crisis del Estado como unidad sociopolítica de Gobiern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ociedad virtual paralel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Revelación al sistema normad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astigos aplicados por la comunidad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2. Identidades culturales particulares en jaqu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3. Redes como símbolos de Estado poderoso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4. Nuevos grupos de presión o interé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yberliberties, freedom, empresas de tele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30492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Aspectos Políticos Relevantes de la Sociedad de 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Sociedad de la Información y relaciones labor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Sistemas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istemas de producción flex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1828800"/>
            <a:ext cx="8001000" cy="358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asificación y capacidad de proceso de las máquinas ha provocado un salto cualitativo, una revolución en los sistemas de produc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Producción en serie/ producción “a pedido”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Mantención de stocks /desarrollo de canales eficaces de vent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Atención especializada “en tienda” / servicio on line 24/7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Sociedad de la Información ---&gt; Gestión de la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920" y="228600"/>
            <a:ext cx="830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TICs  y Sistemas de Produc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3840" y="1357200"/>
            <a:ext cx="8572680" cy="5143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Sociedad de la información necesita una mayor fuerza laboral con conocimientos y habilidades en T.I.C.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Libertad de trabaj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apacidades para encontrar tra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lanteamientos polí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ducación, formación, acceso al empl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Vinculación de la educación a las necesidades produ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a mantención del empleo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Riesgos de inadaptación tecnológica y Políticas de  (des) vinc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os derechos fundamentales del trabajador en el entorno lab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Herramientas de vigilancia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rotección de la salud en el ámbito laboral, Derecho a vivir en un ambiente libre de contaminación, seguridad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Trabajo flexible y derechos laborales o previ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iálogo social y funcionamiento empresa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 a sindicaliz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14200" y="0"/>
            <a:ext cx="8643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de501"/>
                </a:solidFill>
                <a:latin typeface="Adobe Garamond Pro Bold"/>
              </a:rPr>
              <a:t>Vivir y trabajar en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7:59:34Z</dcterms:created>
  <dc:creator>Facultad de Derecho</dc:creator>
  <dc:description/>
  <dc:language>en-US</dc:language>
  <cp:lastModifiedBy>creusser</cp:lastModifiedBy>
  <dcterms:modified xsi:type="dcterms:W3CDTF">2008-04-10T01:34:07Z</dcterms:modified>
  <cp:revision>60</cp:revision>
  <dc:subject/>
  <dc:title>Contratos de mantención o mantenimiento</dc:title>
</cp:coreProperties>
</file>