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ITC Officina Serif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C692-A626-42B0-BE82-A8DC3CB82286}" type="slidenum">
              <a:rPr b="0" lang="es-ES_tradnl" sz="1200" spc="-1" strike="noStrike">
                <a:solidFill>
                  <a:srgbClr val="000000"/>
                </a:solidFill>
                <a:latin typeface="ITC Officina Serif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66DE-D65B-4F27-917E-A75EC9B12C4C}" type="slidenum">
              <a:rPr b="0" lang="es-ES_tradnl" sz="1200" spc="-1" strike="noStrike">
                <a:solidFill>
                  <a:srgbClr val="000000"/>
                </a:solidFill>
                <a:latin typeface="ITC Officina Serif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653C-FD5B-4F63-B605-83981ED6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A52-D31B-45DA-B383-0CBDCAA8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BF8-553B-4DD1-9561-58694310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003-DD3A-4C2E-9808-E2A13AF5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CD53-A6B2-4992-BF9E-63A3E8A3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115-3F78-4853-96F1-9BEF8895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525-F8D4-4538-9086-C6727820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5A7-2224-46CC-993E-BAAECB31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52C-1FED-4251-9E62-0040DBC6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6B6-8197-4B42-8DE2-9900AAFA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97D-30E2-4F22-A4C1-369C8D4E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EED-CEE0-4E01-940F-EA2F8C33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4A59-E0CF-45EE-B2CF-7861D0994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7/Eug&#232;ne_Delacroix_-_La_libert&#233;_guidant_le_peuple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447920" y="2143080"/>
            <a:ext cx="701028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ntique Olive"/>
              </a:rPr>
              <a:t>Derecho de la Informática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ntique Olive"/>
              </a:rPr>
              <a:t>Material de apoyo Nº 1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ntique Olive"/>
              </a:rPr>
              <a:t>Clases 02 y 07 de abril de 2008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214280" y="507204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ntique Olive"/>
              </a:rPr>
              <a:t>Lorena Donoso Abarca</a:t>
            </a:r>
            <a:endParaRPr b="0" lang="en-US" sz="18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ntique Olive"/>
              </a:rPr>
              <a:t>Marzo 2008</a:t>
            </a:r>
            <a:endParaRPr b="0" lang="en-US" sz="1800" spc="-1" strike="noStrike">
              <a:solidFill>
                <a:srgbClr val="000000"/>
              </a:solidFill>
              <a:latin typeface="ITC Officina Serif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ntique Olive"/>
              </a:rPr>
              <a:t>ldonoso@uchile.cl</a:t>
            </a:r>
            <a:endParaRPr b="0" lang="en-US" sz="18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57120" y="1856880"/>
            <a:ext cx="8382240" cy="44960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Igualdad ante la 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01d0e"/>
                </a:solidFill>
                <a:latin typeface="Candara"/>
              </a:rPr>
              <a:t>Ante la ley. 19 Nº2; En el ejercicio de los derechos 19 Nº3; En el trato económico 19 Nº22 (Ch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b050"/>
                </a:solidFill>
                <a:latin typeface="Candara"/>
              </a:rPr>
              <a:t>Igualdad en el acceso a los servicios de la sociedad de la inform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Servicio y Acceso Universal</a:t>
            </a: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: en el aprendizaje, el trabajo y la vida cotidiana (</a:t>
            </a: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concepto dinámico y evoluti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l acceso a servicios y a aplicaciones avanzados a través de puntos públicos de acceso como bibliotecas, escuelas, y otros lugares de reunión social podría ser lo más aproximado al servicios univer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Factores clave: disponibilidad, continuidad, precio, accesibilidad y conoci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Para lograr los objetivos de igualdad y efica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Calidad de la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Sin diferencias de sexo, ni de condición geográfica o dis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Libertad e igualdad como ejes basales de los derechos fundamentales en la S.I.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28440" y="2143080"/>
            <a:ext cx="7429320" cy="4572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ertad en la 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expre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Información (informar/ser inform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Pens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reun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 asoc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La libertad guiando al pueblo, Delacroix (18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Imagen:Eugène Delacroix - La liberté guidant le peupl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00680" y="3000240"/>
            <a:ext cx="406872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Derecho de las Tecnologías de la Información y las Comunic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recho de las Tecnologías de la Información y las 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01d0e"/>
                </a:solidFill>
                <a:latin typeface="Candara"/>
              </a:rPr>
              <a:t>Conjunto de normas y principios que regulan las acciones, procesos, productos y relaciones jurídicas surgidas en torno a la confluencia entre en derecho de las telecomunicaciones y la informática (Telemáti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erechos Fundamentales afectados por las tecnolog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n su formulación / consag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n su funcionamiento práct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Creaciones en la era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as 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as formas de crear-modificar 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os soportes a las ob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Relaciones contractuales que se ven afectadas por el uso de tecnolog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Formación del consent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jecución de los contr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elitos  en la era tecn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Medios comisivos que incorporan tecnologí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os del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33912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Nuevos bienes jurídicos protegid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3810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recho Nue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Derecho en 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Enfoque multidiscipli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Su sustantividad y autonomía de esta área se sustenta en la existencia de un objeto delimitado, constituido por las tecnologías de tratamiento de la información y las comunica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Objeto Inmediato: Las Tecnologías de la Información y las 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Objeto Mediato: La información que es objeto del tratamiento automatiz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Principios rectores de la regul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357200" y="1714680"/>
            <a:ext cx="6400800" cy="38098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ertad de prestación de servicios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re competencia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Neutralidad tecnológica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Compatibilidad internacional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Equivalencia de los soportes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No alteración de las categorías del ordenamiento jurídico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Mínima intervención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Candara"/>
              </a:rPr>
              <a:t>Libre circulación de la información.</a:t>
            </a:r>
            <a:endParaRPr b="0" lang="en-US" sz="16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680" y="1428480"/>
            <a:ext cx="807696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conjunto de técnicas destinadas al tratamiento lógico y automático de la información, de acuerdo a los métodos de las cienci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5"/>
          <p:cNvSpPr/>
          <p:nvPr/>
        </p:nvSpPr>
        <p:spPr>
          <a:xfrm>
            <a:off x="914400" y="990720"/>
            <a:ext cx="8229600" cy="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2960" y="3143160"/>
            <a:ext cx="8105760" cy="32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almacenar y ordenar,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Candara"/>
              </a:rPr>
              <a:t>según un tratamiento lógic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Candara"/>
              </a:rPr>
              <a:t>con criterio científic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todos los datos necesarios para la resolución de un problema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Datos de Voz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Datos de Text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Datos de Image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8120" y="15228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Concepto de Informática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57160" y="1371600"/>
            <a:ext cx="7677360" cy="444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Tecnologías de la Información y las Comunicacione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máquinas de cálculo automático, aplicadas al almacenamiento, procesamiento  y  transmisión de la información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Conectadas en redes forma plataformas de tratamiento e intercambio de dato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Digitalizació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ndara"/>
              </a:rPr>
              <a:t>Integración de rede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00000"/>
                </a:solidFill>
                <a:latin typeface="Candara"/>
              </a:rPr>
              <a:t>Terminales multipropósit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85800" y="45720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¿QUE SON LAS TIC?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1295280"/>
            <a:ext cx="8001000" cy="500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I. Información como eje central de las sociedades en general y de la economía en particular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II. Convergencia y Digitalización: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Lo que antes se diferenciaba por los distintos soportes hoy converge en 0 y 1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III. Desmaterialización aparente: 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Sistemas de contratación on line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Eliminación de Fronteras y Límites Difusos: 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Transnacionalización (conflictos de legislación y de jurisdicción)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Convergencia de medio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Flujos de Informació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Contexto: La Sociedad de la Inform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8574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V. Globaliz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VI. Nuevo Orde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nuevos marginados, los analfabetos 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Nuevos conceptos de organización social, tales como las redes de colaboración o coalisiones colabora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Servicios de información al servicio de una ciudadanía mas informada (empoderad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VII. </a:t>
            </a: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Valorización de los sistemas prod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Valorización de los servicios por sobre la producción de bie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Servicios de información en el eje cent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520" y="1828800"/>
            <a:ext cx="8229600" cy="4473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1. Crisis del Estado como unidad sociopolítica de Gobiern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Sociedad virtual paralela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Revelación al sistema normado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Castigos aplicados por la comunidad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2. Identidades culturales particulares en jaque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3. Redes como símbolos de Estado poderoso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4. Nuevos grupos de presión o interé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cyberliberties, freedom, empresas de telecomunicaciones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304920"/>
            <a:ext cx="8458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Aspectos Políticos Relevantes de la Sociedad de  la Inform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Sociedad de la Información y relaciones labor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72464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andara"/>
              </a:rPr>
              <a:t>Sistemas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Sistemas de producción flexi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Globalización de los mercados y de la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Convergencia de industrias tradicionalmente sepa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Mercado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01d0e"/>
                </a:solidFill>
                <a:latin typeface="Candara"/>
              </a:rPr>
              <a:t>La T.I.C., están en permanente transformación y evolución (el concepto de longlife learning, se reproduce nuevament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5800" y="1828800"/>
            <a:ext cx="8001000" cy="3581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Masificación y capacidad de proceso de las máquinas ha provocado un salto cualitativo, una revolución en los sistemas de producción.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Producción en serie/ producción “a pedido”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Mantención de stocks /desarrollo de canales eficaces de venta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01d0e"/>
                </a:solidFill>
                <a:latin typeface="Candara"/>
              </a:rPr>
              <a:t>Atención especializada “en tienda” / servicio on line 24/7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andara"/>
              </a:rPr>
              <a:t>Sociedad de la Información ---&gt; Gestión de la Información</a:t>
            </a: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 Officina Serif Book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920" y="228600"/>
            <a:ext cx="8305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3d53f"/>
                </a:solidFill>
                <a:latin typeface="Baskerville Old Face"/>
              </a:rPr>
              <a:t>TICs  y Sistemas de Produc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13840" y="1357200"/>
            <a:ext cx="8572680" cy="5143680"/>
          </a:xfrm>
          <a:prstGeom prst="rect">
            <a:avLst/>
          </a:prstGeom>
          <a:solidFill>
            <a:srgbClr val="ffffff"/>
          </a:solidFill>
          <a:ln w="57240">
            <a:solidFill>
              <a:srgbClr val="feed4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La Sociedad de la información necesita una mayor fuerza laboral con conocimientos y habilidades en T.I.C.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01d0e"/>
                </a:solidFill>
                <a:latin typeface="Candara"/>
              </a:rPr>
              <a:t>Libertad de trabaj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Capacidades para encontrar trabaj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Planteamientos polític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educación, formación, acceso al emple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Vinculación de la educación a las necesidades produc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La mantención del empleo en la 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Riesgos de inadaptación tecnológica y Políticas de  (des) vincu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Los derechos fundamentales del trabajador en el entorno lab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Herramientas de vigilancia en el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Protección de la salud en el ámbito laboral, Derecho a vivir en un ambiente libre de contaminación, seguridad en el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Candara"/>
              </a:rPr>
              <a:t>Trabajo flexible y derechos laborales o previs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iálogo social y funcionamiento empresa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4272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b050"/>
                </a:solidFill>
                <a:latin typeface="Candara"/>
              </a:rPr>
              <a:t>Derecho a sindicaliza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14200" y="0"/>
            <a:ext cx="8643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de501"/>
                </a:solidFill>
                <a:latin typeface="Adobe Garamond Pro Bold"/>
              </a:rPr>
              <a:t>Vivir y trabajar en la sociedad de la información</a:t>
            </a:r>
            <a:endParaRPr b="0" lang="en-US" sz="3200" spc="-1" strike="noStrike">
              <a:solidFill>
                <a:srgbClr val="000000"/>
              </a:solidFill>
              <a:latin typeface="ITC Officina Serif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9T17:59:34Z</dcterms:created>
  <dc:creator>Facultad de Derecho</dc:creator>
  <dc:description/>
  <dc:language>en-US</dc:language>
  <cp:lastModifiedBy>creusser</cp:lastModifiedBy>
  <dcterms:modified xsi:type="dcterms:W3CDTF">2008-04-10T01:34:07Z</dcterms:modified>
  <cp:revision>60</cp:revision>
  <dc:subject/>
  <dc:title>Contratos de mantención o mantenimiento</dc:title>
</cp:coreProperties>
</file>