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ITC Officina Serif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1481-8D9E-4266-92C1-3328F0912EF3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2BB7-2BBF-4C55-8C33-76146C187432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5A4-99E9-489C-9E9E-009FE277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BC8-3CDC-4AE6-8898-086508EF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24E-948D-4BC0-B198-FA517897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E74-2C02-424E-B6A8-288F6D32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D27-AF86-48C5-BA4A-22D1BC9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6BA-4D25-4955-A97D-78053C77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91A-3AFC-4B4D-9E03-0369ABB2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DFE-E571-4942-8A51-E519A90E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C0D-6DF6-4AD8-A13B-E219D88E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FB2-63A3-458B-BE94-87790AA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6DE-0B23-41EB-A457-5635E9D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A10-4467-40E7-B535-51733CE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BCE7-1567-47AC-8C52-807260B3D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Eug&#232;ne_Delacroix_-_La_libert&#233;_guidant_le_peupl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7920" y="2143080"/>
            <a:ext cx="7010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Derecho de la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Material de apoyo Nº 1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Clases 02 y 07 de abril de 2008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14280" y="507204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Marzo 2008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donoso@uchile.cl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38224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Igualdad ante la 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01d0e"/>
                </a:solidFill>
                <a:latin typeface="Candara"/>
              </a:rPr>
              <a:t>Ante la ley. 19 Nº2; En el ejercicio de los derechos 19 Nº3; En el trato económico 19 Nº22 (Ch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b050"/>
                </a:solidFill>
                <a:latin typeface="Candara"/>
              </a:rPr>
              <a:t>Igualdad en el acceso a los servicios de la sociedad de la 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ervicio y Acceso Universal</a:t>
            </a: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: en el aprendizaje, el trabajo y la vida cotidiana (</a:t>
            </a: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oncepto dinámico y evolu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actores clave: disponibilidad, continuidad, precio, accesibilidad y conoc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Para lograr los objetivos de igualdad y efica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ali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in diferencias de sexo, ni de condición geográfica o dis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Libertad e igualdad como ejes basales de los derechos fundamentales en la S.I.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440" y="2143080"/>
            <a:ext cx="74293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Información (informar/ser inform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reun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as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libertad guiando al pueblo, Delacroix (18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Imagen:Eugène Delacroix - La liberté guidant le peu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3000240"/>
            <a:ext cx="4068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Derecho de las Tecnologías de la Información y las Comunic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de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Conjunto de normas y principios que regulan las acciones, procesos, productos y relaciones jurídicas surgidas en torno a la confluencia entre en derecho de las telecomunicaciones y la informática (Telemá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s Fundamentales afectados por l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ormulación / consa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uncionamiento prác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reaciones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formas de crear-modificar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soportes a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Relaciones contractuales que se ven afectadas por el uso de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ormación del consent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jecución de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litos 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Medios comisivos que incorporan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del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bienes jurídicos protegid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Nu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en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nfoque multidiscipli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u sustantividad y autonomía de esta área se sustenta en la existencia de un objeto delimitado, constituido por las tecnologías de tratamiento de la información y las 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Inmediato: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Mediato: La información que es objeto del tratamiento automat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Principios rectores de la regul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357200" y="1714680"/>
            <a:ext cx="6400800" cy="380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de prestación de servicio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ompetenci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eutralidad tecnológic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Compatibilidad internacional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quivalencia de los soporte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o alteración de las categorías del ordenamiento jurídico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Mínima interven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irculación de la informa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8076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conjunto de técnicas destinadas al tratamiento lógico y automático de la información, de acuerdo a los métodos de las cienci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914400" y="9907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2960" y="3143160"/>
            <a:ext cx="8105760" cy="32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almacenar y ordenar,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según un tratamiento lóg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con criterio científ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todos los datos necesarios para la resolución de un problema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Voz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Tex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Image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812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cepto de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7160" y="1371600"/>
            <a:ext cx="7677360" cy="444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Tecnologías de la Información y las 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áquinas de cálculo automático, aplicadas al almacenamiento, procesamiento  y  transmisión de la informa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Conectadas en redes forma plataformas de tratamiento e intercambio de dat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Digitaliz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Integración de red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Terminales multipropósi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457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¿QUE SON LAS TIC?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295280"/>
            <a:ext cx="8001000" cy="500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.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. Convergencia y Digitalización: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I. Desmaterialización aparente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istemas de contratación on lin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texto: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al servicio de una ciudadanía mas informada (empoder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I. </a:t>
            </a: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828800"/>
            <a:ext cx="8229600" cy="447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3. Redes como símbolos de Estado poderoso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4. Nuevos grupos de presión o interé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Aspectos Políticos Relevantes de la Sociedad de 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Sociedad de la Información y relaciones lab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28800"/>
            <a:ext cx="8001000" cy="358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asificación y capacidad de proceso de las máquinas ha provocado un salto cualitativo, una revolución en los sistemas de produc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Producción en serie/ producción “a pedido”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Mantención de stocks /desarrollo de canales eficaces de vent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Atención especializada “en tienda” / servicio on line 24/7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Sociedad de la Información ---&gt; Gestión de la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TICs  y Sistemas de Produc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Sociedad de la información necesita una mayor fuerza laboral con conocimientos y habilidades en T.I.C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Libertad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apacidades para encontrar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lanteamient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ducación, formación, acceso al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Vinculación de la educación a las necesidades produ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a mantención del empleo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Riesgos de inadaptación tecnológica y Políticas de  (des) vinc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os derechos fundamentales del trabajador en el 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Herramientas de vigilancia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rotección de la salud en el ámbito laboral, Derecho a vivir en un ambiente libre de contaminación, seguridad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Trabajo flexible y derechos laborales o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iálogo social y funcionamient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 a sindicaliz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0"/>
            <a:ext cx="8643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de501"/>
                </a:solidFill>
                <a:latin typeface="Adobe Garamond Pro Bold"/>
              </a:rPr>
              <a:t>Vivir y trabajar en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7:59:34Z</dcterms:created>
  <dc:creator>Facultad de Derecho</dc:creator>
  <dc:description/>
  <dc:language>en-US</dc:language>
  <cp:lastModifiedBy>creusser</cp:lastModifiedBy>
  <dcterms:modified xsi:type="dcterms:W3CDTF">2008-04-10T01:34:07Z</dcterms:modified>
  <cp:revision>60</cp:revision>
  <dc:subject/>
  <dc:title>Contratos de mantención o mantenimiento</dc:title>
</cp:coreProperties>
</file>