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756A59-D40F-4336-8B17-388DD139C479}" type="slidenum">
              <a: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14444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Times New Roman"/>
              </a:rPr>
              <a:t>Regulación por incen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Regla general es libertad de prec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Fijación de tarifas según modelo de empresa efic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Concesiones no exclusivas, interconexiones obligatorias y obligación de servicio universal para monopolios de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Regulador diferenciado para cada sector designado por el gobie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Comisión Antimonopolios desintegra verticalmente telefonía local y larga dista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Multicarrier para competencia en larga dista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Cargos de acceso regul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Tarifas reguladas para dominante en telefonía fija lo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114444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1209600" y="693720"/>
            <a:ext cx="44370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141560" y="693720"/>
            <a:ext cx="45655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19FF-54CE-44EF-B5FF-2789CB4CE8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7AA1-908C-4686-932D-95B21A91769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A46F-D0F3-4FF8-86F5-8256A011C9E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BD1D-CC05-40F5-9E56-7CDBC0805EE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29E9-28B2-4CCD-A00C-52A6E073687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58D3-77AF-40E5-849D-FE52CAECD60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D619-440F-4D73-8924-19326E26EED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CDC6-4CA5-4DBC-9DDF-1A4C7C3EF9F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5A2F-37BF-4324-8154-D32F5058F57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915E-C48F-4DD2-8A90-D4EAF3C98B4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8F15-7F8E-48AF-ADAD-0885D1F1FD1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5490-FD0A-4887-BB5E-BE4E9B19757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1407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477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7704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8177040" cy="64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477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1407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070320" y="-1557720"/>
            <a:ext cx="3097080" cy="11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477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1407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477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18760" y="0"/>
            <a:ext cx="9118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507960" y="1488960"/>
            <a:ext cx="9129600" cy="61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794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5000" indent="-3171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20960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71756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990720" y="-301680"/>
            <a:ext cx="8177040" cy="822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064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6372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0644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6212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0484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0484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0484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90720" y="-301680"/>
            <a:ext cx="8177040" cy="822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880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4460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0028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4300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4300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4300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720" y="203040"/>
            <a:ext cx="8177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2324160"/>
            <a:ext cx="81770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101520"/>
            <a:ext cx="9142560" cy="16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4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77680"/>
            <a:ext cx="9142560" cy="58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794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817560" indent="-31752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2" marL="126216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3" marL="177012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4" marL="227808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5" marL="227808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6" marL="227808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0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9D56F3-3666-47F1-B05D-D0D65ACBC3F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6769080"/>
            <a:ext cx="1015992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90720" y="1938240"/>
            <a:ext cx="840888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title"/>
          </p:nvPr>
        </p:nvSpPr>
        <p:spPr>
          <a:xfrm>
            <a:off x="990720" y="-298440"/>
            <a:ext cx="817704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495000" y="1104480"/>
            <a:ext cx="458316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18760" y="0"/>
            <a:ext cx="9118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507960" y="1488960"/>
            <a:ext cx="9129600" cy="61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794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5000" indent="-3171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20960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71756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01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859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4160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8177040" cy="64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01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859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4160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070320" y="-1557720"/>
            <a:ext cx="3097080" cy="11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01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859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4160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1523520" y="4317480"/>
            <a:ext cx="7110360" cy="39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title"/>
          </p:nvPr>
        </p:nvSpPr>
        <p:spPr>
          <a:xfrm>
            <a:off x="762120" y="461520"/>
            <a:ext cx="863424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90720" y="1247760"/>
            <a:ext cx="8177040" cy="62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446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0028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4300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4300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4300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07600" y="1782720"/>
            <a:ext cx="9140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827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3844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811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811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811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2324160"/>
            <a:ext cx="81770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90360" y="736200"/>
            <a:ext cx="8178840" cy="3048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Las Telecomunicaciones y el Desarrollo Nacion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90360" y="5676840"/>
            <a:ext cx="8178840" cy="890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blo Bello Arella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ubsecretario de Telecomunicac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2908440" y="4203720"/>
            <a:ext cx="433044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Las telecomunicaciones “pre-convergentes”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001880" y="1619280"/>
            <a:ext cx="8178480" cy="6037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delo pre-convergencia (modelo de “silos”)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dentidad red-servic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as condiciones económicas de las redes se trasladan a     los servicios fin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Telefonía: tradicionalmente economías de escala y densidad de la red de acceso derivan en concentr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gulación clásica del monopolio natur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20560" y="263520"/>
            <a:ext cx="9120240" cy="65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gulación de Vanguardia… hace 24 año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5" name=""/>
          <p:cNvSpPr/>
          <p:nvPr/>
        </p:nvSpPr>
        <p:spPr>
          <a:xfrm>
            <a:off x="546120" y="4505400"/>
            <a:ext cx="927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77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6" name=""/>
          <p:cNvSpPr/>
          <p:nvPr/>
        </p:nvSpPr>
        <p:spPr>
          <a:xfrm>
            <a:off x="1163520" y="4505400"/>
            <a:ext cx="849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8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7" name=""/>
          <p:cNvSpPr/>
          <p:nvPr/>
        </p:nvSpPr>
        <p:spPr>
          <a:xfrm>
            <a:off x="1935000" y="4505400"/>
            <a:ext cx="1003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87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8" name=""/>
          <p:cNvSpPr/>
          <p:nvPr/>
        </p:nvSpPr>
        <p:spPr>
          <a:xfrm>
            <a:off x="3244680" y="4505400"/>
            <a:ext cx="1079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"/>
          <p:cNvSpPr/>
          <p:nvPr/>
        </p:nvSpPr>
        <p:spPr>
          <a:xfrm>
            <a:off x="5249880" y="4505400"/>
            <a:ext cx="847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0" name=""/>
          <p:cNvSpPr/>
          <p:nvPr/>
        </p:nvSpPr>
        <p:spPr>
          <a:xfrm>
            <a:off x="6118200" y="4505400"/>
            <a:ext cx="719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1" name=""/>
          <p:cNvSpPr/>
          <p:nvPr/>
        </p:nvSpPr>
        <p:spPr>
          <a:xfrm>
            <a:off x="3630600" y="3157560"/>
            <a:ext cx="1440" cy="1090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2" name=""/>
          <p:cNvSpPr/>
          <p:nvPr/>
        </p:nvSpPr>
        <p:spPr>
          <a:xfrm>
            <a:off x="2822400" y="1627200"/>
            <a:ext cx="292896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201600" indent="-2016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Modificación LGT: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201600" indent="-201600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Competencia L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201600" indent="-201600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Fondo Desarrollo Telecom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201600" indent="-201600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Obligatoriedad de Fijación de Cargos de Acceso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201600" indent="-201600">
              <a:lnSpc>
                <a:spcPct val="88000"/>
              </a:lnSpc>
              <a:tabLst>
                <a:tab algn="l" pos="0"/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2. Decreto Tarifario CTC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3" name=""/>
          <p:cNvSpPr/>
          <p:nvPr/>
        </p:nvSpPr>
        <p:spPr>
          <a:xfrm>
            <a:off x="4248000" y="4505400"/>
            <a:ext cx="692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4" name=""/>
          <p:cNvSpPr/>
          <p:nvPr/>
        </p:nvSpPr>
        <p:spPr>
          <a:xfrm>
            <a:off x="455760" y="1828800"/>
            <a:ext cx="208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Ley General de Telecomunicacion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5" name=""/>
          <p:cNvSpPr/>
          <p:nvPr/>
        </p:nvSpPr>
        <p:spPr>
          <a:xfrm>
            <a:off x="1473120" y="2367000"/>
            <a:ext cx="1800" cy="1881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6" name=""/>
          <p:cNvSpPr/>
          <p:nvPr/>
        </p:nvSpPr>
        <p:spPr>
          <a:xfrm>
            <a:off x="279360" y="3533760"/>
            <a:ext cx="115560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SUBTE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7" name=""/>
          <p:cNvSpPr/>
          <p:nvPr/>
        </p:nvSpPr>
        <p:spPr>
          <a:xfrm>
            <a:off x="857160" y="3821040"/>
            <a:ext cx="1800" cy="4269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8" name=""/>
          <p:cNvSpPr/>
          <p:nvPr/>
        </p:nvSpPr>
        <p:spPr>
          <a:xfrm>
            <a:off x="1359000" y="3375000"/>
            <a:ext cx="22352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 u="sng">
                <a:solidFill>
                  <a:srgbClr val="333399"/>
                </a:solidFill>
                <a:uFillTx/>
                <a:latin typeface="Arial"/>
                <a:ea typeface="Arial Unicode MS"/>
              </a:rPr>
              <a:t>Modificación LGT</a:t>
            </a:r>
            <a:r>
              <a:rPr b="0" lang="en-GB" sz="1300" spc="-1" strike="noStrike">
                <a:solidFill>
                  <a:srgbClr val="333399"/>
                </a:solidFill>
                <a:latin typeface="Arial"/>
                <a:ea typeface="Arial Unicode M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Arial"/>
                <a:ea typeface="Arial Unicode MS"/>
              </a:rPr>
              <a:t>Procedimiento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Arial"/>
                <a:ea typeface="Arial Unicode MS"/>
              </a:rPr>
              <a:t>Fijación Tarifa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9" name=""/>
          <p:cNvSpPr/>
          <p:nvPr/>
        </p:nvSpPr>
        <p:spPr>
          <a:xfrm>
            <a:off x="2476440" y="4033800"/>
            <a:ext cx="1800" cy="214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0" name=""/>
          <p:cNvSpPr/>
          <p:nvPr/>
        </p:nvSpPr>
        <p:spPr>
          <a:xfrm>
            <a:off x="3630600" y="3309840"/>
            <a:ext cx="2990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56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Decreto Tarifario Móvil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56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Reglamento Reclamos Usuario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1" name=""/>
          <p:cNvSpPr/>
          <p:nvPr/>
        </p:nvSpPr>
        <p:spPr>
          <a:xfrm>
            <a:off x="5521320" y="3902040"/>
            <a:ext cx="1440" cy="368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2" name=""/>
          <p:cNvSpPr/>
          <p:nvPr/>
        </p:nvSpPr>
        <p:spPr>
          <a:xfrm>
            <a:off x="700200" y="5310360"/>
            <a:ext cx="1620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Liberalizació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3" name=""/>
          <p:cNvSpPr/>
          <p:nvPr/>
        </p:nvSpPr>
        <p:spPr>
          <a:xfrm>
            <a:off x="1511280" y="4791240"/>
            <a:ext cx="1440" cy="428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4" name=""/>
          <p:cNvSpPr/>
          <p:nvPr/>
        </p:nvSpPr>
        <p:spPr>
          <a:xfrm>
            <a:off x="1473120" y="5505480"/>
            <a:ext cx="1541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Privatizació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5" name=""/>
          <p:cNvSpPr/>
          <p:nvPr/>
        </p:nvSpPr>
        <p:spPr>
          <a:xfrm>
            <a:off x="2243160" y="4791240"/>
            <a:ext cx="1440" cy="7142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6" name=""/>
          <p:cNvSpPr/>
          <p:nvPr/>
        </p:nvSpPr>
        <p:spPr>
          <a:xfrm>
            <a:off x="2835360" y="5146560"/>
            <a:ext cx="15955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carrier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Larga Distancia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3627000" y="4791240"/>
            <a:ext cx="4680" cy="407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8" name=""/>
          <p:cNvSpPr/>
          <p:nvPr/>
        </p:nvSpPr>
        <p:spPr>
          <a:xfrm>
            <a:off x="2027160" y="6004080"/>
            <a:ext cx="16239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Inicio Telefonía Celular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9" name=""/>
          <p:cNvSpPr/>
          <p:nvPr/>
        </p:nvSpPr>
        <p:spPr>
          <a:xfrm>
            <a:off x="2859120" y="4791240"/>
            <a:ext cx="1440" cy="1147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0" name=""/>
          <p:cNvSpPr/>
          <p:nvPr/>
        </p:nvSpPr>
        <p:spPr>
          <a:xfrm>
            <a:off x="6470640" y="3041640"/>
            <a:ext cx="120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74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Tasación al segundo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1" name=""/>
          <p:cNvSpPr/>
          <p:nvPr/>
        </p:nvSpPr>
        <p:spPr>
          <a:xfrm>
            <a:off x="6730920" y="4505400"/>
            <a:ext cx="693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2" name=""/>
          <p:cNvSpPr/>
          <p:nvPr/>
        </p:nvSpPr>
        <p:spPr>
          <a:xfrm>
            <a:off x="5049720" y="5322960"/>
            <a:ext cx="97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5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Telefonía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5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Móvil P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3" name=""/>
          <p:cNvSpPr/>
          <p:nvPr/>
        </p:nvSpPr>
        <p:spPr>
          <a:xfrm>
            <a:off x="5545080" y="4791240"/>
            <a:ext cx="1800" cy="4284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4" name=""/>
          <p:cNvSpPr/>
          <p:nvPr/>
        </p:nvSpPr>
        <p:spPr>
          <a:xfrm>
            <a:off x="2475000" y="4505400"/>
            <a:ext cx="1155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5" name=""/>
          <p:cNvSpPr/>
          <p:nvPr/>
        </p:nvSpPr>
        <p:spPr>
          <a:xfrm>
            <a:off x="3701880" y="5803920"/>
            <a:ext cx="171792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a Acceso Universa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6" name=""/>
          <p:cNvSpPr/>
          <p:nvPr/>
        </p:nvSpPr>
        <p:spPr>
          <a:xfrm>
            <a:off x="4578480" y="4791240"/>
            <a:ext cx="1440" cy="927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7" name=""/>
          <p:cNvSpPr/>
          <p:nvPr/>
        </p:nvSpPr>
        <p:spPr>
          <a:xfrm>
            <a:off x="496800" y="4100400"/>
            <a:ext cx="9144000" cy="571680"/>
          </a:xfrm>
          <a:prstGeom prst="rightArrow">
            <a:avLst>
              <a:gd name="adj1" fmla="val 55204"/>
              <a:gd name="adj2" fmla="val 96118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8" name=""/>
          <p:cNvSpPr/>
          <p:nvPr/>
        </p:nvSpPr>
        <p:spPr>
          <a:xfrm>
            <a:off x="7272360" y="4505400"/>
            <a:ext cx="693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9" name=""/>
          <p:cNvSpPr/>
          <p:nvPr/>
        </p:nvSpPr>
        <p:spPr>
          <a:xfrm>
            <a:off x="8547120" y="4505400"/>
            <a:ext cx="692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0" name=""/>
          <p:cNvSpPr/>
          <p:nvPr/>
        </p:nvSpPr>
        <p:spPr>
          <a:xfrm>
            <a:off x="7853400" y="4505400"/>
            <a:ext cx="696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1" name=""/>
          <p:cNvSpPr/>
          <p:nvPr/>
        </p:nvSpPr>
        <p:spPr>
          <a:xfrm>
            <a:off x="7053120" y="3514680"/>
            <a:ext cx="1800" cy="739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2" name=""/>
          <p:cNvSpPr/>
          <p:nvPr/>
        </p:nvSpPr>
        <p:spPr>
          <a:xfrm>
            <a:off x="7491240" y="2500200"/>
            <a:ext cx="1498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Reglamento Procedimiento Tarifario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8512200" y="3162240"/>
            <a:ext cx="1440" cy="10922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7564320" y="5603760"/>
            <a:ext cx="18939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Modificación LGT: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FDT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8220240" y="4792680"/>
            <a:ext cx="1440" cy="739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7564320" y="4792680"/>
            <a:ext cx="1800" cy="1279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6762600" y="6141960"/>
            <a:ext cx="16034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WL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(1er Concurso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101599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as telecomunicaciones converge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001880" y="1981080"/>
            <a:ext cx="8178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uevos paradig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conomía de las telecomunicaciones en la convergenc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é es la convergencia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etencia en los mercados horizont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N vs Internet Neutr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Obsolescencia regulator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uevos desafí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1560" y="235080"/>
            <a:ext cx="9118800" cy="661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Nuevos Paradigma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57000" y="1564920"/>
            <a:ext cx="9002520" cy="477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Irrupción de Int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Infraestructura de Redes bis-a-bis Aplic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otencial Competencia entre Plataformas ( Fijas bis-a-bis Inalámbricas)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mplejidad de la Economía de Red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Desarrollo Tecnológico y Convergenc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23680" y="217440"/>
            <a:ext cx="8551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Convergencia y “nueva economía” de las telecomunicacion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39280" y="2217240"/>
            <a:ext cx="90680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29232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Todas las redes son capaces de transportar todos los servicios (voz, Internet y televisión) en base a protocolos integrad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99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e sustituye el concepto de redes dedicadas (redes de telefonía fija, móvil y televisión por cable, entre otras) por la conectiv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99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e tienden a eliminar las fronteras entre los servicios: fijo-móvil / local-larga distanc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77960"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0"/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81788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a convergenci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5" name=""/>
          <p:cNvSpPr/>
          <p:nvPr/>
        </p:nvSpPr>
        <p:spPr>
          <a:xfrm rot="2520000">
            <a:off x="1353600" y="3913200"/>
            <a:ext cx="1454400" cy="3176640"/>
          </a:xfrm>
          <a:prstGeom prst="upArrow">
            <a:avLst>
              <a:gd name="adj1" fmla="val 50000"/>
              <a:gd name="adj2" fmla="val 54604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6" name=""/>
          <p:cNvSpPr/>
          <p:nvPr/>
        </p:nvSpPr>
        <p:spPr>
          <a:xfrm rot="19080000">
            <a:off x="4033440" y="3927240"/>
            <a:ext cx="1455840" cy="3176640"/>
          </a:xfrm>
          <a:prstGeom prst="upArrow">
            <a:avLst>
              <a:gd name="adj1" fmla="val 50000"/>
              <a:gd name="adj2" fmla="val 54550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2006640" y="1915920"/>
            <a:ext cx="2824200" cy="181764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1817640"/>
              <a:gd name="textAreaBottom" fmla="*/ 181800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40" y="0"/>
                </a:lnTo>
                <a:lnTo>
                  <a:pt x="21600" y="10800"/>
                </a:lnTo>
                <a:lnTo>
                  <a:pt x="19140" y="21600"/>
                </a:lnTo>
                <a:lnTo>
                  <a:pt x="0" y="21600"/>
                </a:lnTo>
                <a:lnTo>
                  <a:pt x="246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UNICACI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LECTRÓNIC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8" name=""/>
          <p:cNvSpPr/>
          <p:nvPr/>
        </p:nvSpPr>
        <p:spPr>
          <a:xfrm rot="18660000">
            <a:off x="-163800" y="5398200"/>
            <a:ext cx="29163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LECOMUNICACI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9" name=""/>
          <p:cNvSpPr/>
          <p:nvPr/>
        </p:nvSpPr>
        <p:spPr>
          <a:xfrm rot="2820000">
            <a:off x="4239720" y="5510520"/>
            <a:ext cx="29178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FORMÁTIC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0" name=""/>
          <p:cNvSpPr/>
          <p:nvPr/>
        </p:nvSpPr>
        <p:spPr>
          <a:xfrm>
            <a:off x="5904000" y="1728720"/>
            <a:ext cx="425592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5920" indent="-29232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rotocolo integrador de redes (IP)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net como </a:t>
            </a:r>
            <a:r>
              <a:rPr b="0" i="1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eta 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Los </a:t>
            </a:r>
            <a:r>
              <a:rPr b="0" i="1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thos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de la informática y las telecomunicac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798480" y="3591000"/>
            <a:ext cx="5954760" cy="798480"/>
          </a:xfrm>
          <a:prstGeom prst="parallelogram">
            <a:avLst>
              <a:gd name="adj" fmla="val 18644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D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2" name=""/>
          <p:cNvSpPr/>
          <p:nvPr/>
        </p:nvSpPr>
        <p:spPr>
          <a:xfrm>
            <a:off x="798480" y="1704960"/>
            <a:ext cx="5954760" cy="797040"/>
          </a:xfrm>
          <a:prstGeom prst="parallelogram">
            <a:avLst>
              <a:gd name="adj" fmla="val 18677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3" name=""/>
          <p:cNvSpPr/>
          <p:nvPr/>
        </p:nvSpPr>
        <p:spPr>
          <a:xfrm>
            <a:off x="6823080" y="3809160"/>
            <a:ext cx="2817720" cy="974880"/>
          </a:xfrm>
          <a:prstGeom prst="wedgeRectCallout">
            <a:avLst>
              <a:gd name="adj1" fmla="val -71675"/>
              <a:gd name="adj2" fmla="val -33425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ndiciones de concentración derivadas de economías de escala y costos hundido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4" name=""/>
          <p:cNvSpPr/>
          <p:nvPr/>
        </p:nvSpPr>
        <p:spPr>
          <a:xfrm>
            <a:off x="6894360" y="1498680"/>
            <a:ext cx="2740320" cy="1199880"/>
          </a:xfrm>
          <a:prstGeom prst="wedgeRectCallout">
            <a:avLst>
              <a:gd name="adj1" fmla="val -79171"/>
              <a:gd name="adj2" fmla="val 13166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otencial de competencia en la medida que las condiciones de uso de las redes sean no discriminatoria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5" name=""/>
          <p:cNvSpPr/>
          <p:nvPr/>
        </p:nvSpPr>
        <p:spPr>
          <a:xfrm>
            <a:off x="798480" y="2647800"/>
            <a:ext cx="5954760" cy="798840"/>
          </a:xfrm>
          <a:prstGeom prst="parallelogram">
            <a:avLst>
              <a:gd name="adj" fmla="val 186356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TOCOLO I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23680" y="-73440"/>
            <a:ext cx="8551800" cy="1368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Convergencia: desintegración red-servici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7" name=""/>
          <p:cNvSpPr/>
          <p:nvPr/>
        </p:nvSpPr>
        <p:spPr>
          <a:xfrm>
            <a:off x="798480" y="4876920"/>
            <a:ext cx="827244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e proveen múltiples servicios sobre cualquier r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s crítica la regulación del uso de r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e debe remunerar adecuadamente el uso de cualquier r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 regulación centrada en los servicios no es eficien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5151600" y="1773000"/>
            <a:ext cx="1440" cy="2183040"/>
            <a:chOff x="5151600" y="1773000"/>
            <a:chExt cx="1440" cy="2183040"/>
          </a:xfrm>
        </p:grpSpPr>
        <p:sp>
          <p:nvSpPr>
            <p:cNvPr id="1169" name=""/>
            <p:cNvSpPr/>
            <p:nvPr/>
          </p:nvSpPr>
          <p:spPr>
            <a:xfrm flipV="1">
              <a:off x="5151600" y="3438360"/>
              <a:ext cx="1440" cy="517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5151600" y="2493720"/>
              <a:ext cx="1440" cy="517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151600" y="1773000"/>
              <a:ext cx="1440" cy="29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643280" y="1773000"/>
            <a:ext cx="1800" cy="2183040"/>
            <a:chOff x="4643280" y="1773000"/>
            <a:chExt cx="1800" cy="2183040"/>
          </a:xfrm>
        </p:grpSpPr>
        <p:sp>
          <p:nvSpPr>
            <p:cNvPr id="1173" name=""/>
            <p:cNvSpPr/>
            <p:nvPr/>
          </p:nvSpPr>
          <p:spPr>
            <a:xfrm flipV="1">
              <a:off x="4643280" y="3438360"/>
              <a:ext cx="1800" cy="517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4643280" y="2493720"/>
              <a:ext cx="1800" cy="517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4643280" y="1773000"/>
              <a:ext cx="1800" cy="29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0" y="303120"/>
            <a:ext cx="1015992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conomía de las telecomunicacione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n la era de la Convergenci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940600" cy="2819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Modelo converge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Todos los servicios provistos sobre todas las re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mercados horizontale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¿es la convergencia el triunfo de la informátic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¿sigue siendo relevante la telefoní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8" name=""/>
          <p:cNvSpPr/>
          <p:nvPr/>
        </p:nvSpPr>
        <p:spPr>
          <a:xfrm>
            <a:off x="969840" y="6378480"/>
            <a:ext cx="2695680" cy="658800"/>
          </a:xfrm>
          <a:prstGeom prst="roundRect">
            <a:avLst>
              <a:gd name="adj" fmla="val 218"/>
            </a:avLst>
          </a:prstGeom>
          <a:solidFill>
            <a:srgbClr val="eb6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Redes de Acceso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9" name=""/>
          <p:cNvSpPr/>
          <p:nvPr/>
        </p:nvSpPr>
        <p:spPr>
          <a:xfrm>
            <a:off x="969840" y="5489640"/>
            <a:ext cx="2695680" cy="660240"/>
          </a:xfrm>
          <a:prstGeom prst="roundRect">
            <a:avLst>
              <a:gd name="adj" fmla="val 2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Conectividad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0" name=""/>
          <p:cNvSpPr/>
          <p:nvPr/>
        </p:nvSpPr>
        <p:spPr>
          <a:xfrm>
            <a:off x="969840" y="4599000"/>
            <a:ext cx="2695680" cy="66024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io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1" name=""/>
          <p:cNvSpPr/>
          <p:nvPr/>
        </p:nvSpPr>
        <p:spPr>
          <a:xfrm>
            <a:off x="3902040" y="6343560"/>
            <a:ext cx="169920" cy="660600"/>
          </a:xfrm>
          <a:custGeom>
            <a:avLst/>
            <a:gdLst>
              <a:gd name="textAreaLeft" fmla="*/ 0 w 169920"/>
              <a:gd name="textAreaRight" fmla="*/ 61200 w 16992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2" name=""/>
          <p:cNvSpPr/>
          <p:nvPr/>
        </p:nvSpPr>
        <p:spPr>
          <a:xfrm>
            <a:off x="3902040" y="5489640"/>
            <a:ext cx="169920" cy="660240"/>
          </a:xfrm>
          <a:custGeom>
            <a:avLst/>
            <a:gdLst>
              <a:gd name="textAreaLeft" fmla="*/ 0 w 169920"/>
              <a:gd name="textAreaRight" fmla="*/ 61200 w 16992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3" name=""/>
          <p:cNvSpPr/>
          <p:nvPr/>
        </p:nvSpPr>
        <p:spPr>
          <a:xfrm>
            <a:off x="3902040" y="4567320"/>
            <a:ext cx="169920" cy="660240"/>
          </a:xfrm>
          <a:custGeom>
            <a:avLst/>
            <a:gdLst>
              <a:gd name="textAreaLeft" fmla="*/ 0 w 169920"/>
              <a:gd name="textAreaRight" fmla="*/ 61200 w 16992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4" name=""/>
          <p:cNvSpPr/>
          <p:nvPr/>
        </p:nvSpPr>
        <p:spPr>
          <a:xfrm>
            <a:off x="4202280" y="4643280"/>
            <a:ext cx="5222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os servicios finales sobre la conectividad son de escala global / ¿el software?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5" name=""/>
          <p:cNvSpPr/>
          <p:nvPr/>
        </p:nvSpPr>
        <p:spPr>
          <a:xfrm>
            <a:off x="4238640" y="5554800"/>
            <a:ext cx="5222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a conectividad IP es el “sistema operativo” de las telecomunicaciones convergente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6" name=""/>
          <p:cNvSpPr/>
          <p:nvPr/>
        </p:nvSpPr>
        <p:spPr>
          <a:xfrm>
            <a:off x="4267080" y="6248520"/>
            <a:ext cx="5222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as redes de acceso constituyen la infraestructura esencial de los servicios de telecomunicaciones convergentes / ¿el hardware?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1206360" y="4818240"/>
            <a:ext cx="1800" cy="2000160"/>
          </a:xfrm>
          <a:prstGeom prst="line">
            <a:avLst/>
          </a:prstGeom>
          <a:ln w="72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8" name=""/>
          <p:cNvSpPr/>
          <p:nvPr/>
        </p:nvSpPr>
        <p:spPr>
          <a:xfrm>
            <a:off x="2108160" y="5189400"/>
            <a:ext cx="365040" cy="35244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9" name=""/>
          <p:cNvSpPr/>
          <p:nvPr/>
        </p:nvSpPr>
        <p:spPr>
          <a:xfrm>
            <a:off x="2108160" y="6070680"/>
            <a:ext cx="365040" cy="352440"/>
          </a:xfrm>
          <a:prstGeom prst="diamond">
            <a:avLst/>
          </a:prstGeom>
          <a:solidFill>
            <a:srgbClr val="99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1001880" y="2152440"/>
            <a:ext cx="8178480" cy="447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192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En términos estáticos, persiste dominancia de las redes tradicionales (par de cobre y TV cable)</a:t>
            </a: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12636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Economías de escala y economías de densidad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6192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Altas expectativas en nuevas tecnologías (Wi-Max, PLC)</a:t>
            </a: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6192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Modelo tradicional de remuneración de inversiones de redes parece estar agotado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6192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Subsidios cruzados intra-empresa “dominante” tienden a generar desincentivos a la expansión de las redes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title"/>
          </p:nvPr>
        </p:nvSpPr>
        <p:spPr>
          <a:xfrm>
            <a:off x="228600" y="229680"/>
            <a:ext cx="101599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conomía de las telecomunicacione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n la era de la Convergenci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90360" y="-22860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Redes de Nueva Generación (NGN) vs Interne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0" y="2300400"/>
            <a:ext cx="5688000" cy="3422520"/>
            <a:chOff x="0" y="2300400"/>
            <a:chExt cx="5688000" cy="3422520"/>
          </a:xfrm>
        </p:grpSpPr>
        <p:pic>
          <p:nvPicPr>
            <p:cNvPr id="1194" name="" descr=""/>
            <p:cNvPicPr/>
            <p:nvPr/>
          </p:nvPicPr>
          <p:blipFill>
            <a:blip r:embed="rId2"/>
            <a:stretch/>
          </p:blipFill>
          <p:spPr>
            <a:xfrm>
              <a:off x="0" y="2300400"/>
              <a:ext cx="5688000" cy="34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0" y="2300400"/>
              <a:ext cx="5688000" cy="34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5767560" y="1630440"/>
            <a:ext cx="4186080" cy="50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399960" indent="-399960">
              <a:lnSpc>
                <a:spcPct val="96000"/>
              </a:lnSpc>
              <a:spcBef>
                <a:spcPts val="137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399960"/>
                <a:tab algn="l" pos="1314360"/>
                <a:tab algn="l" pos="2228760"/>
                <a:tab algn="l" pos="3143160"/>
                <a:tab algn="l" pos="4057560"/>
                <a:tab algn="l" pos="4971960"/>
                <a:tab algn="l" pos="5886360"/>
                <a:tab algn="l" pos="6800760"/>
                <a:tab algn="l" pos="7715160"/>
                <a:tab algn="l" pos="8629560"/>
                <a:tab algn="l" pos="9543960"/>
                <a:tab algn="l" pos="104583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GN: Basadas en estándares abiertos, bajos costos, redes escalables y multiservicios. Esto produce mayores ganancias por usuario. Es una red distribuida e integrada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399960" indent="-399960">
              <a:lnSpc>
                <a:spcPct val="96000"/>
              </a:lnSpc>
              <a:spcBef>
                <a:spcPts val="137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399960"/>
                <a:tab algn="l" pos="1314360"/>
                <a:tab algn="l" pos="2228760"/>
                <a:tab algn="l" pos="3143160"/>
                <a:tab algn="l" pos="4057560"/>
                <a:tab algn="l" pos="4971960"/>
                <a:tab algn="l" pos="5886360"/>
                <a:tab algn="l" pos="6800760"/>
                <a:tab algn="l" pos="7715160"/>
                <a:tab algn="l" pos="8629560"/>
                <a:tab algn="l" pos="9543960"/>
                <a:tab algn="l" pos="104583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Internet: modelo abierto, “de capas”, con competencia de servicios. Sin calidad garantizada. Internet intermedia entre las redes de acceso y las aplicacion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Relevancia estratégica del secto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rrelación entre infraestructura de telecomunicaciones y crecimiento económic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gualdad de oportunidades/educ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&gt;13 millones de usuarios de telefonía móvi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Oportunidad para mejorar la Democrac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eguridad Nacional / Emergenci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/>
          </p:nvPr>
        </p:nvSpPr>
        <p:spPr>
          <a:xfrm>
            <a:off x="990360" y="1679040"/>
            <a:ext cx="8178840" cy="476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¿Es adecuada la actual matriz de incentivo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expansión de redes (inversión)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competencia de servici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servicio univer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¿Qué tipo de regulación es necesari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Criterio de “mínima intervención necesaria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3446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Sobre-regulación de servicios como la telefoní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Orientación a mercados no competitiv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Regulación de la relación entre los mercad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360360" y="200160"/>
            <a:ext cx="101599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conomía de las telecomunicacione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n la era de la Convergenci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/>
          </p:nvPr>
        </p:nvSpPr>
        <p:spPr>
          <a:xfrm>
            <a:off x="1001880" y="2700360"/>
            <a:ext cx="8178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Gill Sans"/>
              </a:rPr>
              <a:t>Ejes de Gobierno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Gill Sans"/>
              </a:rPr>
              <a:t>Equidad en el acceso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Gill Sans"/>
              </a:rPr>
              <a:t>Competitividad y expansión del mercado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Gill Sans"/>
              </a:rPr>
              <a:t>Protección a los consumidore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Política de Telecomunicaciones del Gobierno de la Presidenta Bachele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/>
          </p:nvPr>
        </p:nvSpPr>
        <p:spPr>
          <a:xfrm>
            <a:off x="720720" y="2363760"/>
            <a:ext cx="882000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rincipios Regulato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ínimo necesario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Todo el mercado (competencia) que sea posible, todo el Estado que sea necesa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ndiciones para competencia e invers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Apertura a la innovación/neutral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title"/>
          </p:nvPr>
        </p:nvSpPr>
        <p:spPr>
          <a:xfrm>
            <a:off x="539280" y="203040"/>
            <a:ext cx="89996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Política de Telecomunicaciones del Gobierno de la Presidenta Bachele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8610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8160" tIns="46800" bIns="4680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nfoque “Pro Mercado, No Pro Empresa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mpetencia entre redes y tecnologí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Flexibilizar entrada al mercado y oferta de servicios convergen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mpoderar” al consumid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Fortalecer fiscalización del merc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Enfoque de política públic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178840" cy="2006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Estabilidad y cambi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104480" y="2158920"/>
            <a:ext cx="817884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Las inversiones requieren reglas clar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l cambio tecnológico es permanente y aceler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l éxito de hoy no garantiza el éxito de maña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hile, 13% de crecimiento sectorial en el 200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178840" cy="2006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El desafí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antener altas tasas de invers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Reducir la brecha digit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rofundizar la competenc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roteger a los consumid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¿Cómo se logran esos objetivos en el contexto de la convergencia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8610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8160" tIns="46800" bIns="46800" anchor="t">
            <a:normAutofit/>
          </a:bodyPr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Nuevo marco regulato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quidad en el acces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ayor complejidad y sofisticación en el uso de las nuevas tecnologí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recientes requerimientos de profesionales con adecuada comprensión del cambio tecn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reatividad - innov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as tarea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8610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8160" tIns="46800" bIns="46800" anchor="t">
            <a:normAutofit/>
          </a:bodyPr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ás competencia: Wi-Max y la expansión de los servicios inalámbric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Acuerdo Nacional Por la Conectividad Digital: empresas + Est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Fondo de Desarrollo de las Telecomunic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Infraestructura Digital para la Innovación y la Competi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as tareas de ho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178840" cy="2006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os temas que vienen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ordinación y regulaciones supranacion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La soberanía del regulador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arco regulatorio flexible, abierto al cambio tecn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ntorno para la innovación y crea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Neutralidad de red y servicios sobre Int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90360" y="736200"/>
            <a:ext cx="8178840" cy="3048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Las Telecomunicaciones y el Desarrollo Nacion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90360" y="5676840"/>
            <a:ext cx="8178840" cy="890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blo Bello Arella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ubsecretario de Telecomunicac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2"/>
          <a:stretch/>
        </p:blipFill>
        <p:spPr>
          <a:xfrm>
            <a:off x="2908440" y="4203720"/>
            <a:ext cx="433044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Telefonía Loc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719280" y="2190600"/>
            <a:ext cx="803592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Telefonía Móvi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604800" y="2190600"/>
            <a:ext cx="81504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Conexiones a Interne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719280" y="2190600"/>
            <a:ext cx="820872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Entorno regulatori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9280" y="2339640"/>
            <a:ext cx="87296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arco normativo pre-convergen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letargo” regulato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Atraso relativo incluso con países de desarrollo inferi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Instituc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Regulación/promoción/fiscaliz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mpetencia/Regul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5" name=""/>
          <p:cNvSpPr/>
          <p:nvPr/>
        </p:nvSpPr>
        <p:spPr>
          <a:xfrm>
            <a:off x="10175760" y="11192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Brecha digit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720720" y="2158920"/>
            <a:ext cx="882000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Disponibilidad de servicios del primer mundo vs comunas sin telefoní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Fuerte déficit de conectividad en zonas rur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ersiste alto costo de banda anch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reciente demanda por conec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Baja inversión para zonas de bajos ingres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7848360" cy="139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Las telecomunicaciones “pre-converge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24040" y="1338120"/>
            <a:ext cx="8547120" cy="600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aradigma pre-convergen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2286000" y="1828800"/>
            <a:ext cx="5265720" cy="1866960"/>
            <a:chOff x="2286000" y="1828800"/>
            <a:chExt cx="5265720" cy="1866960"/>
          </a:xfrm>
        </p:grpSpPr>
        <p:sp>
          <p:nvSpPr>
            <p:cNvPr id="1081" name=""/>
            <p:cNvSpPr/>
            <p:nvPr/>
          </p:nvSpPr>
          <p:spPr>
            <a:xfrm>
              <a:off x="3570120" y="1828800"/>
              <a:ext cx="3981600" cy="1204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286000" y="3032280"/>
              <a:ext cx="5265720" cy="663480"/>
            </a:xfrm>
            <a:prstGeom prst="parallelogram">
              <a:avLst>
                <a:gd name="adj" fmla="val 19841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DES ESPECIALIZADAS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86000" y="1828800"/>
              <a:ext cx="5265720" cy="662040"/>
            </a:xfrm>
            <a:prstGeom prst="parallelogram">
              <a:avLst>
                <a:gd name="adj" fmla="val 19884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RVICIOS ASOCIADO A LA RED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86000" y="2490840"/>
              <a:ext cx="3981600" cy="12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1515960" y="4727520"/>
            <a:ext cx="70945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odelo pre-convergencia: cada servicio está asociado a una red especializad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s condiciones de concentración derivadas de economías de escala y costos hundidos (no hay incentivos para replicar redes) se trasladan a los servicios de telecomunicaci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s eficiente regular los servici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0" y="-127080"/>
            <a:ext cx="10159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Economía de las telecomunicaciones pre-converge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22520"/>
            <a:ext cx="84898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0840" indent="-31608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73200"/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odelo pre-convergencia (modelo de “silos”)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52480" indent="-282600">
              <a:lnSpc>
                <a:spcPct val="99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73200"/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ada servicio está asociado a una red especializad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8" name=""/>
          <p:cNvSpPr/>
          <p:nvPr/>
        </p:nvSpPr>
        <p:spPr>
          <a:xfrm>
            <a:off x="1371600" y="4084560"/>
            <a:ext cx="811080" cy="2664000"/>
          </a:xfrm>
          <a:custGeom>
            <a:avLst/>
            <a:gdLst>
              <a:gd name="textAreaLeft" fmla="*/ 360 w 811080"/>
              <a:gd name="textAreaRight" fmla="*/ 810720 w 811080"/>
              <a:gd name="textAreaTop" fmla="*/ 360 h 2664000"/>
              <a:gd name="textAreaBottom" fmla="*/ 2663640 h 2664000"/>
            </a:gdLst>
            <a:ahLst/>
            <a:rect l="textAreaLeft" t="textAreaTop" r="textAreaRight" b="textAreaBottom"/>
            <a:pathLst>
              <a:path w="21600" h="70924">
                <a:moveTo>
                  <a:pt x="38" y="0"/>
                </a:moveTo>
                <a:arcTo wR="38" hR="38" stAng="16200000" swAng="-5400000"/>
                <a:lnTo>
                  <a:pt x="0" y="70886"/>
                </a:lnTo>
                <a:arcTo wR="38" hR="38" stAng="10800000" swAng="-5400000"/>
                <a:lnTo>
                  <a:pt x="21562" y="70924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9" name=""/>
          <p:cNvSpPr/>
          <p:nvPr/>
        </p:nvSpPr>
        <p:spPr>
          <a:xfrm>
            <a:off x="2590920" y="4084560"/>
            <a:ext cx="844560" cy="2671920"/>
          </a:xfrm>
          <a:custGeom>
            <a:avLst/>
            <a:gdLst>
              <a:gd name="textAreaLeft" fmla="*/ 360 w 844560"/>
              <a:gd name="textAreaRight" fmla="*/ 844200 w 844560"/>
              <a:gd name="textAreaTop" fmla="*/ 360 h 2671920"/>
              <a:gd name="textAreaBottom" fmla="*/ 2671560 h 2671920"/>
            </a:gdLst>
            <a:ahLst/>
            <a:rect l="textAreaLeft" t="textAreaTop" r="textAreaRight" b="textAreaBottom"/>
            <a:pathLst>
              <a:path w="21600" h="68316">
                <a:moveTo>
                  <a:pt x="38" y="0"/>
                </a:moveTo>
                <a:arcTo wR="38" hR="38" stAng="16200000" swAng="-5400000"/>
                <a:lnTo>
                  <a:pt x="0" y="68278"/>
                </a:lnTo>
                <a:arcTo wR="38" hR="38" stAng="10800000" swAng="-5400000"/>
                <a:lnTo>
                  <a:pt x="21562" y="68316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eb6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0" name=""/>
          <p:cNvSpPr/>
          <p:nvPr/>
        </p:nvSpPr>
        <p:spPr>
          <a:xfrm>
            <a:off x="3809880" y="4084560"/>
            <a:ext cx="841320" cy="2671920"/>
          </a:xfrm>
          <a:custGeom>
            <a:avLst/>
            <a:gdLst>
              <a:gd name="textAreaLeft" fmla="*/ 360 w 841320"/>
              <a:gd name="textAreaRight" fmla="*/ 840960 w 841320"/>
              <a:gd name="textAreaTop" fmla="*/ 360 h 2671920"/>
              <a:gd name="textAreaBottom" fmla="*/ 2671560 h 2671920"/>
            </a:gdLst>
            <a:ahLst/>
            <a:rect l="textAreaLeft" t="textAreaTop" r="textAreaRight" b="textAreaBottom"/>
            <a:pathLst>
              <a:path w="21600" h="68579">
                <a:moveTo>
                  <a:pt x="38" y="0"/>
                </a:moveTo>
                <a:arcTo wR="38" hR="38" stAng="16200000" swAng="-5400000"/>
                <a:lnTo>
                  <a:pt x="0" y="68541"/>
                </a:lnTo>
                <a:arcTo wR="38" hR="38" stAng="10800000" swAng="-5400000"/>
                <a:lnTo>
                  <a:pt x="21562" y="68579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1" name=""/>
          <p:cNvSpPr/>
          <p:nvPr/>
        </p:nvSpPr>
        <p:spPr>
          <a:xfrm>
            <a:off x="1066680" y="4770360"/>
            <a:ext cx="4041720" cy="1800"/>
          </a:xfrm>
          <a:prstGeom prst="line">
            <a:avLst/>
          </a:prstGeom>
          <a:ln w="72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2" name=""/>
          <p:cNvSpPr/>
          <p:nvPr/>
        </p:nvSpPr>
        <p:spPr>
          <a:xfrm>
            <a:off x="1038240" y="5529240"/>
            <a:ext cx="4041720" cy="1440"/>
          </a:xfrm>
          <a:prstGeom prst="line">
            <a:avLst/>
          </a:prstGeom>
          <a:ln w="72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3" name=""/>
          <p:cNvSpPr/>
          <p:nvPr/>
        </p:nvSpPr>
        <p:spPr>
          <a:xfrm>
            <a:off x="5079960" y="5595840"/>
            <a:ext cx="336600" cy="1152720"/>
          </a:xfrm>
          <a:custGeom>
            <a:avLst/>
            <a:gdLst>
              <a:gd name="textAreaLeft" fmla="*/ 0 w 336600"/>
              <a:gd name="textAreaRight" fmla="*/ 121680 w 3366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"/>
          <p:cNvSpPr/>
          <p:nvPr/>
        </p:nvSpPr>
        <p:spPr>
          <a:xfrm>
            <a:off x="5079960" y="4805280"/>
            <a:ext cx="336600" cy="725400"/>
          </a:xfrm>
          <a:custGeom>
            <a:avLst/>
            <a:gdLst>
              <a:gd name="textAreaLeft" fmla="*/ 0 w 336600"/>
              <a:gd name="textAreaRight" fmla="*/ 121680 w 336600"/>
              <a:gd name="textAreaTop" fmla="*/ 18720 h 725400"/>
              <a:gd name="textAreaBottom" fmla="*/ 706680 h 72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5" name=""/>
          <p:cNvSpPr/>
          <p:nvPr/>
        </p:nvSpPr>
        <p:spPr>
          <a:xfrm>
            <a:off x="5079960" y="4160880"/>
            <a:ext cx="336600" cy="579240"/>
          </a:xfrm>
          <a:custGeom>
            <a:avLst/>
            <a:gdLst>
              <a:gd name="textAreaLeft" fmla="*/ 0 w 336600"/>
              <a:gd name="textAreaRight" fmla="*/ 121680 w 336600"/>
              <a:gd name="textAreaTop" fmla="*/ 14760 h 579240"/>
              <a:gd name="textAreaBottom" fmla="*/ 564480 h 57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6" name=""/>
          <p:cNvSpPr/>
          <p:nvPr/>
        </p:nvSpPr>
        <p:spPr>
          <a:xfrm>
            <a:off x="1542960" y="6237360"/>
            <a:ext cx="505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1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7" name=""/>
          <p:cNvSpPr/>
          <p:nvPr/>
        </p:nvSpPr>
        <p:spPr>
          <a:xfrm>
            <a:off x="2822400" y="6237360"/>
            <a:ext cx="505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2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8" name=""/>
          <p:cNvSpPr/>
          <p:nvPr/>
        </p:nvSpPr>
        <p:spPr>
          <a:xfrm>
            <a:off x="4068720" y="6237360"/>
            <a:ext cx="504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3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9" name=""/>
          <p:cNvSpPr/>
          <p:nvPr/>
        </p:nvSpPr>
        <p:spPr>
          <a:xfrm>
            <a:off x="5416560" y="6024600"/>
            <a:ext cx="3706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Red física de acceso (“distribución”)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0" name=""/>
          <p:cNvSpPr/>
          <p:nvPr/>
        </p:nvSpPr>
        <p:spPr>
          <a:xfrm>
            <a:off x="5416560" y="5002200"/>
            <a:ext cx="3032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Protocolo de red (propietario)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4313160"/>
            <a:ext cx="185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io final 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blo Bello</cp:lastModifiedBy>
  <cp:revision>0</cp:revision>
  <dc:subject/>
  <dc:title>Mercado de las Telecomunicaciones y Agenda Sectorial</dc:title>
</cp:coreProperties>
</file>