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903-91A8-443E-9B8F-34983308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87E-36C0-4486-90ED-F73CA845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99B-13AF-4957-A342-0FA93907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767-28EF-49C1-B9CF-6CF74DAB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E9C-F9F6-4F7C-A2C9-92F7A04E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448-6196-48D0-AD65-082A0F14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3A2-9489-453B-888A-259F2D19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B2D-E651-4D52-ACF7-3E107377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C01-2463-41B2-813C-DE711D0A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C8D-003B-4FE4-8225-D3C95D60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2DD-CEA0-4C26-876C-29E2D2B0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864-C593-489C-A678-93D67C29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C488-7618-42E6-87D6-2802DA6C9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9185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333399"/>
                </a:solidFill>
                <a:latin typeface="Garamond"/>
              </a:rPr>
              <a:t>Tribunal de Grande Instance Par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5084640"/>
            <a:ext cx="668808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Garamond"/>
              </a:rPr>
              <a:t>Sociedad Dumez/Estado de I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</a:rPr>
              <a:t>24 de mayo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13352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1. Que las resoluciones del Consejo de Seguridad tienen una función normativa y coercitiva y en virtud de éstas los tribunales franceses están obligados a ejecutarl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2. La deuda que tiene el Estado de Irak cabe dentro de la denominación de deuda exteri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3. Que dicha resolución priva al Estado de Irak de inmunidad de ejecución de origen consuetudinario o convencio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Garamond"/>
              </a:rPr>
              <a:t>Conclu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1. Un nuevo límite a la inmunidad de jurisdicción fundada sobre la existencia de una sanción internacio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99"/>
                </a:solidFill>
                <a:latin typeface="Garamond"/>
              </a:rPr>
              <a:t>2. Crítica, es difícil aceptar que una resolución de esta naturaleza pueda limitar la soberanía de un Estado y que a través  de esta limitación se pretenda desconocer la inmunidad de ejecu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3. En este proceso se reconoce la inmunidad de ejecución como un principio absoluto, pues su desconocimiento hay que probar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</a:rPr>
              <a:t>05 de febrero de 1981 el Ministerio de Defensa de Irak crea un mercado de construcción y de equipos de uso milit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</a:rPr>
              <a:t>Este Subcontrata a la sociedad francesa Du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Garamond"/>
              </a:rPr>
              <a:t>Una Sentencia del Tribunal de Grande Instance de Nanterre, Francia, el 09 de octubre de 1991, condena al Estado de Irak a indemnizar a la sociedad Dumez por 23 millones de dólares americanos a partir del 16 de octubre de 19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</a:rPr>
              <a:t>La Sociedad Dumez pretende ejecutar el fallo sobre los fondos que el estado de Irak tiene sobre diversas cuentas bancarias en Fr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Garamond"/>
              </a:rPr>
              <a:t>La ejecución de dichos fondos fue validada por el Tribunal de Grande Instance de Paris el 25 de mayo de 1994, quien rechazó la inmunidad de jurisdicción y ejecución alegados por el Estado de Ir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ARGUMENTOS DE IR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Solicita que se le reconozca la inmunidad de jurisdic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aramond"/>
              </a:rPr>
              <a:t>Artículo</a:t>
            </a: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Garamond"/>
              </a:rPr>
              <a:t>25 de la Convención de Viena del 18 de abril d e1961 sobre relaciones diplomátic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4358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2.</a:t>
            </a:r>
            <a:r>
              <a:rPr b="0" lang="en-US" sz="2800" spc="-1" strike="noStrike">
                <a:solidFill>
                  <a:srgbClr val="333399"/>
                </a:solidFill>
                <a:latin typeface="Garamond"/>
              </a:rPr>
              <a:t> Que los fondos de los cuales dispone la sentencia gozarían de inmunidad de ejecución, reconocida po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El derecho consuetudinario,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Garamond"/>
              </a:rPr>
              <a:t>beneficio se desprende a su juicio del principio de soberanía e igualdad entre los E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b)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 El derecho convencional,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Garamond"/>
              </a:rPr>
              <a:t>inmunidad de ejecución absoluta reconocida a su misión diplomática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.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c) La resolución 687 del 3 de abril de 1991 del Consejo de Seguridad de Naciones Unidas 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, no lo hace renunciar a la soberan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ARGUMENTOS DE DUMEZ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1. Resolución 687, </a:t>
            </a: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si bien ésta no es sinónimo de renuncia a la soberanía de parte del Estado de Irak, esta resolución lo priva de ciertos atributos ligados tradicionalmente a ésta, como el privilegio de la inmunidad de ejecu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364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aramond"/>
              </a:rPr>
              <a:t>2. Resolución 687, </a:t>
            </a: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esta resolución reconoce  la soberanía, integridad territorial e independencia política de Irak, pero en virtud del respeto del Capítulo VII de la Carta de Naciones Unidas respecto de medidas para establecer la paz y la seguridad internacionales, lo obliga a cumplir sus obligaciones a título de reembolso de su deuda exter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LA CORTE RESUE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6:02:27Z</dcterms:created>
  <dc:creator>pmoraga</dc:creator>
  <dc:description/>
  <dc:language>en-US</dc:language>
  <cp:lastModifiedBy>pmoraga</cp:lastModifiedBy>
  <dcterms:modified xsi:type="dcterms:W3CDTF">2007-10-17T16:11:22Z</dcterms:modified>
  <cp:revision>7</cp:revision>
  <dc:subject/>
  <dc:title>Caso corte de Casación Francesa</dc:title>
</cp:coreProperties>
</file>