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28BA-02DC-429C-8525-B9275106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6352-9B0E-4FB0-8144-F7B82D21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8ACC-3984-4F79-8CDC-C322CFC9F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5E94-CB30-4EE1-952D-656C12C7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0549-086D-4514-BE82-06F05460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A771-C6D9-4A09-8323-168501BB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2B6A-8183-4397-A7C8-67963235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6BD2-DB7C-47C0-9A7F-6994B849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24A9-164A-4FE1-A42F-2410ECEF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295D-1F84-45AC-B80A-D778A432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0AD5-7B1F-4FA0-8C6A-EEFF7955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E554-1A7A-479F-B7A5-0861BA4C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B7E8-BA2D-47A6-8D74-E72FBB675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79185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333399"/>
                </a:solidFill>
                <a:latin typeface="Garamond"/>
              </a:rPr>
              <a:t>Tribunal de Grande Instance Pari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00000" y="5084640"/>
            <a:ext cx="6688080" cy="13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Garamond"/>
              </a:rPr>
              <a:t>Sociedad Dumez/Estado de Ir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</a:rPr>
              <a:t>24 de mayo de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95640" y="0"/>
            <a:ext cx="13352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Garamond"/>
              </a:rPr>
              <a:t>1. Que las resoluciones del Consejo de Seguridad tienen una función normativa y coercitiva y en virtud de éstas los tribunales franceses están obligados a ejecutarl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Garamond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Garamond"/>
              </a:rPr>
              <a:t>2. La deuda que tiene el Estado de Irak cabe dentro de la denominación de deuda exterio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Garamond"/>
              </a:rPr>
              <a:t>3. Que dicha resolución priva al Estado de Irak de inmunidad de ejecución de origen consuetudinario o convencion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333399"/>
                </a:solidFill>
                <a:uFillTx/>
                <a:latin typeface="Garamond"/>
              </a:rPr>
              <a:t>Conclusion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Garamond"/>
              </a:rPr>
              <a:t>1. Un nuevo límite a la inmunidad de jurisdicción fundada sobre la existencia de una sanción internacion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333399"/>
                </a:solidFill>
                <a:latin typeface="Garamond"/>
              </a:rPr>
              <a:t>2. Crítica, es difícil aceptar que una resolución de esta naturaleza pueda limitar la soberanía de un Estado y que a través  de esta limitación se pretenda desconocer la inmunidad de ejecuc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Garamond"/>
              </a:rPr>
              <a:t>3. En este proceso se reconoce la inmunidad de ejecución como un principio absoluto, pues su desconocimiento hay que probar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Garamond"/>
              </a:rPr>
              <a:t>05 de febrero de 1981 el Ministerio de Defensa de Irak crea un mercado de construcción y de equipos de uso milit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Garamond"/>
              </a:rPr>
              <a:t>Este Subcontrata a la sociedad francesa Dume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Garamond"/>
              </a:rPr>
              <a:t>Una Sentencia del Tribunal de Grande Instance de Nanterre, Francia, el 09 de octubre de 1991, condena al Estado de Irak a indemnizar a la sociedad Dumez por 23 millones de dólares americanos a partir del 16 de octubre de 198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Garamond"/>
              </a:rPr>
              <a:t>La Sociedad Dumez pretende ejecutar el fallo sobre los fondos que el estado de Irak tiene sobre diversas cuentas bancarias en Fra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Garamond"/>
              </a:rPr>
              <a:t>La ejecución de dichos fondos fue validada por el Tribunal de Grande Instance de Paris el 25 de mayo de 1994, quien rechazó la inmunidad de jurisdicción y ejecución alegados por el Estado de Ir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362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Garamond"/>
              </a:rPr>
              <a:t>ARGUMENTOS DE IRA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Garamond"/>
              </a:rPr>
              <a:t>Solicita que se le reconozca la inmunidad de jurisdicció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Garamond"/>
              </a:rPr>
              <a:t>Artículo</a:t>
            </a:r>
            <a:r>
              <a:rPr b="0" lang="en-US" sz="4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Garamond"/>
              </a:rPr>
              <a:t>25 de la Convención de Viena del 18 de abril d e1961 sobre relaciones diplomátic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691920"/>
            <a:ext cx="84358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2.</a:t>
            </a:r>
            <a:r>
              <a:rPr b="0" lang="en-US" sz="2800" spc="-1" strike="noStrike">
                <a:solidFill>
                  <a:srgbClr val="333399"/>
                </a:solidFill>
                <a:latin typeface="Garamond"/>
              </a:rPr>
              <a:t> Que los fondos de los cuales dispone la sentencia gozarían de inmunidad de ejecución, reconocida po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ctr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Garamond"/>
              </a:rPr>
              <a:t>El derecho consuetudinario,</a:t>
            </a:r>
            <a:r>
              <a:rPr b="1" i="1" lang="en-US" sz="28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Garamond"/>
              </a:rPr>
              <a:t>beneficio se desprende a su juicio del principio de soberanía e igualdad entre los Es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Garamond"/>
              </a:rPr>
              <a:t>b)</a:t>
            </a: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Garamond"/>
              </a:rPr>
              <a:t> El derecho convencional,</a:t>
            </a:r>
            <a:r>
              <a:rPr b="1" i="1" lang="en-US" sz="28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Garamond"/>
              </a:rPr>
              <a:t>inmunidad de ejecución absoluta reconocida a su misión diplomática</a:t>
            </a:r>
            <a:r>
              <a:rPr b="1" i="1" lang="en-US" sz="2800" spc="-1" strike="noStrike">
                <a:solidFill>
                  <a:srgbClr val="333399"/>
                </a:solidFill>
                <a:latin typeface="Garamond"/>
              </a:rPr>
              <a:t>.</a:t>
            </a: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Garamond"/>
              </a:rPr>
              <a:t>c) La resolución 687 del 3 de abril de 1991 del Consejo de Seguridad de Naciones Unidas </a:t>
            </a:r>
            <a:r>
              <a:rPr b="1" i="1" lang="en-US" sz="2800" spc="-1" strike="noStrike">
                <a:solidFill>
                  <a:srgbClr val="333399"/>
                </a:solidFill>
                <a:latin typeface="Garamond"/>
              </a:rPr>
              <a:t>, no lo hace renunciar a la soberan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Garamond"/>
              </a:rPr>
              <a:t>ARGUMENTOS DE DUMEZ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Garamond"/>
              </a:rPr>
              <a:t>1. Resolución 687, </a:t>
            </a:r>
            <a:r>
              <a:rPr b="0" lang="en-US" sz="4000" spc="-1" strike="noStrike">
                <a:solidFill>
                  <a:srgbClr val="333399"/>
                </a:solidFill>
                <a:latin typeface="Garamond"/>
              </a:rPr>
              <a:t>si bien ésta no es sinónimo de renuncia a la soberanía de parte del Estado de Irak, esta resolución lo priva de ciertos atributos ligados tradicionalmente a ésta, como el privilegio de la inmunidad de ejecució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364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aramond"/>
              </a:rPr>
              <a:t>2. Resolución 687, </a:t>
            </a:r>
            <a:r>
              <a:rPr b="0" lang="en-US" sz="3600" spc="-1" strike="noStrike">
                <a:solidFill>
                  <a:srgbClr val="333399"/>
                </a:solidFill>
                <a:latin typeface="Garamond"/>
              </a:rPr>
              <a:t>esta resolución reconoce  la soberanía, integridad territorial e independencia política de Irak, pero en virtud del respeto del Capítulo VII de la Carta de Naciones Unidas respecto de medidas para establecer la paz y la seguridad internacionales, lo obliga a cumplir sus obligaciones a título de reembolso de su deuda exteri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Garamond"/>
              </a:rPr>
              <a:t>LA CORTE RESUEL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6:02:27Z</dcterms:created>
  <dc:creator>pmoraga</dc:creator>
  <dc:description/>
  <dc:language>en-US</dc:language>
  <cp:lastModifiedBy>pmoraga</cp:lastModifiedBy>
  <dcterms:modified xsi:type="dcterms:W3CDTF">2007-10-17T16:11:22Z</dcterms:modified>
  <cp:revision>7</cp:revision>
  <dc:subject/>
  <dc:title>Caso corte de Casación Francesa</dc:title>
</cp:coreProperties>
</file>