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9274-FAF2-41D5-B26E-E2B8BD6B1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DB43-E578-47D6-94C4-E6B54E55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A3C8-4DD5-4330-9162-2D2BFAD13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FCF-F37C-4890-856A-EF9D5BD8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F0E-9390-4C69-B06F-10D24C06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CEEF-5FF1-4085-BA5D-DE0A1644F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7CE-4E98-48D4-9E55-BDC2CA53B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A2D5-E2BF-400A-B1F1-86DD7D33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E8C-37B4-4E1C-9311-B7951DB8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43C5-F6F6-4CF0-8CC2-10E2C8E9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8CE4-0E91-45AB-A941-A0D30CDB8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4C95-53E8-45C3-95E8-8B975E59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9F1B-C213-4489-93AC-18CD19781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79185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333399"/>
                </a:solidFill>
                <a:latin typeface="Garamond"/>
              </a:rPr>
              <a:t>Tribunal de Grande Instance Par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00000" y="5084640"/>
            <a:ext cx="6688080" cy="13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Garamond"/>
              </a:rPr>
              <a:t>Sociedad Dumez/Estado de Ir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</a:rPr>
              <a:t>24 de mayo de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133524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1. Que las resoluciones del Consejo de Seguridad tienen una función normativa y coercitiva y en virtud de éstas los tribunales franceses están obligados a ejecutarla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2. La deuda que tiene el Estado de Irak cabe dentro de la denominación de deuda exterio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3. Que dicha resolución priva al Estado de Irak de inmunidad de ejecución de origen consuetudinario o convencio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Garamond"/>
              </a:rPr>
              <a:t>Conclusion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1. Un nuevo límite a la inmunidad de jurisdicción fundada sobre la existencia de una sanción internacion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333399"/>
                </a:solidFill>
                <a:latin typeface="Garamond"/>
              </a:rPr>
              <a:t>2. Crítica, es difícil aceptar que una resolución de esta naturaleza pueda limitar la soberanía de un Estado y que a través  de esta limitación se pretenda desconocer la inmunidad de ejecu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Garamond"/>
              </a:rPr>
              <a:t>3. En este proceso se reconoce la inmunidad de ejecución como un principio absoluto, pues su desconocimiento hay que probar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</a:rPr>
              <a:t>05 de febrero de 1981 el Ministerio de Defensa de Irak crea un mercado de construcción y de equipos de uso milita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</a:rPr>
              <a:t>Este Subcontrata a la sociedad francesa Dum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Garamond"/>
              </a:rPr>
              <a:t>Una Sentencia del Tribunal de Grande Instance de Nanterre, Francia, el 09 de octubre de 1991, condena al Estado de Irak a indemnizar a la sociedad Dumez por 23 millones de dólares americanos a partir del 16 de octubre de 198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</a:rPr>
              <a:t>La Sociedad Dumez pretende ejecutar el fallo sobre los fondos que el estado de Irak tiene sobre diversas cuentas bancarias en Fr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333399"/>
                </a:solidFill>
                <a:latin typeface="Garamond"/>
              </a:rPr>
              <a:t>La ejecución de dichos fondos fue validada por el Tribunal de Grande Instance de Paris el 25 de mayo de 1994, quien rechazó la inmunidad de jurisdicción y ejecución alegados por el Estado de Ira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362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ARGUMENTOS DE IRAK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 algn="ctr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Solicita que se le reconozca la inmunidad de jurisdic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666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Garamond"/>
              </a:rPr>
              <a:t>Artículo</a:t>
            </a: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1" i="1" lang="en-US" sz="4000" spc="-1" strike="noStrike">
                <a:solidFill>
                  <a:srgbClr val="333399"/>
                </a:solidFill>
                <a:latin typeface="Garamond"/>
              </a:rPr>
              <a:t>25 de la Convención de Viena del 18 de abril d e1961 sobre relaciones diplomátic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69192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Garamond"/>
              </a:rPr>
              <a:t>2.</a:t>
            </a:r>
            <a:r>
              <a:rPr b="0" lang="en-US" sz="2800" spc="-1" strike="noStrike">
                <a:solidFill>
                  <a:srgbClr val="333399"/>
                </a:solidFill>
                <a:latin typeface="Garamond"/>
              </a:rPr>
              <a:t> Que los fondos de los cuales dispone la sentencia gozarían de inmunidad de ejecución, reconocida po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-572760" algn="ctr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Garamond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El derecho consuetudinario,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Garamond"/>
              </a:rPr>
              <a:t>beneficio se desprende a su juicio del principio de soberanía e igualdad entre los Est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b)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 El derecho convencional,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Garamond"/>
              </a:rPr>
              <a:t>inmunidad de ejecución absoluta reconocida a su misión diplomática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.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Garamond"/>
              </a:rPr>
              <a:t>c) La resolución 687 del 3 de abril de 1991 del Consejo de Seguridad de Naciones Unidas </a:t>
            </a:r>
            <a:r>
              <a:rPr b="1" i="1" lang="en-US" sz="2800" spc="-1" strike="noStrike">
                <a:solidFill>
                  <a:srgbClr val="333399"/>
                </a:solidFill>
                <a:latin typeface="Garamond"/>
              </a:rPr>
              <a:t>, no lo hace renunciar a la soberan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276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ARGUMENTOS DE DUMEZ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404280"/>
            <a:ext cx="821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Garamond"/>
              </a:rPr>
              <a:t>1. Resolución 687, </a:t>
            </a:r>
            <a:r>
              <a:rPr b="0" lang="en-US" sz="4000" spc="-1" strike="noStrike">
                <a:solidFill>
                  <a:srgbClr val="333399"/>
                </a:solidFill>
                <a:latin typeface="Garamond"/>
              </a:rPr>
              <a:t>si bien ésta no es sinónimo de renuncia a la soberanía de parte del Estado de Irak, esta resolución lo priva de ciertos atributos ligados tradicionalmente a ésta, como el privilegio de la inmunidad de ejecució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364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Garamond"/>
              </a:rPr>
              <a:t>2. Resolución 687, </a:t>
            </a:r>
            <a:r>
              <a:rPr b="0" lang="en-US" sz="3600" spc="-1" strike="noStrike">
                <a:solidFill>
                  <a:srgbClr val="333399"/>
                </a:solidFill>
                <a:latin typeface="Garamond"/>
              </a:rPr>
              <a:t>esta resolución reconoce  la soberanía, integridad territorial e independencia política de Irak, pero en virtud del respeto del Capítulo VII de la Carta de Naciones Unidas respecto de medidas para establecer la paz y la seguridad internacionales, lo obliga a cumplir sus obligaciones a título de reembolso de su deuda exteri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362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Garamond"/>
              </a:rPr>
              <a:t>LA CORTE RESUEL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6:02:27Z</dcterms:created>
  <dc:creator>pmoraga</dc:creator>
  <dc:description/>
  <dc:language>en-US</dc:language>
  <cp:lastModifiedBy>pmoraga</cp:lastModifiedBy>
  <dcterms:modified xsi:type="dcterms:W3CDTF">2007-10-17T16:11:22Z</dcterms:modified>
  <cp:revision>7</cp:revision>
  <dc:subject/>
  <dc:title>Caso corte de Casación Francesa</dc:title>
</cp:coreProperties>
</file>