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D26-A75F-4661-AE22-71315B33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105-8C29-4B8A-9375-984A70DE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391-4297-4A8A-9F3A-459D0BE4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BAD-843B-4723-BD8F-F57D900C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108-B02A-4387-9135-A7643C56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8E4-BF63-40EC-8628-4797DA3A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F32-E51F-4D9F-B291-3B67D24E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63A-6C7B-4F6D-8D09-4AE764EB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729-18DB-4E4D-A81D-BE0C5686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4BC-4935-4780-BCB7-150C2403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777-86EE-4B9B-991A-58A23FB7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5C1-37D7-44AD-8827-6B1630D7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1650-A905-45FA-BC69-A5658AA8D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ica.es/~dfamnus/images/justicia.jpg&amp;imgrefurl=http://ciudadano-ubu.blogspot.com/2007/06/contra-los-usurpadores-de-cerdanyola.html&amp;h=328&amp;w=292&amp;sz=11&amp;hl=es&amp;start=4&amp;tbnid=5Z044tEUtdm6sM:&amp;tbnh=118&amp;tbnw=105&amp;prev=/images%3Fq%3Djusticia%26gbv%3D2%26svnum%3D10%26hl%3Des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ECHO INTERNACIONAL DE LAS INVERSIONES Y SUS MEDIOS DE SOLUCIÓN DE CONTROVERS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el Muñoz 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2637000"/>
            <a:ext cx="317664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ILIO AGUSTÍN MAFFEZINI contra REINO DE ESP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rocedimiento ante el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) Agotamiento de recursos intern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) Cláusula de la Nación más favoreci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) Derecho del demandante de recurrir al Tribu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4) Condición de SODIGA en el Reino de Españ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) Fecha de la Controver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Decisión del Tribu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"/>
              </a:rPr>
              <a:t>FI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squem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0128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nt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rincipales instrumentos de inversión   extra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entro Internacional de Arreglo de Diferencias Relativas a Inversiones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Jurisprudencia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40000" y="475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2667240" cy="3286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183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rincipales instrumentos de inversión extranjer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. Acuerdos de Promoción y Protección de Inversiones APP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28464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. Tratados de Libre Comercio TL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8930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Centro Internacional de Arreglo de Diferencias Relativas a Inversiones CI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61927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. Característica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. Funcione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i. Jurisdicción. Art. 25 del Conve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 Competencia ratione perso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. Competencia ratione materi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141720"/>
            <a:ext cx="2059200" cy="2376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v. Consentimient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. Dato de 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15 de diciembre de 2006, 155 Estados habían firmado el Convenio sobre Arreglo de Diferencias Relativas a Inversiones entre Estados y Nacionales de Otros Estados, de los cuales, 143 habían depositado instrumentos de ratific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Jurisprudencia sobre C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UTOPISTA CONCESIONADA DE VENEZUELA, C.A. contra REPÚBLICA BOLIVARIANA DE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TOKIO TOKELE´S contra UCR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MILIO AGUSTÍN MAFFEZINI contra REINO DE ESPAÑ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TD Equity Sdn. Bhd. y MTD Chile S.A. contra Chile [lectura opcional del laudo en Inglés y de un breve resumen en españo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UTOPISTA CONCESIONADA DE VENEZUELA, C.A. contra REPÚBLICA BOLIVARIANA DE VENEZUE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Posición de las partes respecto a la    Competencia del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1) Posición de Venez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2) Posición de Auco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) Competencia y decisión del Tribu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OKIO TOKELE´S contra UCR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Controversia sobre Jurisdicció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cionalid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reclamante y de su inv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Opinión disidente: Presidente cuestiona la “filosofía de la decisión acatad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22:26:57Z</dcterms:created>
  <dc:creator>Cristobal de la Cerda</dc:creator>
  <dc:description/>
  <dc:language>en-US</dc:language>
  <cp:lastModifiedBy>FLOR CID</cp:lastModifiedBy>
  <dcterms:modified xsi:type="dcterms:W3CDTF">2007-11-04T21:58:06Z</dcterms:modified>
  <cp:revision>15</cp:revision>
  <dc:subject/>
  <dc:title>Protección y Promoción de la Inversión Extranjera en Chile. </dc:title>
</cp:coreProperties>
</file>