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FD4-F809-4CF1-848E-CA3D9950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43E-9A40-43BD-A8E9-1C908C2B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AC7-625E-40DD-AC5F-BD96AD7D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11E-43B2-41F6-A461-08876C2A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C16-6ED9-4C96-B72E-024FE7A0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60E-2D79-41A2-BAB7-1A5C4A10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A3D-47B6-4D13-92DC-0687DFF0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7A2-8133-4D39-9BF7-6F0D5A19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300-99CB-4C80-9E15-72E968FC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27A-DEB5-4E8F-B872-A7CB3915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814-D941-44BB-99C1-E771A44B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589-FCC6-486C-9A03-0863A124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C9A4-6B84-4ECF-9595-4C72B3C0B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ica.es/~dfamnus/images/justicia.jpg&amp;imgrefurl=http://ciudadano-ubu.blogspot.com/2007/06/contra-los-usurpadores-de-cerdanyola.html&amp;h=328&amp;w=292&amp;sz=11&amp;hl=es&amp;start=4&amp;tbnid=5Z044tEUtdm6sM:&amp;tbnh=118&amp;tbnw=105&amp;prev=/images%3Fq%3Djusticia%26gbv%3D2%26svnum%3D10%26hl%3Des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ECHO INTERNACIONAL DE LAS INVERSIONES Y SUS MEDIOS DE SOLUCIÓN DE CONTROVERS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el Muñoz 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2637000"/>
            <a:ext cx="317664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LIO AGUSTÍN MAFFEZINI contra REINO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rocedimiento ante el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) Agotamiento de recursos intern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) Cláusula de la Nación más favoreci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) Derecho del demandante de recurrir al Tribu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4) Condición de SODIGA en el Reino de Españ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) Fecha de la Controver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Decisión del Tribu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"/>
              </a:rPr>
              <a:t>FI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squem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128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nt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rincipales instrumentos de inversión   extra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entro Internacional de Arreglo de Diferencias Relativas a Inversiones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Jurisprudencia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2667240" cy="328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183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rincipales instrumentos de inversión extranjer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. Acuerdos de Promoción y Protección de Inversiones APP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28464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. Tratados de Libre Comercio TL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8930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Centro Internacional de Arreglo de Diferencias Relativas a Inversiones CI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61927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. Característica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. Funcion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i. Jurisdicción. Art. 25 del Conve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 Competencia ratione perso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 Competencia ratione materi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141720"/>
            <a:ext cx="2059200" cy="2376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v. Consentimient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. Dato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15 de diciembre de 2006, 155 Estados habían firmado el Convenio sobre Arreglo de Diferencias Relativas a Inversiones entre Estados y Nacionales de Otros Estados, de los cuales, 143 habían depositado instrumentos de ratific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Jurisprudencia sobre 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UTOPISTA CONCESIONADA DE VENEZUELA, C.A. contra REPÚBLICA BOLIVARIANA DE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TOKIO TOKELE´S contra UCR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MILIO AGUSTÍN MAFFEZINI contra REINO DE ESPAÑ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TD Equity Sdn. Bhd. y MTD Chile S.A. contra Chile [lectura opcional del laudo en Inglés y de un breve resumen en españo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UTOPISTA CONCESIONADA DE VENEZUELA, C.A. contra REPÚBLICA BOLIVARIANA DE VENEZUE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Posición de las partes respecto a la    Competencia del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1) Posición de Venez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2) Posición de Auco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) Competencia y decisión del Tribu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OKIO TOKELE´S contra UCR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Controversia sobre Jurisdicció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ionalid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reclamante y de su inv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Opinión disidente: Presidente cuestiona la “filosofía de la decisión acatad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22:26:57Z</dcterms:created>
  <dc:creator>Cristobal de la Cerda</dc:creator>
  <dc:description/>
  <dc:language>en-US</dc:language>
  <cp:lastModifiedBy>FLOR CID</cp:lastModifiedBy>
  <dcterms:modified xsi:type="dcterms:W3CDTF">2007-11-04T21:58:06Z</dcterms:modified>
  <cp:revision>15</cp:revision>
  <dc:subject/>
  <dc:title>Protección y Promoción de la Inversión Extranjera en Chile. </dc:title>
</cp:coreProperties>
</file>