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47E-F7D8-4B36-889C-8F68721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0AA-6B5F-4C2B-91E6-F06A92D2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601-C501-4824-8F8F-F74070C5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0AC-2696-406F-BD45-71CEFA1B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243-5E96-485E-B80E-AC7F7C9A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BD8-C553-42C7-B573-D992E65B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1B0-81E0-4950-AEA4-742A708C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ABA-6D27-400A-98CD-52EB8293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C2B-AE1F-4BCE-8E8A-7E77D546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5B5-5BFF-4EED-9041-0B21331A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FE4-E4BD-42C2-A2A9-A3943DED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B8B-4AB2-4B45-AD3B-AB2A35DE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412-7A43-4213-AC7C-E1E454E2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ica.es/~dfamnus/images/justicia.jpg&amp;imgrefurl=http://ciudadano-ubu.blogspot.com/2007/06/contra-los-usurpadores-de-cerdanyola.html&amp;h=328&amp;w=292&amp;sz=11&amp;hl=es&amp;start=4&amp;tbnid=5Z044tEUtdm6sM:&amp;tbnh=118&amp;tbnw=105&amp;prev=/images%3Fq%3Djusticia%26gbv%3D2%26svnum%3D10%26hl%3Des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ECHO INTERNACIONAL DE LAS INVERSIONES Y SUS MEDIOS DE SOLUCIÓN DE CONTROVERS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el Muñoz 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317664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LIO AGUSTÍN MAFFEZINI contra REINO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cedimiento ante 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) Agotamiento de recursos intern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) Cláusula de la Nación más favoreci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) Derecho del demandante de recurrir al Tribu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) Condición de SODIGA en el Reino de Españ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) Fecha de la Controver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"/>
              </a:rPr>
              <a:t>FI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quem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128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nt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incipales instrumentos de inversión   extra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Jurisprudencia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2667240" cy="328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183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rincipales instrumentos de inversión extranje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Acuerdos de Promoción y Protección de Inversiones APP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28464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Tratados de Libre Comercio TL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61927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Característica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Funcion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i. Jurisdicción. Art. 25 del Conve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 Competencia ratione perso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 Competencia ratione materi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141720"/>
            <a:ext cx="2059200" cy="237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v. Consentimient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. Dato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15 de diciembre de 2006, 155 Estados habían firmado el Convenio sobre Arreglo de Diferencias Relativas a Inversiones entre Estados y Nacionales de Otros Estados, de los cuales, 143 habían depositado instrumentos de ratific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Jurisprudencia sobre 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UTOPISTA CONCESIONADA DE VENEZUELA, C.A. contra REPÚBLICA BOLIVARIANA DE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OKIO TOKELE´S contra UCR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MILIO AGUSTÍN MAFFEZINI contra REINO DE ESPAÑ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TD Equity Sdn. Bhd. y MTD Chile S.A. contra Chile [lectura opcional del laudo en Inglés y de un breve resumen en españo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UTOPISTA CONCESIONADA DE VENEZUELA, C.A. contra REPÚBLICA BOLIVARIANA DE VENEZUE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Posición de las partes respecto a la    Competencia d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1) Posición de Venez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2) Posición de Auc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) Competencia y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KIO TOKELE´S contra UCR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Controversia sobre Jurisdicció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iona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reclamante y de su i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Opinión disidente: Presidente cuestiona la “filosofía de la decisión acatad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22:26:57Z</dcterms:created>
  <dc:creator>Cristobal de la Cerda</dc:creator>
  <dc:description/>
  <dc:language>en-US</dc:language>
  <cp:lastModifiedBy>FLOR CID</cp:lastModifiedBy>
  <dcterms:modified xsi:type="dcterms:W3CDTF">2007-11-04T21:58:06Z</dcterms:modified>
  <cp:revision>15</cp:revision>
  <dc:subject/>
  <dc:title>Protección y Promoción de la Inversión Extranjera en Chile. </dc:title>
</cp:coreProperties>
</file>