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0AC-C1A1-481C-85DD-F067D951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7A7-14A8-415F-B79B-0CFAC1F0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E36-92D4-4EBF-9B82-677D9108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8E8-FF4E-4785-99FF-D258A35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229-AC6F-4E2E-B422-45BD1241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DEC-588B-441E-B88A-0807C2CD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B2C-3BBC-4A44-821E-12DA532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914-C423-4AA8-8412-65DA8785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97-9AFE-47F2-9909-8A1D160A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BF5-0C45-4F33-945B-492C503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3A9-1270-44E9-97DD-2231518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D1B-24BE-48CC-858B-931A9C9F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2F7-603E-4FE4-B2C5-7CE7F407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ica.es/~dfamnus/images/justicia.jpg&amp;imgrefurl=http://ciudadano-ubu.blogspot.com/2007/06/contra-los-usurpadores-de-cerdanyola.html&amp;h=328&amp;w=292&amp;sz=11&amp;hl=es&amp;start=4&amp;tbnid=5Z044tEUtdm6sM:&amp;tbnh=118&amp;tbnw=105&amp;prev=/images%3Fq%3Djusticia%26gbv%3D2%26svnum%3D10%26hl%3Des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CHO INTERNACIONAL DE LAS INVERSIONES Y SUS MEDIOS DE SOLUCIÓN DE CONTROVER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el Muñoz 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3176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LIO AGUSTÍN MAFFEZINI contra REIN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cedimiento ante 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) Agotamiento de recursos intern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) Cláusula de la Nación más favoreci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) Derecho del demandante de recurrir al Tribu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) Condición de SODIGA en el Reino de Españ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) Fecha de la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"/>
              </a:rPr>
              <a:t>FI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quem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nt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rincipales instrumentos de inversión   extra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urisprudencia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667240" cy="32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rincipales instrumentos de inversión extranjer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Acuerdos de Promoción y Protección de Inversiones AP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2846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Tratados de Libre Comercio TL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Centro Internacional de Arreglo de Diferencias Relativas a Inversiones CI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6192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. Característica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. Funcion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ii. Jurisdicción. Art. 25 del Conve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 Competencia ratione perso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 Competencia ratione mater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141720"/>
            <a:ext cx="2059200" cy="237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v. Consentimient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. Dato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15 de diciembre de 2006, 155 Estados habían firmado el Convenio sobre Arreglo de Diferencias Relativas a Inversiones entre Estados y Nacionales de Otros Estados, de los cuales, 143 habían depositado instrumentos de ratific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urisprudencia sobre 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UTOPISTA CONCESIONADA DE VENEZUELA, C.A. contra REPÚBLICA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OKIO TOKELE´S contra UCR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MILIO AGUSTÍN MAFFEZINI contra REINO DE ESPAÑ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TD Equity Sdn. Bhd. y MTD Chile S.A. contra Chile [lectura opcional del laudo en Inglés y de un breve resumen en españo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PISTA CONCESIONADA DE VENEZUELA, C.A. contra REPÚBLICA BOLIVARIANA DE VENEZUEL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Posición de las partes respecto a la    Competencia del CIA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1) Posición de Venezu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2) Posición de Auco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) Competencia y decisión del Tribu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KIO TOKELE´S contra UCR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Resumen de los hechos y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c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ontroversia sobre Jurisdicció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iona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reclamante y de su i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Opinión disidente: Presidente cuestiona la “filosofía de la decisión acatad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22:26:57Z</dcterms:created>
  <dc:creator>Cristobal de la Cerda</dc:creator>
  <dc:description/>
  <dc:language>en-US</dc:language>
  <cp:lastModifiedBy>FLOR CID</cp:lastModifiedBy>
  <dcterms:modified xsi:type="dcterms:W3CDTF">2007-11-04T21:58:06Z</dcterms:modified>
  <cp:revision>15</cp:revision>
  <dc:subject/>
  <dc:title>Protección y Promoción de la Inversión Extranjera en Chile. </dc:title>
</cp:coreProperties>
</file>